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F08-F4E5-443D-AF0D-337BA296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C89-3AEC-42FD-803A-56C66BAB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FDD-CD5A-4717-8D41-55FC4E78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B6A-0EF7-4D02-BCE2-60AFAA90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A21-361D-4AE8-8D9C-115DD3B3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CA5-2366-484D-8A0C-402F4DB2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F6B-9820-4674-9250-BB7F8BF5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033-A84A-4D46-9A99-0B44452B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756-8D5D-4BAC-B461-E28CF4A5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A85-51B9-4248-992B-585FF5C0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238-8C43-477C-BBC9-6DDEC6A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E1B-0673-4F14-9DC9-76926C8A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1960-01CA-4944-A17E-410E22469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1.docx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.wmf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package" Target="../embeddings/oleObject2.docx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09680"/>
            <a:ext cx="8839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organisation de la façade atlantique des Etats-Un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rot="19366800">
            <a:off x="2450880" y="1795320"/>
            <a:ext cx="224136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35600">
            <a:off x="382320" y="4302000"/>
            <a:ext cx="998280" cy="35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6200" y="2332080"/>
            <a:ext cx="692280" cy="10555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842840" y="4654440"/>
            <a:ext cx="460440" cy="8445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49560" y="3317760"/>
            <a:ext cx="215640" cy="104148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27320" y="2754360"/>
            <a:ext cx="338040" cy="5382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81400" y="2614680"/>
            <a:ext cx="1214280" cy="77292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1480" y="1417680"/>
            <a:ext cx="1944720" cy="146664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3800" y="2543040"/>
            <a:ext cx="462240" cy="35244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532400" y="2120400"/>
            <a:ext cx="11523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32400" y="2331720"/>
            <a:ext cx="130644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2400" y="2614680"/>
            <a:ext cx="13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687840" y="4512960"/>
            <a:ext cx="84456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610080" y="4795920"/>
            <a:ext cx="115236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96920" y="5710320"/>
            <a:ext cx="152640" cy="141120"/>
          </a:xfrm>
          <a:prstGeom prst="hexagon">
            <a:avLst>
              <a:gd name="adj" fmla="val 2704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6840" y="5218200"/>
            <a:ext cx="154080" cy="139680"/>
          </a:xfrm>
          <a:prstGeom prst="hexagon">
            <a:avLst>
              <a:gd name="adj" fmla="val 275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35040" y="4373640"/>
            <a:ext cx="154080" cy="139680"/>
          </a:xfrm>
          <a:prstGeom prst="hexagon">
            <a:avLst>
              <a:gd name="adj" fmla="val 275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0960" y="3879720"/>
            <a:ext cx="154080" cy="141480"/>
          </a:xfrm>
          <a:prstGeom prst="hexagon">
            <a:avLst>
              <a:gd name="adj" fmla="val 2722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9160" y="4232160"/>
            <a:ext cx="154080" cy="141480"/>
          </a:xfrm>
          <a:prstGeom prst="hexagon">
            <a:avLst>
              <a:gd name="adj" fmla="val 2722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87760" y="4162320"/>
            <a:ext cx="153720" cy="139680"/>
          </a:xfrm>
          <a:prstGeom prst="hexagon">
            <a:avLst>
              <a:gd name="adj" fmla="val 2751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4720" y="1417680"/>
            <a:ext cx="154080" cy="141120"/>
          </a:xfrm>
          <a:prstGeom prst="hexagon">
            <a:avLst>
              <a:gd name="adj" fmla="val 2729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23040" y="1839960"/>
            <a:ext cx="152640" cy="141120"/>
          </a:xfrm>
          <a:prstGeom prst="hexagon">
            <a:avLst>
              <a:gd name="adj" fmla="val 2704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68960" y="2121480"/>
            <a:ext cx="207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étrole et autres ressources énergét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762120"/>
          <a:ext cx="6945480" cy="5814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762120"/>
                    <a:ext cx="6945480" cy="5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63880" y="0"/>
            <a:ext cx="28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/avec des richesses natur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9366800">
            <a:off x="2201760" y="1606680"/>
            <a:ext cx="2308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935600">
            <a:off x="156960" y="4301640"/>
            <a:ext cx="1025280" cy="35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044680" y="2332080"/>
            <a:ext cx="709560" cy="10555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655640" y="4654440"/>
            <a:ext cx="473040" cy="8445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69920" y="3317760"/>
            <a:ext cx="220680" cy="104148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9480" y="2754360"/>
            <a:ext cx="345960" cy="5382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6800" y="2614680"/>
            <a:ext cx="1247760" cy="77292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79840" y="1417680"/>
            <a:ext cx="1993680" cy="146664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25920" y="2543040"/>
            <a:ext cx="473040" cy="35244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414680" y="2120400"/>
            <a:ext cx="1182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14680" y="2331720"/>
            <a:ext cx="133992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4680" y="2614680"/>
            <a:ext cx="13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546360" y="4512960"/>
            <a:ext cx="86832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68600" y="4795920"/>
            <a:ext cx="11826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2960" y="5710320"/>
            <a:ext cx="156960" cy="141120"/>
          </a:xfrm>
          <a:prstGeom prst="hexagon">
            <a:avLst>
              <a:gd name="adj" fmla="val 2780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9120" y="5218200"/>
            <a:ext cx="156960" cy="139680"/>
          </a:xfrm>
          <a:prstGeom prst="hexagon">
            <a:avLst>
              <a:gd name="adj" fmla="val 280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39920" y="4373640"/>
            <a:ext cx="156960" cy="139680"/>
          </a:xfrm>
          <a:prstGeom prst="hexagon">
            <a:avLst>
              <a:gd name="adj" fmla="val 280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2600" y="3879720"/>
            <a:ext cx="157320" cy="141480"/>
          </a:xfrm>
          <a:prstGeom prst="hexagon">
            <a:avLst>
              <a:gd name="adj" fmla="val 2779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33400" y="4232160"/>
            <a:ext cx="158760" cy="141480"/>
          </a:xfrm>
          <a:prstGeom prst="hexagon">
            <a:avLst>
              <a:gd name="adj" fmla="val 2805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22520" y="4162320"/>
            <a:ext cx="157320" cy="139680"/>
          </a:xfrm>
          <a:prstGeom prst="hexagon">
            <a:avLst>
              <a:gd name="adj" fmla="val 2815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1120" y="1417680"/>
            <a:ext cx="156960" cy="141120"/>
          </a:xfrm>
          <a:prstGeom prst="hexagon">
            <a:avLst>
              <a:gd name="adj" fmla="val 2780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52880" y="4584600"/>
            <a:ext cx="552240" cy="4222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49480" y="5288040"/>
            <a:ext cx="552600" cy="4222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5320" y="1347840"/>
            <a:ext cx="552240" cy="4222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67560" y="1347840"/>
            <a:ext cx="157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s atouts touristiques explo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52880" y="5568840"/>
            <a:ext cx="158760" cy="211320"/>
          </a:xfrm>
          <a:custGeom>
            <a:avLst/>
            <a:gdLst>
              <a:gd name="textAreaLeft" fmla="*/ 0 w 158760"/>
              <a:gd name="textAreaRight" fmla="*/ 159120 w 15876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2880" y="5006880"/>
            <a:ext cx="158760" cy="211320"/>
          </a:xfrm>
          <a:custGeom>
            <a:avLst/>
            <a:gdLst>
              <a:gd name="textAreaLeft" fmla="*/ 0 w 158760"/>
              <a:gd name="textAreaRight" fmla="*/ 159120 w 15876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55920" y="5218200"/>
            <a:ext cx="158760" cy="210960"/>
          </a:xfrm>
          <a:custGeom>
            <a:avLst/>
            <a:gdLst>
              <a:gd name="textAreaLeft" fmla="*/ 0 w 158760"/>
              <a:gd name="textAreaRight" fmla="*/ 159120 w 15876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65840" y="5218200"/>
            <a:ext cx="158760" cy="210960"/>
          </a:xfrm>
          <a:custGeom>
            <a:avLst/>
            <a:gdLst>
              <a:gd name="textAreaLeft" fmla="*/ 0 w 158760"/>
              <a:gd name="textAreaRight" fmla="*/ 159120 w 15876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4680" y="5991120"/>
            <a:ext cx="157320" cy="211320"/>
          </a:xfrm>
          <a:custGeom>
            <a:avLst/>
            <a:gdLst>
              <a:gd name="textAreaLeft" fmla="*/ 0 w 157320"/>
              <a:gd name="textAreaRight" fmla="*/ 157680 w 1573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65840" y="5921280"/>
            <a:ext cx="158760" cy="211320"/>
          </a:xfrm>
          <a:custGeom>
            <a:avLst/>
            <a:gdLst>
              <a:gd name="textAreaLeft" fmla="*/ 0 w 158760"/>
              <a:gd name="textAreaRight" fmla="*/ 159120 w 15876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05120" y="5991120"/>
            <a:ext cx="157320" cy="211320"/>
          </a:xfrm>
          <a:custGeom>
            <a:avLst/>
            <a:gdLst>
              <a:gd name="textAreaLeft" fmla="*/ 0 w 157320"/>
              <a:gd name="textAreaRight" fmla="*/ 157680 w 1573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74080" y="3317760"/>
            <a:ext cx="156960" cy="211320"/>
          </a:xfrm>
          <a:custGeom>
            <a:avLst/>
            <a:gdLst>
              <a:gd name="textAreaLeft" fmla="*/ 0 w 156960"/>
              <a:gd name="textAreaRight" fmla="*/ 157320 w 15696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67560" y="3036960"/>
            <a:ext cx="133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 potentiel pour les crois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762120"/>
          <a:ext cx="7124760" cy="5814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7124760" cy="5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63880" y="0"/>
            <a:ext cx="28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/avec des richesses natur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rot="19366800">
            <a:off x="2565000" y="1658520"/>
            <a:ext cx="2203560" cy="723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95840" y="533520"/>
            <a:ext cx="1895400" cy="161928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935600">
            <a:off x="531720" y="4237200"/>
            <a:ext cx="982800" cy="36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216400" y="2209680"/>
            <a:ext cx="679680" cy="10875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966680" y="4599000"/>
            <a:ext cx="453960" cy="8697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70160" y="3224160"/>
            <a:ext cx="210960" cy="10717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4680" y="2644920"/>
            <a:ext cx="331920" cy="55404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5520" y="2500200"/>
            <a:ext cx="1195560" cy="79704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9480" y="1270080"/>
            <a:ext cx="1909800" cy="15094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5960" y="2427120"/>
            <a:ext cx="452520" cy="36216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11600" y="1993680"/>
            <a:ext cx="1133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11600" y="2209320"/>
            <a:ext cx="128448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11600" y="2500200"/>
            <a:ext cx="128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780000" y="4454280"/>
            <a:ext cx="8316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705120" y="4744800"/>
            <a:ext cx="1133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5684760"/>
            <a:ext cx="152280" cy="146160"/>
          </a:xfrm>
          <a:prstGeom prst="hexagon">
            <a:avLst>
              <a:gd name="adj" fmla="val 2604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6520" y="5178600"/>
            <a:ext cx="150840" cy="144360"/>
          </a:xfrm>
          <a:prstGeom prst="hexagon">
            <a:avLst>
              <a:gd name="adj" fmla="val 261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65360" y="4309920"/>
            <a:ext cx="150840" cy="144720"/>
          </a:xfrm>
          <a:prstGeom prst="hexagon">
            <a:avLst>
              <a:gd name="adj" fmla="val 2605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14520" y="3803760"/>
            <a:ext cx="150840" cy="144360"/>
          </a:xfrm>
          <a:prstGeom prst="hexagon">
            <a:avLst>
              <a:gd name="adj" fmla="val 261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43000" y="4165560"/>
            <a:ext cx="150840" cy="144360"/>
          </a:xfrm>
          <a:prstGeom prst="hexagon">
            <a:avLst>
              <a:gd name="adj" fmla="val 261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98640" y="4092480"/>
            <a:ext cx="150840" cy="144720"/>
          </a:xfrm>
          <a:prstGeom prst="hexagon">
            <a:avLst>
              <a:gd name="adj" fmla="val 2605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18080" y="1270080"/>
            <a:ext cx="150840" cy="144360"/>
          </a:xfrm>
          <a:prstGeom prst="hexagon">
            <a:avLst>
              <a:gd name="adj" fmla="val 261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02000" y="4527720"/>
            <a:ext cx="530280" cy="433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44680" y="5251320"/>
            <a:ext cx="528840" cy="4334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02000" y="5540400"/>
            <a:ext cx="152280" cy="217440"/>
          </a:xfrm>
          <a:custGeom>
            <a:avLst/>
            <a:gdLst>
              <a:gd name="textAreaLeft" fmla="*/ 0 w 152280"/>
              <a:gd name="textAreaRight" fmla="*/ 152640 w 1522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06800" y="4960800"/>
            <a:ext cx="150840" cy="2178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0760" y="5178600"/>
            <a:ext cx="150840" cy="21744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40440" y="5178600"/>
            <a:ext cx="150840" cy="21744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11600" y="5975280"/>
            <a:ext cx="150840" cy="21744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40440" y="5902200"/>
            <a:ext cx="150840" cy="21744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32280" y="5975280"/>
            <a:ext cx="150840" cy="21744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04240" y="1486080"/>
            <a:ext cx="453960" cy="21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09040" y="1486080"/>
            <a:ext cx="14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ichesses halieutiques (pê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595440"/>
          <a:ext cx="6828120" cy="5981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595440"/>
                    <a:ext cx="6828120" cy="59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63880" y="0"/>
            <a:ext cx="28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/avec des richesses natur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/ permettant des relations avec le mo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rot="19366800">
            <a:off x="2620800" y="1720440"/>
            <a:ext cx="2183040" cy="71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32200" y="609480"/>
            <a:ext cx="1876680" cy="16002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935600">
            <a:off x="606240" y="4266720"/>
            <a:ext cx="973080" cy="35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246640" y="2265480"/>
            <a:ext cx="673200" cy="1073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028960" y="4624560"/>
            <a:ext cx="449280" cy="857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27400" y="3267000"/>
            <a:ext cx="209520" cy="10573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03360" y="2693880"/>
            <a:ext cx="328680" cy="54792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52760" y="2550960"/>
            <a:ext cx="1182600" cy="78768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02040" y="1336680"/>
            <a:ext cx="1892160" cy="149076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98800" y="2479680"/>
            <a:ext cx="449280" cy="35712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48320" y="2050560"/>
            <a:ext cx="112212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48320" y="2265120"/>
            <a:ext cx="127152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2550960"/>
            <a:ext cx="12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824280" y="4481640"/>
            <a:ext cx="8240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749760" y="4766760"/>
            <a:ext cx="11221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78000" y="5697360"/>
            <a:ext cx="149400" cy="142920"/>
          </a:xfrm>
          <a:prstGeom prst="hexagon">
            <a:avLst>
              <a:gd name="adj" fmla="val 2613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04920" y="5195880"/>
            <a:ext cx="150840" cy="142920"/>
          </a:xfrm>
          <a:prstGeom prst="hexagon">
            <a:avLst>
              <a:gd name="adj" fmla="val 2638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8720" y="4338720"/>
            <a:ext cx="150840" cy="142920"/>
          </a:xfrm>
          <a:prstGeom prst="hexagon">
            <a:avLst>
              <a:gd name="adj" fmla="val 2638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79680" y="3838680"/>
            <a:ext cx="149040" cy="142920"/>
          </a:xfrm>
          <a:prstGeom prst="hexagon">
            <a:avLst>
              <a:gd name="adj" fmla="val 2607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03480" y="4195800"/>
            <a:ext cx="149040" cy="142920"/>
          </a:xfrm>
          <a:prstGeom prst="hexagon">
            <a:avLst>
              <a:gd name="adj" fmla="val 2607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51200" y="4124160"/>
            <a:ext cx="150840" cy="142920"/>
          </a:xfrm>
          <a:prstGeom prst="hexagon">
            <a:avLst>
              <a:gd name="adj" fmla="val 2638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45080" y="1336680"/>
            <a:ext cx="149400" cy="142920"/>
          </a:xfrm>
          <a:prstGeom prst="hexagon">
            <a:avLst>
              <a:gd name="adj" fmla="val 2613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9520" y="4552920"/>
            <a:ext cx="524160" cy="4287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03360" y="5267160"/>
            <a:ext cx="522360" cy="4302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49520" y="5554800"/>
            <a:ext cx="150840" cy="2142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48200" y="4981680"/>
            <a:ext cx="150840" cy="2142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7480" y="5195880"/>
            <a:ext cx="150840" cy="2142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72120" y="5195880"/>
            <a:ext cx="149040" cy="214200"/>
          </a:xfrm>
          <a:custGeom>
            <a:avLst/>
            <a:gdLst>
              <a:gd name="textAreaLeft" fmla="*/ 0 w 149040"/>
              <a:gd name="textAreaRight" fmla="*/ 149400 w 149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5983200"/>
            <a:ext cx="149040" cy="214560"/>
          </a:xfrm>
          <a:custGeom>
            <a:avLst/>
            <a:gdLst>
              <a:gd name="textAreaLeft" fmla="*/ 0 w 149040"/>
              <a:gd name="textAreaRight" fmla="*/ 149400 w 1490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72120" y="5911920"/>
            <a:ext cx="149040" cy="214200"/>
          </a:xfrm>
          <a:custGeom>
            <a:avLst/>
            <a:gdLst>
              <a:gd name="textAreaLeft" fmla="*/ 0 w 149040"/>
              <a:gd name="textAreaRight" fmla="*/ 149400 w 149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3680" y="5983200"/>
            <a:ext cx="150480" cy="214560"/>
          </a:xfrm>
          <a:custGeom>
            <a:avLst/>
            <a:gdLst>
              <a:gd name="textAreaLeft" fmla="*/ 0 w 150480"/>
              <a:gd name="textAreaRight" fmla="*/ 150840 w 1504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0140200">
            <a:off x="4946760" y="1265040"/>
            <a:ext cx="374400" cy="357120"/>
          </a:xfrm>
          <a:prstGeom prst="leftRightArrow">
            <a:avLst>
              <a:gd name="adj1" fmla="val 50000"/>
              <a:gd name="adj2" fmla="val 2087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2693880"/>
            <a:ext cx="372960" cy="357120"/>
          </a:xfrm>
          <a:prstGeom prst="leftRightArrow">
            <a:avLst>
              <a:gd name="adj1" fmla="val 50000"/>
              <a:gd name="adj2" fmla="val 2079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91360" y="1407960"/>
            <a:ext cx="374760" cy="357480"/>
          </a:xfrm>
          <a:prstGeom prst="leftRightArrow">
            <a:avLst>
              <a:gd name="adj1" fmla="val 50000"/>
              <a:gd name="adj2" fmla="val 2086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15160" y="1407960"/>
            <a:ext cx="104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uverture ancienne sur l’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669960"/>
          <a:ext cx="6762600" cy="5906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669960"/>
                    <a:ext cx="6762600" cy="59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5000" y="1522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/ permettant des relations avec le m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rot="19366800">
            <a:off x="2364840" y="1677600"/>
            <a:ext cx="2306880" cy="905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57680" y="762120"/>
            <a:ext cx="1911240" cy="15588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657600" y="4813200"/>
            <a:ext cx="11430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2400000">
            <a:off x="4191120" y="4743000"/>
            <a:ext cx="380880" cy="349200"/>
          </a:xfrm>
          <a:prstGeom prst="leftRightArrow">
            <a:avLst>
              <a:gd name="adj1" fmla="val 50000"/>
              <a:gd name="adj2" fmla="val 2171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35600">
            <a:off x="456840" y="4325400"/>
            <a:ext cx="990720" cy="349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181120" y="2376360"/>
            <a:ext cx="685800" cy="10447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905120" y="4675320"/>
            <a:ext cx="457200" cy="83484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351240"/>
            <a:ext cx="212760" cy="10303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2793960"/>
            <a:ext cx="334800" cy="53172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2654280"/>
            <a:ext cx="1204920" cy="76680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1469880"/>
            <a:ext cx="1927440" cy="145260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2584440"/>
            <a:ext cx="457200" cy="34920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2166840"/>
            <a:ext cx="114300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572000" y="2376360"/>
            <a:ext cx="129528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265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733920" y="4535280"/>
            <a:ext cx="838080" cy="34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57400" y="5719680"/>
            <a:ext cx="152280" cy="138240"/>
          </a:xfrm>
          <a:prstGeom prst="hexagon">
            <a:avLst>
              <a:gd name="adj" fmla="val 2753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5232240"/>
            <a:ext cx="152640" cy="138240"/>
          </a:xfrm>
          <a:prstGeom prst="hexagon">
            <a:avLst>
              <a:gd name="adj" fmla="val 2760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95960"/>
            <a:ext cx="152280" cy="139680"/>
          </a:xfrm>
          <a:prstGeom prst="hexagon">
            <a:avLst>
              <a:gd name="adj" fmla="val 2725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3908520"/>
            <a:ext cx="152280" cy="139680"/>
          </a:xfrm>
          <a:prstGeom prst="hexagon">
            <a:avLst>
              <a:gd name="adj" fmla="val 2725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4255920"/>
            <a:ext cx="152640" cy="140040"/>
          </a:xfrm>
          <a:prstGeom prst="hexagon">
            <a:avLst>
              <a:gd name="adj" fmla="val 272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4186080"/>
            <a:ext cx="152280" cy="139680"/>
          </a:xfrm>
          <a:prstGeom prst="hexagon">
            <a:avLst>
              <a:gd name="adj" fmla="val 2725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1469880"/>
            <a:ext cx="152280" cy="139680"/>
          </a:xfrm>
          <a:prstGeom prst="hexagon">
            <a:avLst>
              <a:gd name="adj" fmla="val 2725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4605480"/>
            <a:ext cx="533520" cy="4172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00640"/>
            <a:ext cx="533520" cy="4190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5580000"/>
            <a:ext cx="152640" cy="209520"/>
          </a:xfrm>
          <a:custGeom>
            <a:avLst/>
            <a:gdLst>
              <a:gd name="textAreaLeft" fmla="*/ 0 w 152640"/>
              <a:gd name="textAreaRight" fmla="*/ 153000 w 15264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5022720"/>
            <a:ext cx="152280" cy="209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232240"/>
            <a:ext cx="152280" cy="208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5232240"/>
            <a:ext cx="152280" cy="208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5997600"/>
            <a:ext cx="152280" cy="209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5927760"/>
            <a:ext cx="152280" cy="209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5997600"/>
            <a:ext cx="152280" cy="209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20140200">
            <a:off x="4876920" y="1399680"/>
            <a:ext cx="380880" cy="349560"/>
          </a:xfrm>
          <a:prstGeom prst="leftRightArrow">
            <a:avLst>
              <a:gd name="adj1" fmla="val 50000"/>
              <a:gd name="adj2" fmla="val 2169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2793960"/>
            <a:ext cx="380880" cy="347760"/>
          </a:xfrm>
          <a:prstGeom prst="leftRightArrow">
            <a:avLst>
              <a:gd name="adj1" fmla="val 50000"/>
              <a:gd name="adj2" fmla="val 2180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2400000">
            <a:off x="2285640" y="4952880"/>
            <a:ext cx="380880" cy="347760"/>
          </a:xfrm>
          <a:prstGeom prst="leftRightArrow">
            <a:avLst>
              <a:gd name="adj1" fmla="val 50000"/>
              <a:gd name="adj2" fmla="val 2180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05000">
            <a:off x="7162560" y="1887120"/>
            <a:ext cx="380880" cy="349200"/>
          </a:xfrm>
          <a:prstGeom prst="leftRightArrow">
            <a:avLst>
              <a:gd name="adj1" fmla="val 50000"/>
              <a:gd name="adj2" fmla="val 2171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0120" y="1887480"/>
            <a:ext cx="129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uverture vers l’Amérique latine et les Caraï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04920" y="820800"/>
          <a:ext cx="6886440" cy="5756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820800"/>
                    <a:ext cx="6886440" cy="57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152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/ permettant des relations avec le m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695840" y="685800"/>
            <a:ext cx="1895400" cy="157968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9366800">
            <a:off x="2492280" y="1663200"/>
            <a:ext cx="2233800" cy="84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2400000">
            <a:off x="2193480" y="3308040"/>
            <a:ext cx="378000" cy="352440"/>
          </a:xfrm>
          <a:prstGeom prst="leftRightArrow">
            <a:avLst>
              <a:gd name="adj1" fmla="val 50000"/>
              <a:gd name="adj2" fmla="val 2135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2400000">
            <a:off x="4233600" y="4719600"/>
            <a:ext cx="377640" cy="353880"/>
          </a:xfrm>
          <a:prstGeom prst="leftRightArrow">
            <a:avLst>
              <a:gd name="adj1" fmla="val 50000"/>
              <a:gd name="adj2" fmla="val 2124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935600">
            <a:off x="531720" y="4297320"/>
            <a:ext cx="982800" cy="35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216400" y="2320920"/>
            <a:ext cx="679680" cy="10587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966680" y="4649760"/>
            <a:ext cx="453960" cy="8460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0160" y="3308400"/>
            <a:ext cx="210960" cy="104436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44680" y="2744640"/>
            <a:ext cx="331920" cy="5382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95520" y="2603520"/>
            <a:ext cx="1195560" cy="77616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49480" y="1403280"/>
            <a:ext cx="1909800" cy="14716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55960" y="2532240"/>
            <a:ext cx="452520" cy="3520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611600" y="2108160"/>
            <a:ext cx="113364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611600" y="2320560"/>
            <a:ext cx="128448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11600" y="2603520"/>
            <a:ext cx="128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780000" y="4508280"/>
            <a:ext cx="83160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5120" y="4791240"/>
            <a:ext cx="113364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17880" y="5708520"/>
            <a:ext cx="152280" cy="141480"/>
          </a:xfrm>
          <a:prstGeom prst="hexagon">
            <a:avLst>
              <a:gd name="adj" fmla="val 26908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36520" y="5213520"/>
            <a:ext cx="150840" cy="141120"/>
          </a:xfrm>
          <a:prstGeom prst="hexagon">
            <a:avLst>
              <a:gd name="adj" fmla="val 267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5360" y="4367160"/>
            <a:ext cx="150840" cy="141480"/>
          </a:xfrm>
          <a:prstGeom prst="hexagon">
            <a:avLst>
              <a:gd name="adj" fmla="val 2665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14520" y="3873600"/>
            <a:ext cx="150840" cy="141120"/>
          </a:xfrm>
          <a:prstGeom prst="hexagon">
            <a:avLst>
              <a:gd name="adj" fmla="val 267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43000" y="4226040"/>
            <a:ext cx="150840" cy="141120"/>
          </a:xfrm>
          <a:prstGeom prst="hexagon">
            <a:avLst>
              <a:gd name="adj" fmla="val 267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98640" y="4156200"/>
            <a:ext cx="150840" cy="141120"/>
          </a:xfrm>
          <a:prstGeom prst="hexagon">
            <a:avLst>
              <a:gd name="adj" fmla="val 267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18080" y="1403280"/>
            <a:ext cx="150840" cy="141480"/>
          </a:xfrm>
          <a:prstGeom prst="hexagon">
            <a:avLst>
              <a:gd name="adj" fmla="val 2665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02000" y="4578480"/>
            <a:ext cx="530280" cy="423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4680" y="5284800"/>
            <a:ext cx="528840" cy="423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02000" y="5567400"/>
            <a:ext cx="152280" cy="2109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06800" y="5002200"/>
            <a:ext cx="150840" cy="211320"/>
          </a:xfrm>
          <a:custGeom>
            <a:avLst/>
            <a:gdLst>
              <a:gd name="textAreaLeft" fmla="*/ 0 w 150840"/>
              <a:gd name="textAreaRight" fmla="*/ 151200 w 15084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60760" y="5213520"/>
            <a:ext cx="150840" cy="21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40440" y="5213520"/>
            <a:ext cx="150840" cy="21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11600" y="5989680"/>
            <a:ext cx="150840" cy="212760"/>
          </a:xfrm>
          <a:custGeom>
            <a:avLst/>
            <a:gdLst>
              <a:gd name="textAreaLeft" fmla="*/ 0 w 150840"/>
              <a:gd name="textAreaRight" fmla="*/ 151200 w 1508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40440" y="5919840"/>
            <a:ext cx="150840" cy="210960"/>
          </a:xfrm>
          <a:custGeom>
            <a:avLst/>
            <a:gdLst>
              <a:gd name="textAreaLeft" fmla="*/ 0 w 150840"/>
              <a:gd name="textAreaRight" fmla="*/ 151200 w 150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32280" y="5989680"/>
            <a:ext cx="150840" cy="212760"/>
          </a:xfrm>
          <a:custGeom>
            <a:avLst/>
            <a:gdLst>
              <a:gd name="textAreaLeft" fmla="*/ 0 w 150840"/>
              <a:gd name="textAreaRight" fmla="*/ 151200 w 1508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20140200">
            <a:off x="4912920" y="1332000"/>
            <a:ext cx="378000" cy="353880"/>
          </a:xfrm>
          <a:prstGeom prst="leftRightArrow">
            <a:avLst>
              <a:gd name="adj1" fmla="val 50000"/>
              <a:gd name="adj2" fmla="val 212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11600" y="2744640"/>
            <a:ext cx="378000" cy="352440"/>
          </a:xfrm>
          <a:prstGeom prst="leftRightArrow">
            <a:avLst>
              <a:gd name="adj1" fmla="val 50000"/>
              <a:gd name="adj2" fmla="val 2135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2400000">
            <a:off x="2344320" y="4932000"/>
            <a:ext cx="378000" cy="352440"/>
          </a:xfrm>
          <a:prstGeom prst="leftRightArrow">
            <a:avLst>
              <a:gd name="adj1" fmla="val 50000"/>
              <a:gd name="adj2" fmla="val 2135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3360600">
            <a:off x="1375920" y="3295800"/>
            <a:ext cx="352440" cy="377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1337200">
            <a:off x="7179840" y="1827360"/>
            <a:ext cx="378000" cy="352440"/>
          </a:xfrm>
          <a:prstGeom prst="leftRightArrow">
            <a:avLst>
              <a:gd name="adj1" fmla="val 50000"/>
              <a:gd name="adj2" fmla="val 2135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9040" y="1755720"/>
            <a:ext cx="1434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rière pays riche en ressourc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80880" y="746280"/>
          <a:ext cx="6828120" cy="5830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746280"/>
                    <a:ext cx="6828120" cy="58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95000" y="1522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/ permettant des relations avec le m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/ ….dynamique et active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/ La métropolisation, une des conséquences de l’attractivité du litto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 rot="19366800">
            <a:off x="2378160" y="1726920"/>
            <a:ext cx="2271600" cy="834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19520" y="762120"/>
            <a:ext cx="1927440" cy="15588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2400000">
            <a:off x="2072880" y="3350880"/>
            <a:ext cx="384120" cy="347760"/>
          </a:xfrm>
          <a:prstGeom prst="leftRightArrow">
            <a:avLst>
              <a:gd name="adj1" fmla="val 50000"/>
              <a:gd name="adj2" fmla="val 21989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400000">
            <a:off x="4147920" y="4743360"/>
            <a:ext cx="384120" cy="349200"/>
          </a:xfrm>
          <a:prstGeom prst="leftRightArrow">
            <a:avLst>
              <a:gd name="adj1" fmla="val 50000"/>
              <a:gd name="adj2" fmla="val 2189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35600">
            <a:off x="382320" y="4325760"/>
            <a:ext cx="998280" cy="349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146200" y="2376360"/>
            <a:ext cx="692280" cy="10447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842840" y="4675320"/>
            <a:ext cx="460440" cy="83484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49560" y="3351240"/>
            <a:ext cx="215640" cy="10303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27320" y="2793960"/>
            <a:ext cx="338040" cy="53172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81400" y="2654280"/>
            <a:ext cx="1214280" cy="76680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41480" y="1469880"/>
            <a:ext cx="1944720" cy="145260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63800" y="2584440"/>
            <a:ext cx="462240" cy="34920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532400" y="2166840"/>
            <a:ext cx="115236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532400" y="2376360"/>
            <a:ext cx="1306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2400" y="2654280"/>
            <a:ext cx="13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687840" y="4535280"/>
            <a:ext cx="844560" cy="34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610080" y="4813200"/>
            <a:ext cx="115236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96920" y="5719680"/>
            <a:ext cx="152640" cy="138240"/>
          </a:xfrm>
          <a:prstGeom prst="hexagon">
            <a:avLst>
              <a:gd name="adj" fmla="val 2760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6840" y="5232240"/>
            <a:ext cx="154080" cy="138240"/>
          </a:xfrm>
          <a:prstGeom prst="hexagon">
            <a:avLst>
              <a:gd name="adj" fmla="val 2786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35040" y="4395960"/>
            <a:ext cx="154080" cy="139680"/>
          </a:xfrm>
          <a:prstGeom prst="hexagon">
            <a:avLst>
              <a:gd name="adj" fmla="val 275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80960" y="3908520"/>
            <a:ext cx="154080" cy="139680"/>
          </a:xfrm>
          <a:prstGeom prst="hexagon">
            <a:avLst>
              <a:gd name="adj" fmla="val 275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9160" y="4255920"/>
            <a:ext cx="154080" cy="140040"/>
          </a:xfrm>
          <a:prstGeom prst="hexagon">
            <a:avLst>
              <a:gd name="adj" fmla="val 2750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87760" y="4186080"/>
            <a:ext cx="153720" cy="139680"/>
          </a:xfrm>
          <a:prstGeom prst="hexagon">
            <a:avLst>
              <a:gd name="adj" fmla="val 2751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54720" y="1469880"/>
            <a:ext cx="154080" cy="139680"/>
          </a:xfrm>
          <a:prstGeom prst="hexagon">
            <a:avLst>
              <a:gd name="adj" fmla="val 275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03720" y="4605480"/>
            <a:ext cx="536400" cy="4172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27320" y="5300640"/>
            <a:ext cx="538200" cy="4190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03720" y="5580000"/>
            <a:ext cx="152280" cy="209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17880" y="5022720"/>
            <a:ext cx="154080" cy="209520"/>
          </a:xfrm>
          <a:custGeom>
            <a:avLst/>
            <a:gdLst>
              <a:gd name="textAreaLeft" fmla="*/ 0 w 154080"/>
              <a:gd name="textAreaRight" fmla="*/ 154440 w 1540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78320" y="5232240"/>
            <a:ext cx="154080" cy="208080"/>
          </a:xfrm>
          <a:custGeom>
            <a:avLst/>
            <a:gdLst>
              <a:gd name="textAreaLeft" fmla="*/ 0 w 154080"/>
              <a:gd name="textAreaRight" fmla="*/ 154440 w 154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70600" y="5232240"/>
            <a:ext cx="153720" cy="208080"/>
          </a:xfrm>
          <a:custGeom>
            <a:avLst/>
            <a:gdLst>
              <a:gd name="textAreaLeft" fmla="*/ 0 w 153720"/>
              <a:gd name="textAreaRight" fmla="*/ 154080 w 1537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32400" y="5997600"/>
            <a:ext cx="154080" cy="209520"/>
          </a:xfrm>
          <a:custGeom>
            <a:avLst/>
            <a:gdLst>
              <a:gd name="textAreaLeft" fmla="*/ 0 w 154080"/>
              <a:gd name="textAreaRight" fmla="*/ 154440 w 1540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70600" y="5927760"/>
            <a:ext cx="153720" cy="209520"/>
          </a:xfrm>
          <a:custGeom>
            <a:avLst/>
            <a:gdLst>
              <a:gd name="textAreaLeft" fmla="*/ 0 w 153720"/>
              <a:gd name="textAreaRight" fmla="*/ 154080 w 1537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40120" y="5997600"/>
            <a:ext cx="154080" cy="209520"/>
          </a:xfrm>
          <a:custGeom>
            <a:avLst/>
            <a:gdLst>
              <a:gd name="textAreaLeft" fmla="*/ 0 w 154080"/>
              <a:gd name="textAreaRight" fmla="*/ 154440 w 1540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0140200">
            <a:off x="4840200" y="1400040"/>
            <a:ext cx="384120" cy="349560"/>
          </a:xfrm>
          <a:prstGeom prst="leftRightArrow">
            <a:avLst>
              <a:gd name="adj1" fmla="val 50000"/>
              <a:gd name="adj2" fmla="val 2187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32400" y="2793960"/>
            <a:ext cx="384120" cy="347760"/>
          </a:xfrm>
          <a:prstGeom prst="leftRightArrow">
            <a:avLst>
              <a:gd name="adj1" fmla="val 50000"/>
              <a:gd name="adj2" fmla="val 219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400000">
            <a:off x="2226960" y="4952520"/>
            <a:ext cx="384120" cy="347760"/>
          </a:xfrm>
          <a:prstGeom prst="leftRightArrow">
            <a:avLst>
              <a:gd name="adj1" fmla="val 50000"/>
              <a:gd name="adj2" fmla="val 2198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3360600">
            <a:off x="1244880" y="3333240"/>
            <a:ext cx="347760" cy="384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40120" y="2724120"/>
            <a:ext cx="385920" cy="27792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45280" y="1539720"/>
            <a:ext cx="384120" cy="27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49640" y="2444760"/>
            <a:ext cx="384120" cy="27936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605040" y="2818080"/>
            <a:ext cx="239400" cy="2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02000" y="2863800"/>
            <a:ext cx="23040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533760" y="2376360"/>
            <a:ext cx="76320" cy="20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074400" y="2778120"/>
            <a:ext cx="152280" cy="47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3607560" y="3744360"/>
            <a:ext cx="180720" cy="228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2239200" y="4114080"/>
            <a:ext cx="52560" cy="21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33680" y="4535640"/>
            <a:ext cx="23184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27320" y="4325760"/>
            <a:ext cx="306360" cy="2098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29400" y="1679400"/>
            <a:ext cx="231840" cy="7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7018920" y="1351800"/>
            <a:ext cx="176400" cy="16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23040" y="174960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« Gate ways », portes d’entr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45280" y="2584440"/>
            <a:ext cx="308160" cy="2095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83480" y="2514600"/>
            <a:ext cx="1460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andes agglomérations, centres d’impul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02000" y="2584440"/>
            <a:ext cx="154080" cy="2095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40120" y="3002040"/>
            <a:ext cx="154080" cy="2095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87840" y="3141720"/>
            <a:ext cx="306360" cy="27936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71880" y="2166840"/>
            <a:ext cx="154080" cy="139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95560" y="2793960"/>
            <a:ext cx="154080" cy="139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57360" y="2793960"/>
            <a:ext cx="230400" cy="277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1880" y="3908520"/>
            <a:ext cx="154080" cy="139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35040" y="3978360"/>
            <a:ext cx="154080" cy="139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43200" y="4465800"/>
            <a:ext cx="23004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530360" y="4349520"/>
            <a:ext cx="239760" cy="21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89120" y="4325760"/>
            <a:ext cx="230040" cy="2098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05240" y="5582520"/>
            <a:ext cx="90000" cy="20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90040" y="5921280"/>
            <a:ext cx="13320" cy="22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59080" y="5719680"/>
            <a:ext cx="230040" cy="208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43120" y="5440320"/>
            <a:ext cx="307800" cy="20952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45280" y="3559320"/>
            <a:ext cx="230400" cy="279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83480" y="349092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ôle poli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28600" y="820800"/>
          <a:ext cx="6945480" cy="5756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820800"/>
                    <a:ext cx="6945480" cy="57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0" y="0"/>
            <a:ext cx="2724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/ ….dynamique et active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28440" y="0"/>
            <a:ext cx="56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/ La métropolisation,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une des conséquences de l’attractivité du litt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B/Des flux de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2286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(facteurs)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9366800">
            <a:off x="2620800" y="1711080"/>
            <a:ext cx="2162160" cy="77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35440" y="685800"/>
            <a:ext cx="1878120" cy="157968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2400000">
            <a:off x="2253960" y="3308400"/>
            <a:ext cx="374760" cy="352440"/>
          </a:xfrm>
          <a:prstGeom prst="leftRightArrow">
            <a:avLst>
              <a:gd name="adj1" fmla="val 50000"/>
              <a:gd name="adj2" fmla="val 2116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2400000">
            <a:off x="4276440" y="4719600"/>
            <a:ext cx="374400" cy="353880"/>
          </a:xfrm>
          <a:prstGeom prst="leftRightArrow">
            <a:avLst>
              <a:gd name="adj1" fmla="val 50000"/>
              <a:gd name="adj2" fmla="val 2106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935600">
            <a:off x="606240" y="4296960"/>
            <a:ext cx="974520" cy="35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249880" y="2320920"/>
            <a:ext cx="674640" cy="10587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030400" y="4649760"/>
            <a:ext cx="449280" cy="8460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28840" y="3308400"/>
            <a:ext cx="209520" cy="104436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03360" y="2744640"/>
            <a:ext cx="330480" cy="5382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54200" y="2603520"/>
            <a:ext cx="1184400" cy="77616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03480" y="1403280"/>
            <a:ext cx="1893960" cy="14716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02040" y="2532240"/>
            <a:ext cx="449280" cy="3520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651200" y="2108160"/>
            <a:ext cx="112248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651200" y="2320560"/>
            <a:ext cx="127332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51200" y="2603520"/>
            <a:ext cx="127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827520" y="4508280"/>
            <a:ext cx="8236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753000" y="4791240"/>
            <a:ext cx="112212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79800" y="5708520"/>
            <a:ext cx="149040" cy="141480"/>
          </a:xfrm>
          <a:prstGeom prst="hexagon">
            <a:avLst>
              <a:gd name="adj" fmla="val 2633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06360" y="5213520"/>
            <a:ext cx="149400" cy="141120"/>
          </a:xfrm>
          <a:prstGeom prst="hexagon">
            <a:avLst>
              <a:gd name="adj" fmla="val 2646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30520" y="4367160"/>
            <a:ext cx="149040" cy="141480"/>
          </a:xfrm>
          <a:prstGeom prst="hexagon">
            <a:avLst>
              <a:gd name="adj" fmla="val 2633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81120" y="3873600"/>
            <a:ext cx="149400" cy="141120"/>
          </a:xfrm>
          <a:prstGeom prst="hexagon">
            <a:avLst>
              <a:gd name="adj" fmla="val 2646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04920" y="4226040"/>
            <a:ext cx="149400" cy="141120"/>
          </a:xfrm>
          <a:prstGeom prst="hexagon">
            <a:avLst>
              <a:gd name="adj" fmla="val 2646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54440" y="4156200"/>
            <a:ext cx="149040" cy="141120"/>
          </a:xfrm>
          <a:prstGeom prst="hexagon">
            <a:avLst>
              <a:gd name="adj" fmla="val 2640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49760" y="1403280"/>
            <a:ext cx="149400" cy="141480"/>
          </a:xfrm>
          <a:prstGeom prst="hexagon">
            <a:avLst>
              <a:gd name="adj" fmla="val 2639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52760" y="4578480"/>
            <a:ext cx="523800" cy="423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03360" y="5284800"/>
            <a:ext cx="525600" cy="423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52760" y="5567400"/>
            <a:ext cx="149400" cy="210960"/>
          </a:xfrm>
          <a:custGeom>
            <a:avLst/>
            <a:gdLst>
              <a:gd name="textAreaLeft" fmla="*/ 0 w 149400"/>
              <a:gd name="textAreaRight" fmla="*/ 149760 w 1494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1440" y="5002200"/>
            <a:ext cx="150840" cy="211320"/>
          </a:xfrm>
          <a:custGeom>
            <a:avLst/>
            <a:gdLst>
              <a:gd name="textAreaLeft" fmla="*/ 0 w 150840"/>
              <a:gd name="textAreaRight" fmla="*/ 151200 w 15084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5213520"/>
            <a:ext cx="150480" cy="212400"/>
          </a:xfrm>
          <a:custGeom>
            <a:avLst/>
            <a:gdLst>
              <a:gd name="textAreaLeft" fmla="*/ 0 w 150480"/>
              <a:gd name="textAreaRight" fmla="*/ 150840 w 15048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75360" y="5213520"/>
            <a:ext cx="149040" cy="212400"/>
          </a:xfrm>
          <a:custGeom>
            <a:avLst/>
            <a:gdLst>
              <a:gd name="textAreaLeft" fmla="*/ 0 w 149040"/>
              <a:gd name="textAreaRight" fmla="*/ 149400 w 14904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51200" y="5989680"/>
            <a:ext cx="149400" cy="212760"/>
          </a:xfrm>
          <a:custGeom>
            <a:avLst/>
            <a:gdLst>
              <a:gd name="textAreaLeft" fmla="*/ 0 w 149400"/>
              <a:gd name="textAreaRight" fmla="*/ 149760 w 149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75360" y="5919840"/>
            <a:ext cx="149040" cy="210960"/>
          </a:xfrm>
          <a:custGeom>
            <a:avLst/>
            <a:gdLst>
              <a:gd name="textAreaLeft" fmla="*/ 0 w 149040"/>
              <a:gd name="textAreaRight" fmla="*/ 149400 w 1490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76560" y="5989680"/>
            <a:ext cx="149400" cy="212760"/>
          </a:xfrm>
          <a:custGeom>
            <a:avLst/>
            <a:gdLst>
              <a:gd name="textAreaLeft" fmla="*/ 0 w 149400"/>
              <a:gd name="textAreaRight" fmla="*/ 149760 w 149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0140200">
            <a:off x="4950000" y="1332000"/>
            <a:ext cx="374400" cy="353880"/>
          </a:xfrm>
          <a:prstGeom prst="leftRightArrow">
            <a:avLst>
              <a:gd name="adj1" fmla="val 50000"/>
              <a:gd name="adj2" fmla="val 2106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51200" y="2814480"/>
            <a:ext cx="374760" cy="352440"/>
          </a:xfrm>
          <a:prstGeom prst="leftRightArrow">
            <a:avLst>
              <a:gd name="adj1" fmla="val 50000"/>
              <a:gd name="adj2" fmla="val 211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2400000">
            <a:off x="2403000" y="4932360"/>
            <a:ext cx="374760" cy="352440"/>
          </a:xfrm>
          <a:prstGeom prst="leftRightArrow">
            <a:avLst>
              <a:gd name="adj1" fmla="val 50000"/>
              <a:gd name="adj2" fmla="val 2116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3360600">
            <a:off x="1366560" y="3368520"/>
            <a:ext cx="352440" cy="3747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76560" y="2673360"/>
            <a:ext cx="374760" cy="2826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03720" y="2390760"/>
            <a:ext cx="372960" cy="2826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747960" y="2768040"/>
            <a:ext cx="232920" cy="23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25840" y="2814480"/>
            <a:ext cx="22536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676680" y="2320560"/>
            <a:ext cx="76320" cy="21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230640" y="2728800"/>
            <a:ext cx="149040" cy="47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748680" y="3706560"/>
            <a:ext cx="178560" cy="231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413800" y="4080960"/>
            <a:ext cx="55440" cy="219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03600" y="4508640"/>
            <a:ext cx="22536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03360" y="4297320"/>
            <a:ext cx="300240" cy="2113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00720" y="2320920"/>
            <a:ext cx="150480" cy="2113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76560" y="2955960"/>
            <a:ext cx="149400" cy="2109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27520" y="3097080"/>
            <a:ext cx="298440" cy="2826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78000" y="2108160"/>
            <a:ext cx="149400" cy="1414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52880" y="2744640"/>
            <a:ext cx="150840" cy="139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29080" y="2744640"/>
            <a:ext cx="225360" cy="2811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27400" y="3873600"/>
            <a:ext cx="150840" cy="1411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30520" y="3943440"/>
            <a:ext cx="149040" cy="1411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30400" y="4437000"/>
            <a:ext cx="22392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1725480" y="4320720"/>
            <a:ext cx="232920" cy="23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9560" y="4297320"/>
            <a:ext cx="225360" cy="2113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798920" y="5569920"/>
            <a:ext cx="86760" cy="205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85880" y="5913720"/>
            <a:ext cx="14400" cy="22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55640" y="5708520"/>
            <a:ext cx="223920" cy="2113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55520" y="5425920"/>
            <a:ext cx="300240" cy="21132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086000">
            <a:off x="3377880" y="2603160"/>
            <a:ext cx="298440" cy="1833480"/>
          </a:xfrm>
          <a:custGeom>
            <a:avLst/>
            <a:gdLst>
              <a:gd name="textAreaLeft" fmla="*/ 0 w 298440"/>
              <a:gd name="textAreaRight" fmla="*/ 298800 w 298440"/>
              <a:gd name="textAreaTop" fmla="*/ 0 h 1833480"/>
              <a:gd name="textAreaBottom" fmla="*/ 1833840 h 1833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20794800">
            <a:off x="1284840" y="3827160"/>
            <a:ext cx="1946160" cy="141120"/>
          </a:xfrm>
          <a:custGeom>
            <a:avLst/>
            <a:gdLst>
              <a:gd name="textAreaLeft" fmla="*/ 360 w 1946160"/>
              <a:gd name="textAreaRight" fmla="*/ 1946880 w 1946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1520" y="1544760"/>
            <a:ext cx="600120" cy="210960"/>
          </a:xfrm>
          <a:custGeom>
            <a:avLst/>
            <a:gdLst>
              <a:gd name="textAreaLeft" fmla="*/ 80280 w 600120"/>
              <a:gd name="textAreaRight" fmla="*/ 519840 w 600120"/>
              <a:gd name="textAreaTop" fmla="*/ 36720 h 210960"/>
              <a:gd name="textAreaBottom" fmla="*/ 153000 h 21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21640" y="1473120"/>
            <a:ext cx="142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ers le croissant périphé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57200" y="746280"/>
          <a:ext cx="6767640" cy="5830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746280"/>
                    <a:ext cx="6767640" cy="58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0" y="0"/>
            <a:ext cx="2724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/ ….dynamique et active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12440" y="228600"/>
            <a:ext cx="23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/Des flux de 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67480" y="609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inter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133720" y="19051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228600" y="609480"/>
            <a:ext cx="8915400" cy="5967360"/>
            <a:chOff x="228600" y="609480"/>
            <a:chExt cx="8915400" cy="5967360"/>
          </a:xfrm>
        </p:grpSpPr>
        <p:sp>
          <p:nvSpPr>
            <p:cNvPr id="480" name=""/>
            <p:cNvSpPr/>
            <p:nvPr/>
          </p:nvSpPr>
          <p:spPr>
            <a:xfrm>
              <a:off x="4619520" y="609480"/>
              <a:ext cx="1927440" cy="1600200"/>
            </a:xfrm>
            <a:custGeom>
              <a:avLst/>
              <a:gdLst/>
              <a:ahLst/>
              <a:rect l="l" t="t" r="r" b="b"/>
              <a:pathLst>
                <a:path w="1204" h="1074">
                  <a:moveTo>
                    <a:pt x="973" y="18"/>
                  </a:moveTo>
                  <a:cubicBezTo>
                    <a:pt x="784" y="0"/>
                    <a:pt x="577" y="31"/>
                    <a:pt x="388" y="37"/>
                  </a:cubicBezTo>
                  <a:cubicBezTo>
                    <a:pt x="344" y="51"/>
                    <a:pt x="332" y="82"/>
                    <a:pt x="301" y="114"/>
                  </a:cubicBezTo>
                  <a:cubicBezTo>
                    <a:pt x="279" y="182"/>
                    <a:pt x="301" y="101"/>
                    <a:pt x="301" y="238"/>
                  </a:cubicBezTo>
                  <a:cubicBezTo>
                    <a:pt x="301" y="318"/>
                    <a:pt x="266" y="367"/>
                    <a:pt x="196" y="392"/>
                  </a:cubicBezTo>
                  <a:cubicBezTo>
                    <a:pt x="153" y="435"/>
                    <a:pt x="112" y="483"/>
                    <a:pt x="61" y="517"/>
                  </a:cubicBezTo>
                  <a:cubicBezTo>
                    <a:pt x="0" y="610"/>
                    <a:pt x="39" y="665"/>
                    <a:pt x="109" y="728"/>
                  </a:cubicBezTo>
                  <a:cubicBezTo>
                    <a:pt x="200" y="810"/>
                    <a:pt x="134" y="764"/>
                    <a:pt x="196" y="805"/>
                  </a:cubicBezTo>
                  <a:cubicBezTo>
                    <a:pt x="201" y="803"/>
                    <a:pt x="248" y="786"/>
                    <a:pt x="253" y="786"/>
                  </a:cubicBezTo>
                  <a:cubicBezTo>
                    <a:pt x="323" y="786"/>
                    <a:pt x="408" y="811"/>
                    <a:pt x="474" y="834"/>
                  </a:cubicBezTo>
                  <a:cubicBezTo>
                    <a:pt x="454" y="891"/>
                    <a:pt x="419" y="935"/>
                    <a:pt x="378" y="978"/>
                  </a:cubicBezTo>
                  <a:cubicBezTo>
                    <a:pt x="371" y="998"/>
                    <a:pt x="358" y="1015"/>
                    <a:pt x="378" y="1035"/>
                  </a:cubicBezTo>
                  <a:cubicBezTo>
                    <a:pt x="394" y="1051"/>
                    <a:pt x="436" y="1074"/>
                    <a:pt x="436" y="1074"/>
                  </a:cubicBezTo>
                  <a:cubicBezTo>
                    <a:pt x="498" y="1061"/>
                    <a:pt x="530" y="1030"/>
                    <a:pt x="580" y="997"/>
                  </a:cubicBezTo>
                  <a:cubicBezTo>
                    <a:pt x="617" y="972"/>
                    <a:pt x="612" y="983"/>
                    <a:pt x="647" y="968"/>
                  </a:cubicBezTo>
                  <a:cubicBezTo>
                    <a:pt x="719" y="937"/>
                    <a:pt x="800" y="900"/>
                    <a:pt x="877" y="882"/>
                  </a:cubicBezTo>
                  <a:cubicBezTo>
                    <a:pt x="923" y="850"/>
                    <a:pt x="959" y="810"/>
                    <a:pt x="992" y="766"/>
                  </a:cubicBezTo>
                  <a:cubicBezTo>
                    <a:pt x="1013" y="738"/>
                    <a:pt x="1026" y="704"/>
                    <a:pt x="1050" y="680"/>
                  </a:cubicBezTo>
                  <a:cubicBezTo>
                    <a:pt x="1088" y="642"/>
                    <a:pt x="1110" y="597"/>
                    <a:pt x="1127" y="546"/>
                  </a:cubicBezTo>
                  <a:cubicBezTo>
                    <a:pt x="1161" y="443"/>
                    <a:pt x="1168" y="332"/>
                    <a:pt x="1204" y="229"/>
                  </a:cubicBezTo>
                  <a:cubicBezTo>
                    <a:pt x="1189" y="187"/>
                    <a:pt x="1150" y="162"/>
                    <a:pt x="1117" y="133"/>
                  </a:cubicBezTo>
                  <a:cubicBezTo>
                    <a:pt x="1040" y="64"/>
                    <a:pt x="1091" y="85"/>
                    <a:pt x="1031" y="66"/>
                  </a:cubicBezTo>
                  <a:cubicBezTo>
                    <a:pt x="998" y="44"/>
                    <a:pt x="973" y="37"/>
                    <a:pt x="935" y="27"/>
                  </a:cubicBezTo>
                  <a:cubicBezTo>
                    <a:pt x="925" y="21"/>
                    <a:pt x="906" y="8"/>
                    <a:pt x="906" y="8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400000">
              <a:off x="2073240" y="3266640"/>
              <a:ext cx="384120" cy="357120"/>
            </a:xfrm>
            <a:prstGeom prst="leftRightArrow">
              <a:avLst>
                <a:gd name="adj1" fmla="val 50000"/>
                <a:gd name="adj2" fmla="val 21412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2400000">
              <a:off x="4148280" y="4695480"/>
              <a:ext cx="384120" cy="357120"/>
            </a:xfrm>
            <a:prstGeom prst="leftRightArrow">
              <a:avLst>
                <a:gd name="adj1" fmla="val 50000"/>
                <a:gd name="adj2" fmla="val 21412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9366800">
              <a:off x="2454120" y="1790280"/>
              <a:ext cx="2265480" cy="642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935600">
              <a:off x="382320" y="4267080"/>
              <a:ext cx="998280" cy="35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146200" y="2265480"/>
              <a:ext cx="692280" cy="107316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842840" y="4624560"/>
              <a:ext cx="460440" cy="85716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49560" y="3267000"/>
              <a:ext cx="215640" cy="1057320"/>
            </a:xfrm>
            <a:custGeom>
              <a:avLst/>
              <a:gdLst/>
              <a:ahLst/>
              <a:rect l="l" t="t" r="r" b="b"/>
              <a:pathLst>
                <a:path w="134" h="710">
                  <a:moveTo>
                    <a:pt x="124" y="710"/>
                  </a:moveTo>
                  <a:cubicBezTo>
                    <a:pt x="105" y="652"/>
                    <a:pt x="73" y="589"/>
                    <a:pt x="28" y="547"/>
                  </a:cubicBezTo>
                  <a:cubicBezTo>
                    <a:pt x="19" y="518"/>
                    <a:pt x="9" y="490"/>
                    <a:pt x="0" y="461"/>
                  </a:cubicBezTo>
                  <a:cubicBezTo>
                    <a:pt x="11" y="404"/>
                    <a:pt x="13" y="344"/>
                    <a:pt x="28" y="288"/>
                  </a:cubicBezTo>
                  <a:cubicBezTo>
                    <a:pt x="38" y="250"/>
                    <a:pt x="54" y="211"/>
                    <a:pt x="67" y="173"/>
                  </a:cubicBezTo>
                  <a:cubicBezTo>
                    <a:pt x="81" y="132"/>
                    <a:pt x="101" y="98"/>
                    <a:pt x="115" y="58"/>
                  </a:cubicBezTo>
                  <a:cubicBezTo>
                    <a:pt x="122" y="39"/>
                    <a:pt x="134" y="0"/>
                    <a:pt x="134" y="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27320" y="2693880"/>
              <a:ext cx="338040" cy="547920"/>
            </a:xfrm>
            <a:custGeom>
              <a:avLst/>
              <a:gdLst/>
              <a:ahLst/>
              <a:rect l="l" t="t" r="r" b="b"/>
              <a:pathLst>
                <a:path w="211" h="367">
                  <a:moveTo>
                    <a:pt x="38" y="367"/>
                  </a:moveTo>
                  <a:cubicBezTo>
                    <a:pt x="27" y="331"/>
                    <a:pt x="9" y="308"/>
                    <a:pt x="0" y="271"/>
                  </a:cubicBezTo>
                  <a:cubicBezTo>
                    <a:pt x="12" y="219"/>
                    <a:pt x="21" y="186"/>
                    <a:pt x="67" y="156"/>
                  </a:cubicBezTo>
                  <a:cubicBezTo>
                    <a:pt x="102" y="103"/>
                    <a:pt x="67" y="148"/>
                    <a:pt x="115" y="108"/>
                  </a:cubicBezTo>
                  <a:cubicBezTo>
                    <a:pt x="141" y="87"/>
                    <a:pt x="161" y="57"/>
                    <a:pt x="182" y="31"/>
                  </a:cubicBezTo>
                  <a:cubicBezTo>
                    <a:pt x="206" y="0"/>
                    <a:pt x="189" y="3"/>
                    <a:pt x="211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81400" y="2550960"/>
              <a:ext cx="1214280" cy="787680"/>
            </a:xfrm>
            <a:custGeom>
              <a:avLst/>
              <a:gdLst/>
              <a:ahLst/>
              <a:rect l="l" t="t" r="r" b="b"/>
              <a:pathLst>
                <a:path w="759" h="528">
                  <a:moveTo>
                    <a:pt x="0" y="528"/>
                  </a:moveTo>
                  <a:cubicBezTo>
                    <a:pt x="3" y="518"/>
                    <a:pt x="1" y="504"/>
                    <a:pt x="10" y="499"/>
                  </a:cubicBezTo>
                  <a:cubicBezTo>
                    <a:pt x="19" y="494"/>
                    <a:pt x="29" y="508"/>
                    <a:pt x="39" y="508"/>
                  </a:cubicBezTo>
                  <a:cubicBezTo>
                    <a:pt x="68" y="508"/>
                    <a:pt x="96" y="502"/>
                    <a:pt x="125" y="499"/>
                  </a:cubicBezTo>
                  <a:cubicBezTo>
                    <a:pt x="168" y="484"/>
                    <a:pt x="202" y="448"/>
                    <a:pt x="240" y="422"/>
                  </a:cubicBezTo>
                  <a:cubicBezTo>
                    <a:pt x="271" y="401"/>
                    <a:pt x="319" y="387"/>
                    <a:pt x="355" y="374"/>
                  </a:cubicBezTo>
                  <a:cubicBezTo>
                    <a:pt x="397" y="385"/>
                    <a:pt x="438" y="399"/>
                    <a:pt x="480" y="412"/>
                  </a:cubicBezTo>
                  <a:cubicBezTo>
                    <a:pt x="504" y="405"/>
                    <a:pt x="519" y="403"/>
                    <a:pt x="538" y="384"/>
                  </a:cubicBezTo>
                  <a:cubicBezTo>
                    <a:pt x="575" y="347"/>
                    <a:pt x="563" y="323"/>
                    <a:pt x="615" y="307"/>
                  </a:cubicBezTo>
                  <a:cubicBezTo>
                    <a:pt x="700" y="222"/>
                    <a:pt x="759" y="124"/>
                    <a:pt x="759" y="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41480" y="1336680"/>
              <a:ext cx="1944720" cy="1490760"/>
            </a:xfrm>
            <a:custGeom>
              <a:avLst/>
              <a:gdLst/>
              <a:ahLst/>
              <a:rect l="l" t="t" r="r" b="b"/>
              <a:pathLst>
                <a:path w="1214" h="1001">
                  <a:moveTo>
                    <a:pt x="0" y="598"/>
                  </a:moveTo>
                  <a:cubicBezTo>
                    <a:pt x="10" y="595"/>
                    <a:pt x="19" y="588"/>
                    <a:pt x="29" y="588"/>
                  </a:cubicBezTo>
                  <a:cubicBezTo>
                    <a:pt x="50" y="588"/>
                    <a:pt x="124" y="633"/>
                    <a:pt x="144" y="646"/>
                  </a:cubicBezTo>
                  <a:cubicBezTo>
                    <a:pt x="150" y="665"/>
                    <a:pt x="163" y="683"/>
                    <a:pt x="163" y="703"/>
                  </a:cubicBezTo>
                  <a:cubicBezTo>
                    <a:pt x="163" y="759"/>
                    <a:pt x="141" y="814"/>
                    <a:pt x="125" y="867"/>
                  </a:cubicBezTo>
                  <a:cubicBezTo>
                    <a:pt x="133" y="936"/>
                    <a:pt x="127" y="955"/>
                    <a:pt x="173" y="1001"/>
                  </a:cubicBezTo>
                  <a:cubicBezTo>
                    <a:pt x="186" y="998"/>
                    <a:pt x="201" y="999"/>
                    <a:pt x="211" y="991"/>
                  </a:cubicBezTo>
                  <a:cubicBezTo>
                    <a:pt x="219" y="985"/>
                    <a:pt x="215" y="971"/>
                    <a:pt x="221" y="963"/>
                  </a:cubicBezTo>
                  <a:cubicBezTo>
                    <a:pt x="242" y="936"/>
                    <a:pt x="264" y="901"/>
                    <a:pt x="297" y="895"/>
                  </a:cubicBezTo>
                  <a:cubicBezTo>
                    <a:pt x="338" y="887"/>
                    <a:pt x="380" y="889"/>
                    <a:pt x="422" y="886"/>
                  </a:cubicBezTo>
                  <a:cubicBezTo>
                    <a:pt x="473" y="869"/>
                    <a:pt x="445" y="885"/>
                    <a:pt x="489" y="819"/>
                  </a:cubicBezTo>
                  <a:cubicBezTo>
                    <a:pt x="515" y="779"/>
                    <a:pt x="571" y="757"/>
                    <a:pt x="605" y="723"/>
                  </a:cubicBezTo>
                  <a:cubicBezTo>
                    <a:pt x="671" y="657"/>
                    <a:pt x="571" y="757"/>
                    <a:pt x="643" y="675"/>
                  </a:cubicBezTo>
                  <a:cubicBezTo>
                    <a:pt x="658" y="658"/>
                    <a:pt x="691" y="627"/>
                    <a:pt x="691" y="627"/>
                  </a:cubicBezTo>
                  <a:cubicBezTo>
                    <a:pt x="707" y="580"/>
                    <a:pt x="727" y="548"/>
                    <a:pt x="768" y="521"/>
                  </a:cubicBezTo>
                  <a:cubicBezTo>
                    <a:pt x="793" y="483"/>
                    <a:pt x="826" y="452"/>
                    <a:pt x="854" y="415"/>
                  </a:cubicBezTo>
                  <a:cubicBezTo>
                    <a:pt x="868" y="397"/>
                    <a:pt x="893" y="358"/>
                    <a:pt x="893" y="358"/>
                  </a:cubicBezTo>
                  <a:cubicBezTo>
                    <a:pt x="903" y="325"/>
                    <a:pt x="916" y="305"/>
                    <a:pt x="941" y="281"/>
                  </a:cubicBezTo>
                  <a:cubicBezTo>
                    <a:pt x="951" y="248"/>
                    <a:pt x="964" y="228"/>
                    <a:pt x="989" y="204"/>
                  </a:cubicBezTo>
                  <a:cubicBezTo>
                    <a:pt x="999" y="171"/>
                    <a:pt x="1012" y="152"/>
                    <a:pt x="1037" y="127"/>
                  </a:cubicBezTo>
                  <a:cubicBezTo>
                    <a:pt x="1058" y="61"/>
                    <a:pt x="1083" y="61"/>
                    <a:pt x="1142" y="41"/>
                  </a:cubicBezTo>
                  <a:cubicBezTo>
                    <a:pt x="1153" y="37"/>
                    <a:pt x="1161" y="27"/>
                    <a:pt x="1171" y="22"/>
                  </a:cubicBezTo>
                  <a:cubicBezTo>
                    <a:pt x="1214" y="0"/>
                    <a:pt x="1189" y="23"/>
                    <a:pt x="1209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63800" y="2479680"/>
              <a:ext cx="462240" cy="35712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34" y="36"/>
                    <a:pt x="88" y="34"/>
                    <a:pt x="134" y="48"/>
                  </a:cubicBezTo>
                  <a:cubicBezTo>
                    <a:pt x="163" y="77"/>
                    <a:pt x="191" y="107"/>
                    <a:pt x="221" y="135"/>
                  </a:cubicBezTo>
                  <a:cubicBezTo>
                    <a:pt x="244" y="157"/>
                    <a:pt x="256" y="189"/>
                    <a:pt x="278" y="212"/>
                  </a:cubicBezTo>
                  <a:cubicBezTo>
                    <a:pt x="281" y="221"/>
                    <a:pt x="288" y="240"/>
                    <a:pt x="288" y="2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532400" y="2050560"/>
              <a:ext cx="11523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532400" y="2265120"/>
              <a:ext cx="13064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32400" y="2550960"/>
              <a:ext cx="13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3687840" y="4481640"/>
              <a:ext cx="84456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610080" y="4766760"/>
              <a:ext cx="1152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96920" y="5697360"/>
              <a:ext cx="152640" cy="142920"/>
            </a:xfrm>
            <a:prstGeom prst="hexagon">
              <a:avLst>
                <a:gd name="adj" fmla="val 267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96840" y="5195880"/>
              <a:ext cx="154080" cy="142920"/>
            </a:xfrm>
            <a:prstGeom prst="hexagon">
              <a:avLst>
                <a:gd name="adj" fmla="val 26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35040" y="4338720"/>
              <a:ext cx="154080" cy="142920"/>
            </a:xfrm>
            <a:prstGeom prst="hexagon">
              <a:avLst>
                <a:gd name="adj" fmla="val 26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80960" y="3838680"/>
              <a:ext cx="154080" cy="142920"/>
            </a:xfrm>
            <a:prstGeom prst="hexagon">
              <a:avLst>
                <a:gd name="adj" fmla="val 26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19160" y="4195800"/>
              <a:ext cx="154080" cy="142920"/>
            </a:xfrm>
            <a:prstGeom prst="hexagon">
              <a:avLst>
                <a:gd name="adj" fmla="val 26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87760" y="4124160"/>
              <a:ext cx="153720" cy="142920"/>
            </a:xfrm>
            <a:prstGeom prst="hexagon">
              <a:avLst>
                <a:gd name="adj" fmla="val 26889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54720" y="1336680"/>
              <a:ext cx="154080" cy="142920"/>
            </a:xfrm>
            <a:prstGeom prst="hexagon">
              <a:avLst>
                <a:gd name="adj" fmla="val 26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303720" y="4552920"/>
              <a:ext cx="536400" cy="42876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27320" y="5267160"/>
              <a:ext cx="538200" cy="43020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03720" y="5554800"/>
              <a:ext cx="152280" cy="214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17880" y="4981680"/>
              <a:ext cx="154080" cy="2142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78320" y="5195880"/>
              <a:ext cx="154080" cy="2142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70600" y="5195880"/>
              <a:ext cx="153720" cy="214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32400" y="5983200"/>
              <a:ext cx="154080" cy="21456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70600" y="5911920"/>
              <a:ext cx="153720" cy="214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40120" y="5983200"/>
              <a:ext cx="154080" cy="21456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140200">
              <a:off x="4839840" y="1265400"/>
              <a:ext cx="384120" cy="357120"/>
            </a:xfrm>
            <a:prstGeom prst="leftRightArrow">
              <a:avLst>
                <a:gd name="adj1" fmla="val 50000"/>
                <a:gd name="adj2" fmla="val 21412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32400" y="2765520"/>
              <a:ext cx="384120" cy="358560"/>
            </a:xfrm>
            <a:prstGeom prst="leftRightArrow">
              <a:avLst>
                <a:gd name="adj1" fmla="val 50000"/>
                <a:gd name="adj2" fmla="val 2132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400000">
              <a:off x="2227320" y="4909680"/>
              <a:ext cx="384120" cy="357120"/>
            </a:xfrm>
            <a:prstGeom prst="leftRightArrow">
              <a:avLst>
                <a:gd name="adj1" fmla="val 50000"/>
                <a:gd name="adj2" fmla="val 21412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3360600">
              <a:off x="1240200" y="3253680"/>
              <a:ext cx="357120" cy="384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40120" y="2622600"/>
              <a:ext cx="385920" cy="285840"/>
            </a:xfrm>
            <a:prstGeom prst="ellipse">
              <a:avLst/>
            </a:prstGeom>
            <a:solidFill>
              <a:srgbClr val="ff505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49640" y="2336760"/>
              <a:ext cx="384120" cy="285840"/>
            </a:xfrm>
            <a:prstGeom prst="ellipse">
              <a:avLst/>
            </a:prstGeom>
            <a:solidFill>
              <a:srgbClr val="ff505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3604680" y="2717640"/>
              <a:ext cx="239760" cy="23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02000" y="2765520"/>
              <a:ext cx="2304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533760" y="2265120"/>
              <a:ext cx="76320" cy="214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075120" y="2677680"/>
              <a:ext cx="151920" cy="4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3606120" y="3669480"/>
              <a:ext cx="183600" cy="23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2237400" y="4049640"/>
              <a:ext cx="56160" cy="22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533680" y="4481640"/>
              <a:ext cx="23184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27320" y="4267080"/>
              <a:ext cx="306360" cy="2145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8320" y="2265480"/>
              <a:ext cx="154080" cy="2142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40120" y="2908440"/>
              <a:ext cx="154080" cy="2156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87840" y="3051000"/>
              <a:ext cx="306360" cy="287640"/>
            </a:xfrm>
            <a:prstGeom prst="rect">
              <a:avLst/>
            </a:prstGeom>
            <a:solidFill>
              <a:srgbClr val="ff505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17800" y="2050920"/>
              <a:ext cx="154080" cy="142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95560" y="2693880"/>
              <a:ext cx="154080" cy="142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57360" y="2693880"/>
              <a:ext cx="230400" cy="2858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71880" y="3838680"/>
              <a:ext cx="154080" cy="142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35040" y="3909960"/>
              <a:ext cx="154080" cy="142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3200" y="4410000"/>
              <a:ext cx="230040" cy="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1530000" y="4290840"/>
              <a:ext cx="240120" cy="23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89120" y="4267080"/>
              <a:ext cx="230040" cy="2145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1604880" y="5556960"/>
              <a:ext cx="90720" cy="20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89320" y="5905800"/>
              <a:ext cx="14760" cy="226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59080" y="5697360"/>
              <a:ext cx="230040" cy="2145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3120" y="5410080"/>
              <a:ext cx="307800" cy="216000"/>
            </a:xfrm>
            <a:prstGeom prst="rect">
              <a:avLst/>
            </a:prstGeom>
            <a:solidFill>
              <a:srgbClr val="ff505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086000">
              <a:off x="3225600" y="2550960"/>
              <a:ext cx="307800" cy="18590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4589357"/>
                  <a:lnTo>
                    <a:pt x="13323" y="299"/>
                  </a:lnTo>
                  <a:arcTo wR="10800" hR="10800" stAng="-4589357" swAng="4589357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6400" y="4195800"/>
              <a:ext cx="230400" cy="428760"/>
            </a:xfrm>
            <a:prstGeom prst="upArrow">
              <a:avLst>
                <a:gd name="adj1" fmla="val 50000"/>
                <a:gd name="adj2" fmla="val 46523"/>
              </a:avLst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18112800">
              <a:off x="4425120" y="4215240"/>
              <a:ext cx="214200" cy="460440"/>
            </a:xfrm>
            <a:prstGeom prst="upArrow">
              <a:avLst>
                <a:gd name="adj1" fmla="val 50000"/>
                <a:gd name="adj2" fmla="val 53739"/>
              </a:avLst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23040" y="1407960"/>
              <a:ext cx="230400" cy="428760"/>
            </a:xfrm>
            <a:prstGeom prst="upArrow">
              <a:avLst>
                <a:gd name="adj1" fmla="val 50000"/>
                <a:gd name="adj2" fmla="val 46523"/>
              </a:avLst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07160" y="1479600"/>
              <a:ext cx="153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igrations clandest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1340200">
              <a:off x="5916240" y="2408400"/>
              <a:ext cx="922320" cy="214200"/>
            </a:xfrm>
            <a:prstGeom prst="leftArrow">
              <a:avLst>
                <a:gd name="adj1" fmla="val 50000"/>
                <a:gd name="adj2" fmla="val 10764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350800">
              <a:off x="5916600" y="907920"/>
              <a:ext cx="1074600" cy="214560"/>
            </a:xfrm>
            <a:prstGeom prst="leftArrow">
              <a:avLst>
                <a:gd name="adj1" fmla="val 50000"/>
                <a:gd name="adj2" fmla="val 12521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1340200">
              <a:off x="6990840" y="2479680"/>
              <a:ext cx="462240" cy="71280"/>
            </a:xfrm>
            <a:prstGeom prst="leftArrow">
              <a:avLst>
                <a:gd name="adj1" fmla="val 50000"/>
                <a:gd name="adj2" fmla="val 16212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29400" y="2336760"/>
              <a:ext cx="161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Flux provenant essentiellement d’ Eur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312200">
              <a:off x="3071880" y="5839920"/>
              <a:ext cx="538200" cy="357480"/>
            </a:xfrm>
            <a:prstGeom prst="leftArrow">
              <a:avLst>
                <a:gd name="adj1" fmla="val 50000"/>
                <a:gd name="adj2" fmla="val 37638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45280" y="3267000"/>
              <a:ext cx="308160" cy="71640"/>
            </a:xfrm>
            <a:prstGeom prst="leftArrow">
              <a:avLst>
                <a:gd name="adj1" fmla="val 50000"/>
                <a:gd name="adj2" fmla="val 107538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07160" y="3195720"/>
              <a:ext cx="1306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Flux provenant essentiellement d ’Amérique lat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20794800">
              <a:off x="1304640" y="3909960"/>
              <a:ext cx="1998720" cy="142920"/>
            </a:xfrm>
            <a:custGeom>
              <a:avLst/>
              <a:gdLst>
                <a:gd name="textAreaLeft" fmla="*/ 360 w 1998720"/>
                <a:gd name="textAreaRight" fmla="*/ 1999440 w 19987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5" name=""/>
            <p:cNvGraphicFramePr/>
            <p:nvPr/>
          </p:nvGraphicFramePr>
          <p:xfrm>
            <a:off x="228600" y="669960"/>
            <a:ext cx="6945480" cy="590688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" y="669960"/>
                      <a:ext cx="6945480" cy="59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7" name=""/>
          <p:cNvSpPr/>
          <p:nvPr/>
        </p:nvSpPr>
        <p:spPr>
          <a:xfrm>
            <a:off x="0" y="0"/>
            <a:ext cx="2724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/ ….dynamique et active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19520" y="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/Des flux de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5200" y="533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exter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 rot="19366800">
            <a:off x="2422440" y="1552680"/>
            <a:ext cx="2124000" cy="78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05400" y="533520"/>
            <a:ext cx="1911240" cy="16002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2400000">
            <a:off x="1981080" y="3191040"/>
            <a:ext cx="381240" cy="357120"/>
          </a:xfrm>
          <a:prstGeom prst="leftRightArrow">
            <a:avLst>
              <a:gd name="adj1" fmla="val 50000"/>
              <a:gd name="adj2" fmla="val 2125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2400000">
            <a:off x="4038480" y="4619520"/>
            <a:ext cx="381240" cy="357120"/>
          </a:xfrm>
          <a:prstGeom prst="leftRightArrow">
            <a:avLst>
              <a:gd name="adj1" fmla="val 50000"/>
              <a:gd name="adj2" fmla="val 212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935600">
            <a:off x="304560" y="4191120"/>
            <a:ext cx="990360" cy="357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028840" y="2189160"/>
            <a:ext cx="685800" cy="1073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752480" y="4548240"/>
            <a:ext cx="457200" cy="857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57400" y="3191040"/>
            <a:ext cx="212760" cy="105696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133720" y="2617920"/>
            <a:ext cx="334800" cy="54756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86000" y="2475000"/>
            <a:ext cx="1204920" cy="78732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43200" y="1260360"/>
            <a:ext cx="1927080" cy="149076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2403360"/>
            <a:ext cx="457200" cy="3574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4419720" y="1974960"/>
            <a:ext cx="114300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19720" y="2189160"/>
            <a:ext cx="129528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247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581280" y="4405320"/>
            <a:ext cx="838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505320" y="4690800"/>
            <a:ext cx="1143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5120" y="562140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14400" y="511956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426240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95280" y="3762360"/>
            <a:ext cx="152640" cy="142920"/>
          </a:xfrm>
          <a:prstGeom prst="hexagon">
            <a:avLst>
              <a:gd name="adj" fmla="val 267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411948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90920" y="404820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34120" y="126036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00400" y="4476600"/>
            <a:ext cx="533520" cy="4287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5191200"/>
            <a:ext cx="533160" cy="4302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00400" y="547848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09880" y="4905360"/>
            <a:ext cx="152640" cy="214200"/>
          </a:xfrm>
          <a:custGeom>
            <a:avLst/>
            <a:gdLst>
              <a:gd name="textAreaLeft" fmla="*/ 0 w 152640"/>
              <a:gd name="textAreaRight" fmla="*/ 153000 w 1526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67080" y="5119560"/>
            <a:ext cx="152640" cy="214560"/>
          </a:xfrm>
          <a:custGeom>
            <a:avLst/>
            <a:gdLst>
              <a:gd name="textAreaLeft" fmla="*/ 0 w 152640"/>
              <a:gd name="textAreaRight" fmla="*/ 153000 w 1526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52880" y="5119560"/>
            <a:ext cx="152640" cy="214560"/>
          </a:xfrm>
          <a:custGeom>
            <a:avLst/>
            <a:gdLst>
              <a:gd name="textAreaLeft" fmla="*/ 0 w 152640"/>
              <a:gd name="textAreaRight" fmla="*/ 153000 w 1526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19720" y="590724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52880" y="5835600"/>
            <a:ext cx="152640" cy="214200"/>
          </a:xfrm>
          <a:custGeom>
            <a:avLst/>
            <a:gdLst>
              <a:gd name="textAreaLeft" fmla="*/ 0 w 152640"/>
              <a:gd name="textAreaRight" fmla="*/ 153000 w 1526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733920" y="590724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20140200">
            <a:off x="4724280" y="1188720"/>
            <a:ext cx="381240" cy="357120"/>
          </a:xfrm>
          <a:prstGeom prst="leftRightArrow">
            <a:avLst>
              <a:gd name="adj1" fmla="val 50000"/>
              <a:gd name="adj2" fmla="val 2125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19720" y="2689200"/>
            <a:ext cx="380880" cy="358920"/>
          </a:xfrm>
          <a:prstGeom prst="leftRightArrow">
            <a:avLst>
              <a:gd name="adj1" fmla="val 50000"/>
              <a:gd name="adj2" fmla="val 2112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2400000">
            <a:off x="2133720" y="4833720"/>
            <a:ext cx="380880" cy="357120"/>
          </a:xfrm>
          <a:prstGeom prst="leftRightArrow">
            <a:avLst>
              <a:gd name="adj1" fmla="val 50000"/>
              <a:gd name="adj2" fmla="val 2123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3360600">
            <a:off x="1154520" y="3178800"/>
            <a:ext cx="35712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2546280"/>
            <a:ext cx="380880" cy="28584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2260440"/>
            <a:ext cx="380880" cy="28584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500280" y="2641680"/>
            <a:ext cx="23796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91120" y="2689200"/>
            <a:ext cx="2286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429000" y="2188800"/>
            <a:ext cx="76320" cy="214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974320" y="2602080"/>
            <a:ext cx="150840" cy="4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3501360" y="3593520"/>
            <a:ext cx="182160" cy="23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2143440" y="3973680"/>
            <a:ext cx="56520" cy="2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8280" y="440532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133720" y="4191120"/>
            <a:ext cx="304560" cy="214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2189160"/>
            <a:ext cx="152640" cy="2142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33920" y="2832120"/>
            <a:ext cx="152280" cy="216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81280" y="2975040"/>
            <a:ext cx="304920" cy="28728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19520" y="197496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95480" y="2617920"/>
            <a:ext cx="15264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362320" y="2617920"/>
            <a:ext cx="228600" cy="2854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71800" y="376236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47920" y="383364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52480" y="433404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1442880" y="4214880"/>
            <a:ext cx="23796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00200" y="4191120"/>
            <a:ext cx="228600" cy="214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517400" y="5480640"/>
            <a:ext cx="89280" cy="209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02560" y="5829120"/>
            <a:ext cx="14400" cy="227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5621400"/>
            <a:ext cx="228600" cy="214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5334120"/>
            <a:ext cx="304560" cy="21564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086000">
            <a:off x="3123720" y="2474640"/>
            <a:ext cx="304920" cy="1859040"/>
          </a:xfrm>
          <a:custGeom>
            <a:avLst/>
            <a:gdLst>
              <a:gd name="textAreaLeft" fmla="*/ 0 w 304920"/>
              <a:gd name="textAreaRight" fmla="*/ 305280 w 30492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" y="4119480"/>
            <a:ext cx="228600" cy="428760"/>
          </a:xfrm>
          <a:prstGeom prst="upArrow">
            <a:avLst>
              <a:gd name="adj1" fmla="val 50000"/>
              <a:gd name="adj2" fmla="val 4689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8112800">
            <a:off x="4312440" y="4140360"/>
            <a:ext cx="214200" cy="457200"/>
          </a:xfrm>
          <a:prstGeom prst="upArrow">
            <a:avLst>
              <a:gd name="adj1" fmla="val 50000"/>
              <a:gd name="adj2" fmla="val 53361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21340200">
            <a:off x="5790960" y="2332080"/>
            <a:ext cx="914400" cy="214200"/>
          </a:xfrm>
          <a:prstGeom prst="leftArrow">
            <a:avLst>
              <a:gd name="adj1" fmla="val 50000"/>
              <a:gd name="adj2" fmla="val 1067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20350800">
            <a:off x="5791320" y="831600"/>
            <a:ext cx="1066680" cy="214200"/>
          </a:xfrm>
          <a:prstGeom prst="leftArrow">
            <a:avLst>
              <a:gd name="adj1" fmla="val 50000"/>
              <a:gd name="adj2" fmla="val 1244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312200">
            <a:off x="2971440" y="5764320"/>
            <a:ext cx="533520" cy="357120"/>
          </a:xfrm>
          <a:prstGeom prst="leftArrow">
            <a:avLst>
              <a:gd name="adj1" fmla="val 50000"/>
              <a:gd name="adj2" fmla="val 3734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1549200">
            <a:off x="3733920" y="1902960"/>
            <a:ext cx="482400" cy="164484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5505600">
            <a:off x="7244280" y="807120"/>
            <a:ext cx="166680" cy="76212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10280" y="1474920"/>
            <a:ext cx="1981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 centre, la mégalopolis, concentre les pouvoirs économiques et financiers. Une reconversion réuss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rot="20794800">
            <a:off x="989640" y="3905280"/>
            <a:ext cx="1981080" cy="142920"/>
          </a:xfrm>
          <a:custGeom>
            <a:avLst/>
            <a:gdLst>
              <a:gd name="textAreaLeft" fmla="*/ -360 w 1981080"/>
              <a:gd name="textAreaRight" fmla="*/ 1981080 w 1981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52280" y="593640"/>
          <a:ext cx="6886800" cy="5907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593640"/>
                    <a:ext cx="688680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rot="19366800">
            <a:off x="2438280" y="1671480"/>
            <a:ext cx="2276640" cy="78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60680" y="5375160"/>
            <a:ext cx="992160" cy="59220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57680" y="609480"/>
            <a:ext cx="1911240" cy="16002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2400000">
            <a:off x="2133720" y="3266640"/>
            <a:ext cx="380880" cy="357120"/>
          </a:xfrm>
          <a:prstGeom prst="leftRightArrow">
            <a:avLst>
              <a:gd name="adj1" fmla="val 50000"/>
              <a:gd name="adj2" fmla="val 2123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2400000">
            <a:off x="4191120" y="4695480"/>
            <a:ext cx="380880" cy="357120"/>
          </a:xfrm>
          <a:prstGeom prst="leftRightArrow">
            <a:avLst>
              <a:gd name="adj1" fmla="val 50000"/>
              <a:gd name="adj2" fmla="val 2123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1935600">
            <a:off x="456840" y="4266720"/>
            <a:ext cx="990720" cy="35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5181120" y="2265480"/>
            <a:ext cx="685800" cy="1073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905120" y="4624560"/>
            <a:ext cx="457200" cy="857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09680" y="3267000"/>
            <a:ext cx="212760" cy="10573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2693880"/>
            <a:ext cx="334800" cy="54792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2550960"/>
            <a:ext cx="1204920" cy="78768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95480" y="1336680"/>
            <a:ext cx="1927440" cy="149076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9880" y="2479680"/>
            <a:ext cx="457200" cy="35712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572000" y="2050560"/>
            <a:ext cx="114300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572000" y="2265120"/>
            <a:ext cx="129528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0" y="2550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3733920" y="4481640"/>
            <a:ext cx="838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3657600" y="4766760"/>
            <a:ext cx="1143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7400" y="569736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66680" y="5195880"/>
            <a:ext cx="152640" cy="142920"/>
          </a:xfrm>
          <a:prstGeom prst="hexagon">
            <a:avLst>
              <a:gd name="adj" fmla="val 267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00200" y="433872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383868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81080" y="4195800"/>
            <a:ext cx="152640" cy="142920"/>
          </a:xfrm>
          <a:prstGeom prst="hexagon">
            <a:avLst>
              <a:gd name="adj" fmla="val 267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43200" y="412416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86400" y="133668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52680" y="4552920"/>
            <a:ext cx="533520" cy="4287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5267160"/>
            <a:ext cx="533520" cy="4302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5554800"/>
            <a:ext cx="152640" cy="214200"/>
          </a:xfrm>
          <a:custGeom>
            <a:avLst/>
            <a:gdLst>
              <a:gd name="textAreaLeft" fmla="*/ 0 w 152640"/>
              <a:gd name="textAreaRight" fmla="*/ 153000 w 1526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498168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19720" y="519588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105520" y="519588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0" y="5983200"/>
            <a:ext cx="152280" cy="2145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05520" y="591192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86200" y="5983200"/>
            <a:ext cx="152280" cy="2145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20140200">
            <a:off x="4876920" y="1265400"/>
            <a:ext cx="380880" cy="357120"/>
          </a:xfrm>
          <a:prstGeom prst="leftRightArrow">
            <a:avLst>
              <a:gd name="adj1" fmla="val 50000"/>
              <a:gd name="adj2" fmla="val 2123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0" y="2908440"/>
            <a:ext cx="380880" cy="358560"/>
          </a:xfrm>
          <a:prstGeom prst="leftRightArrow">
            <a:avLst>
              <a:gd name="adj1" fmla="val 50000"/>
              <a:gd name="adj2" fmla="val 211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400000">
            <a:off x="2286000" y="4909680"/>
            <a:ext cx="380880" cy="357120"/>
          </a:xfrm>
          <a:prstGeom prst="leftRightArrow">
            <a:avLst>
              <a:gd name="adj1" fmla="val 50000"/>
              <a:gd name="adj2" fmla="val 2123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3360600">
            <a:off x="1306800" y="3254760"/>
            <a:ext cx="357120" cy="3812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2622600"/>
            <a:ext cx="380880" cy="28584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00400" y="2336760"/>
            <a:ext cx="380880" cy="28584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3652200" y="2717640"/>
            <a:ext cx="23832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343400" y="276552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3581280" y="2265120"/>
            <a:ext cx="76320" cy="214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127320" y="2677680"/>
            <a:ext cx="150480" cy="4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653640" y="3669480"/>
            <a:ext cx="181800" cy="23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2296080" y="4049640"/>
            <a:ext cx="56160" cy="2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590920" y="448164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86000" y="4267080"/>
            <a:ext cx="304920" cy="2145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19720" y="2265480"/>
            <a:ext cx="152280" cy="2142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86200" y="2908440"/>
            <a:ext cx="152280" cy="2156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33920" y="3051000"/>
            <a:ext cx="304560" cy="28764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71800" y="205092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8120" y="269388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14600" y="2693880"/>
            <a:ext cx="228600" cy="28584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124080" y="3838680"/>
            <a:ext cx="15264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390996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05120" y="4410000"/>
            <a:ext cx="2286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594800" y="4290840"/>
            <a:ext cx="23832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52480" y="4267080"/>
            <a:ext cx="228600" cy="2145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1670040" y="5556960"/>
            <a:ext cx="88920" cy="209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54840" y="5905440"/>
            <a:ext cx="14400" cy="227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3880" y="5697360"/>
            <a:ext cx="228600" cy="2145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14400" y="5410080"/>
            <a:ext cx="304920" cy="2160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086000">
            <a:off x="3276360" y="2550600"/>
            <a:ext cx="304560" cy="1859040"/>
          </a:xfrm>
          <a:custGeom>
            <a:avLst/>
            <a:gdLst>
              <a:gd name="textAreaLeft" fmla="*/ 0 w 304560"/>
              <a:gd name="textAreaRight" fmla="*/ 304920 w 30456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9480" y="4195800"/>
            <a:ext cx="228600" cy="428760"/>
          </a:xfrm>
          <a:prstGeom prst="upArrow">
            <a:avLst>
              <a:gd name="adj1" fmla="val 50000"/>
              <a:gd name="adj2" fmla="val 4689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18112800">
            <a:off x="4464720" y="4216680"/>
            <a:ext cx="214200" cy="457200"/>
          </a:xfrm>
          <a:prstGeom prst="upArrow">
            <a:avLst>
              <a:gd name="adj1" fmla="val 50000"/>
              <a:gd name="adj2" fmla="val 53361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rot="21340200">
            <a:off x="5943240" y="2408400"/>
            <a:ext cx="914400" cy="214200"/>
          </a:xfrm>
          <a:prstGeom prst="leftArrow">
            <a:avLst>
              <a:gd name="adj1" fmla="val 50000"/>
              <a:gd name="adj2" fmla="val 1067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20350800">
            <a:off x="5943600" y="907560"/>
            <a:ext cx="1066680" cy="214560"/>
          </a:xfrm>
          <a:prstGeom prst="leftArrow">
            <a:avLst>
              <a:gd name="adj1" fmla="val 50000"/>
              <a:gd name="adj2" fmla="val 124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312200">
            <a:off x="3123720" y="5840280"/>
            <a:ext cx="533520" cy="357480"/>
          </a:xfrm>
          <a:prstGeom prst="leftArrow">
            <a:avLst>
              <a:gd name="adj1" fmla="val 50000"/>
              <a:gd name="adj2" fmla="val 3731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549200">
            <a:off x="3886200" y="1979640"/>
            <a:ext cx="482760" cy="164448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98560" y="3795840"/>
            <a:ext cx="2911320" cy="221616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15200" y="1122480"/>
            <a:ext cx="457200" cy="357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238880" y="1836720"/>
            <a:ext cx="1676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ériphérie associée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espaces littoraux spécialisés (agro-business, tourisme, hydrocarbu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rot="20794800">
            <a:off x="1147320" y="3792600"/>
            <a:ext cx="1981440" cy="143280"/>
          </a:xfrm>
          <a:custGeom>
            <a:avLst/>
            <a:gdLst>
              <a:gd name="textAreaLeft" fmla="*/ 360 w 1981440"/>
              <a:gd name="textAreaRight" fmla="*/ 1982160 w 1981440"/>
              <a:gd name="textAreaTop" fmla="*/ 0 h 143280"/>
              <a:gd name="textAreaBottom" fmla="*/ 143640 h 14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304920" y="669960"/>
          <a:ext cx="6886440" cy="5906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669960"/>
                    <a:ext cx="6886440" cy="59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4583160" y="533520"/>
            <a:ext cx="1944720" cy="161928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013200" y="4179960"/>
            <a:ext cx="2862000" cy="1882800"/>
          </a:xfrm>
          <a:custGeom>
            <a:avLst/>
            <a:gdLst/>
            <a:ahLst/>
            <a:rect l="l" t="t" r="r" b="b"/>
            <a:pathLst>
              <a:path w="1771" h="1248">
                <a:moveTo>
                  <a:pt x="111" y="153"/>
                </a:moveTo>
                <a:cubicBezTo>
                  <a:pt x="81" y="182"/>
                  <a:pt x="63" y="230"/>
                  <a:pt x="43" y="268"/>
                </a:cubicBezTo>
                <a:cubicBezTo>
                  <a:pt x="40" y="281"/>
                  <a:pt x="38" y="294"/>
                  <a:pt x="34" y="307"/>
                </a:cubicBezTo>
                <a:cubicBezTo>
                  <a:pt x="28" y="326"/>
                  <a:pt x="15" y="364"/>
                  <a:pt x="15" y="364"/>
                </a:cubicBezTo>
                <a:cubicBezTo>
                  <a:pt x="0" y="463"/>
                  <a:pt x="13" y="556"/>
                  <a:pt x="34" y="652"/>
                </a:cubicBezTo>
                <a:cubicBezTo>
                  <a:pt x="57" y="755"/>
                  <a:pt x="73" y="856"/>
                  <a:pt x="120" y="950"/>
                </a:cubicBezTo>
                <a:cubicBezTo>
                  <a:pt x="125" y="959"/>
                  <a:pt x="124" y="971"/>
                  <a:pt x="130" y="979"/>
                </a:cubicBezTo>
                <a:cubicBezTo>
                  <a:pt x="137" y="988"/>
                  <a:pt x="150" y="991"/>
                  <a:pt x="159" y="998"/>
                </a:cubicBezTo>
                <a:cubicBezTo>
                  <a:pt x="204" y="1036"/>
                  <a:pt x="255" y="1084"/>
                  <a:pt x="312" y="1104"/>
                </a:cubicBezTo>
                <a:cubicBezTo>
                  <a:pt x="390" y="1179"/>
                  <a:pt x="497" y="1195"/>
                  <a:pt x="600" y="1209"/>
                </a:cubicBezTo>
                <a:cubicBezTo>
                  <a:pt x="691" y="1222"/>
                  <a:pt x="778" y="1238"/>
                  <a:pt x="869" y="1248"/>
                </a:cubicBezTo>
                <a:cubicBezTo>
                  <a:pt x="1035" y="1241"/>
                  <a:pt x="1187" y="1225"/>
                  <a:pt x="1349" y="1200"/>
                </a:cubicBezTo>
                <a:cubicBezTo>
                  <a:pt x="1426" y="1174"/>
                  <a:pt x="1502" y="1146"/>
                  <a:pt x="1579" y="1123"/>
                </a:cubicBezTo>
                <a:cubicBezTo>
                  <a:pt x="1633" y="1107"/>
                  <a:pt x="1685" y="1097"/>
                  <a:pt x="1733" y="1065"/>
                </a:cubicBezTo>
                <a:cubicBezTo>
                  <a:pt x="1756" y="997"/>
                  <a:pt x="1741" y="1025"/>
                  <a:pt x="1771" y="979"/>
                </a:cubicBezTo>
                <a:cubicBezTo>
                  <a:pt x="1764" y="866"/>
                  <a:pt x="1757" y="815"/>
                  <a:pt x="1733" y="710"/>
                </a:cubicBezTo>
                <a:cubicBezTo>
                  <a:pt x="1720" y="655"/>
                  <a:pt x="1680" y="600"/>
                  <a:pt x="1647" y="556"/>
                </a:cubicBezTo>
                <a:cubicBezTo>
                  <a:pt x="1605" y="501"/>
                  <a:pt x="1593" y="445"/>
                  <a:pt x="1531" y="403"/>
                </a:cubicBezTo>
                <a:cubicBezTo>
                  <a:pt x="1451" y="349"/>
                  <a:pt x="1423" y="346"/>
                  <a:pt x="1320" y="316"/>
                </a:cubicBezTo>
                <a:cubicBezTo>
                  <a:pt x="1246" y="294"/>
                  <a:pt x="1175" y="265"/>
                  <a:pt x="1099" y="249"/>
                </a:cubicBezTo>
                <a:cubicBezTo>
                  <a:pt x="1041" y="237"/>
                  <a:pt x="951" y="225"/>
                  <a:pt x="888" y="201"/>
                </a:cubicBezTo>
                <a:cubicBezTo>
                  <a:pt x="684" y="124"/>
                  <a:pt x="481" y="34"/>
                  <a:pt x="264" y="0"/>
                </a:cubicBezTo>
                <a:cubicBezTo>
                  <a:pt x="219" y="9"/>
                  <a:pt x="190" y="17"/>
                  <a:pt x="149" y="38"/>
                </a:cubicBezTo>
                <a:cubicBezTo>
                  <a:pt x="123" y="77"/>
                  <a:pt x="82" y="108"/>
                  <a:pt x="43" y="134"/>
                </a:cubicBezTo>
                <a:cubicBezTo>
                  <a:pt x="40" y="144"/>
                  <a:pt x="24" y="194"/>
                  <a:pt x="24" y="201"/>
                </a:cubicBezTo>
                <a:cubicBezTo>
                  <a:pt x="24" y="236"/>
                  <a:pt x="34" y="272"/>
                  <a:pt x="34" y="307"/>
                </a:cubicBezTo>
                <a:lnTo>
                  <a:pt x="53" y="230"/>
                </a:lnTo>
                <a:lnTo>
                  <a:pt x="5" y="18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88200" y="979560"/>
            <a:ext cx="774720" cy="50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9366800">
            <a:off x="2474640" y="1657440"/>
            <a:ext cx="2287440" cy="65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789280" y="1270080"/>
            <a:ext cx="1960560" cy="15094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31800" y="5359320"/>
            <a:ext cx="1009800" cy="60012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2400000">
            <a:off x="2012760" y="3224160"/>
            <a:ext cx="387360" cy="362160"/>
          </a:xfrm>
          <a:prstGeom prst="leftRightArrow">
            <a:avLst>
              <a:gd name="adj1" fmla="val 50000"/>
              <a:gd name="adj2" fmla="val 2129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2400000">
            <a:off x="4106520" y="4671720"/>
            <a:ext cx="388800" cy="361800"/>
          </a:xfrm>
          <a:prstGeom prst="leftRightArrow">
            <a:avLst>
              <a:gd name="adj1" fmla="val 50000"/>
              <a:gd name="adj2" fmla="val 2139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1935600">
            <a:off x="306000" y="4236840"/>
            <a:ext cx="1008000" cy="36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5114880" y="2209680"/>
            <a:ext cx="698400" cy="10875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1779480" y="4599000"/>
            <a:ext cx="465120" cy="8697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90880" y="3224160"/>
            <a:ext cx="215640" cy="10717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68640" y="2644920"/>
            <a:ext cx="339480" cy="55404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22360" y="2500200"/>
            <a:ext cx="1227240" cy="79704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719520" y="2427120"/>
            <a:ext cx="465120" cy="36216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495680" y="1993680"/>
            <a:ext cx="11638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495680" y="2209320"/>
            <a:ext cx="13176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95680" y="2500200"/>
            <a:ext cx="131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3641760" y="4454280"/>
            <a:ext cx="85392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64000" y="4744800"/>
            <a:ext cx="1163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35000" y="5684760"/>
            <a:ext cx="155880" cy="146160"/>
          </a:xfrm>
          <a:prstGeom prst="hexagon">
            <a:avLst>
              <a:gd name="adj" fmla="val 2666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27000" y="5178600"/>
            <a:ext cx="155520" cy="144360"/>
          </a:xfrm>
          <a:prstGeom prst="hexagon">
            <a:avLst>
              <a:gd name="adj" fmla="val 2693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69880" y="4309920"/>
            <a:ext cx="155880" cy="144720"/>
          </a:xfrm>
          <a:prstGeom prst="hexagon">
            <a:avLst>
              <a:gd name="adj" fmla="val 26928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314360" y="3803760"/>
            <a:ext cx="155520" cy="144360"/>
          </a:xfrm>
          <a:prstGeom prst="hexagon">
            <a:avLst>
              <a:gd name="adj" fmla="val 2693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57240" y="4165560"/>
            <a:ext cx="155880" cy="144360"/>
          </a:xfrm>
          <a:prstGeom prst="hexagon">
            <a:avLst>
              <a:gd name="adj" fmla="val 2699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33760" y="4092480"/>
            <a:ext cx="155520" cy="144720"/>
          </a:xfrm>
          <a:prstGeom prst="hexagon">
            <a:avLst>
              <a:gd name="adj" fmla="val 2686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25920" y="1270080"/>
            <a:ext cx="155880" cy="144360"/>
          </a:xfrm>
          <a:prstGeom prst="hexagon">
            <a:avLst>
              <a:gd name="adj" fmla="val 2699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4400" y="4527720"/>
            <a:ext cx="542880" cy="433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168640" y="5251320"/>
            <a:ext cx="542880" cy="4334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54400" y="5540400"/>
            <a:ext cx="154080" cy="2174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75040" y="4960800"/>
            <a:ext cx="154080" cy="217800"/>
          </a:xfrm>
          <a:custGeom>
            <a:avLst/>
            <a:gdLst>
              <a:gd name="textAreaLeft" fmla="*/ 0 w 154080"/>
              <a:gd name="textAreaRight" fmla="*/ 154440 w 15408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0160" y="5178600"/>
            <a:ext cx="155520" cy="217440"/>
          </a:xfrm>
          <a:custGeom>
            <a:avLst/>
            <a:gdLst>
              <a:gd name="textAreaLeft" fmla="*/ 0 w 155520"/>
              <a:gd name="textAreaRight" fmla="*/ 155520 w 1555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38560" y="5178600"/>
            <a:ext cx="154080" cy="2174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5975280"/>
            <a:ext cx="154080" cy="2174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38560" y="5902200"/>
            <a:ext cx="154080" cy="2174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97280" y="5975280"/>
            <a:ext cx="155520" cy="217440"/>
          </a:xfrm>
          <a:custGeom>
            <a:avLst/>
            <a:gdLst>
              <a:gd name="textAreaLeft" fmla="*/ 0 w 155520"/>
              <a:gd name="textAreaRight" fmla="*/ 155520 w 1555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20140200">
            <a:off x="4805280" y="1196640"/>
            <a:ext cx="387360" cy="361800"/>
          </a:xfrm>
          <a:prstGeom prst="leftRightArrow">
            <a:avLst>
              <a:gd name="adj1" fmla="val 50000"/>
              <a:gd name="adj2" fmla="val 2131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00560" y="2862360"/>
            <a:ext cx="388800" cy="361800"/>
          </a:xfrm>
          <a:prstGeom prst="leftRightArrow">
            <a:avLst>
              <a:gd name="adj1" fmla="val 50000"/>
              <a:gd name="adj2" fmla="val 2139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2400000">
            <a:off x="2168640" y="4889520"/>
            <a:ext cx="387360" cy="361800"/>
          </a:xfrm>
          <a:prstGeom prst="leftRightArrow">
            <a:avLst>
              <a:gd name="adj1" fmla="val 50000"/>
              <a:gd name="adj2" fmla="val 21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3360600">
            <a:off x="1172160" y="3210480"/>
            <a:ext cx="362160" cy="388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97280" y="2573280"/>
            <a:ext cx="387360" cy="28908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098880" y="2282760"/>
            <a:ext cx="387360" cy="29052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3558960" y="2669400"/>
            <a:ext cx="24336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62400" y="2717640"/>
            <a:ext cx="23328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486240" y="2209680"/>
            <a:ext cx="77760" cy="217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023640" y="2628720"/>
            <a:ext cx="153720" cy="4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3561120" y="3631680"/>
            <a:ext cx="185040" cy="239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2177640" y="4018320"/>
            <a:ext cx="57600" cy="22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78240" y="4454640"/>
            <a:ext cx="23328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168640" y="4237200"/>
            <a:ext cx="309600" cy="2174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40160" y="2209680"/>
            <a:ext cx="155520" cy="2174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797280" y="2862360"/>
            <a:ext cx="155520" cy="2174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41760" y="3006720"/>
            <a:ext cx="311040" cy="29052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43360" y="1920960"/>
            <a:ext cx="155520" cy="144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943360" y="2644920"/>
            <a:ext cx="155520" cy="144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0480" y="2644920"/>
            <a:ext cx="233280" cy="2905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021120" y="3803760"/>
            <a:ext cx="155520" cy="144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69880" y="3875040"/>
            <a:ext cx="155880" cy="1461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79480" y="4383000"/>
            <a:ext cx="23364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1464840" y="4261320"/>
            <a:ext cx="241920" cy="2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625760" y="4237200"/>
            <a:ext cx="231480" cy="2174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541160" y="5542920"/>
            <a:ext cx="91080" cy="212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23800" y="5895720"/>
            <a:ext cx="14400" cy="23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392120" y="5684760"/>
            <a:ext cx="233640" cy="2174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1480" y="5396040"/>
            <a:ext cx="311040" cy="21744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086000">
            <a:off x="3176640" y="2500200"/>
            <a:ext cx="309600" cy="1882800"/>
          </a:xfrm>
          <a:custGeom>
            <a:avLst/>
            <a:gdLst>
              <a:gd name="textAreaLeft" fmla="*/ 0 w 309600"/>
              <a:gd name="textAreaRight" fmla="*/ 309960 w 30960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61880" y="4165560"/>
            <a:ext cx="231840" cy="433440"/>
          </a:xfrm>
          <a:prstGeom prst="upArrow">
            <a:avLst>
              <a:gd name="adj1" fmla="val 50000"/>
              <a:gd name="adj2" fmla="val 46739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8112800">
            <a:off x="4385880" y="4185720"/>
            <a:ext cx="217800" cy="465120"/>
          </a:xfrm>
          <a:prstGeom prst="upArrow">
            <a:avLst>
              <a:gd name="adj1" fmla="val 50000"/>
              <a:gd name="adj2" fmla="val 53388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21340200">
            <a:off x="5891040" y="2355840"/>
            <a:ext cx="932040" cy="217440"/>
          </a:xfrm>
          <a:prstGeom prst="leftArrow">
            <a:avLst>
              <a:gd name="adj1" fmla="val 50000"/>
              <a:gd name="adj2" fmla="val 107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20350800">
            <a:off x="5890680" y="835200"/>
            <a:ext cx="1086120" cy="217440"/>
          </a:xfrm>
          <a:prstGeom prst="leftArrow">
            <a:avLst>
              <a:gd name="adj1" fmla="val 50000"/>
              <a:gd name="adj2" fmla="val 1248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312200">
            <a:off x="3020760" y="5830560"/>
            <a:ext cx="542880" cy="361800"/>
          </a:xfrm>
          <a:prstGeom prst="leftArrow">
            <a:avLst>
              <a:gd name="adj1" fmla="val 50000"/>
              <a:gd name="adj2" fmla="val 3751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549200">
            <a:off x="3796920" y="1920600"/>
            <a:ext cx="490680" cy="166536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5640" y="3759120"/>
            <a:ext cx="2963880" cy="224496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10440" y="1703520"/>
            <a:ext cx="1628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es espaces en voie d’intégratio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, dynamisés par la mondialisation, les activités transfrontaliè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68640" y="5106960"/>
            <a:ext cx="1413000" cy="506520"/>
          </a:xfrm>
          <a:custGeom>
            <a:avLst/>
            <a:gdLst/>
            <a:ahLst/>
            <a:rect l="l" t="t" r="r" b="b"/>
            <a:pathLst>
              <a:path w="875" h="336">
                <a:moveTo>
                  <a:pt x="0" y="115"/>
                </a:moveTo>
                <a:cubicBezTo>
                  <a:pt x="16" y="112"/>
                  <a:pt x="32" y="110"/>
                  <a:pt x="48" y="106"/>
                </a:cubicBezTo>
                <a:cubicBezTo>
                  <a:pt x="58" y="104"/>
                  <a:pt x="74" y="106"/>
                  <a:pt x="77" y="96"/>
                </a:cubicBezTo>
                <a:cubicBezTo>
                  <a:pt x="80" y="87"/>
                  <a:pt x="64" y="83"/>
                  <a:pt x="57" y="77"/>
                </a:cubicBezTo>
                <a:cubicBezTo>
                  <a:pt x="93" y="43"/>
                  <a:pt x="145" y="35"/>
                  <a:pt x="192" y="19"/>
                </a:cubicBezTo>
                <a:cubicBezTo>
                  <a:pt x="306" y="94"/>
                  <a:pt x="465" y="96"/>
                  <a:pt x="595" y="106"/>
                </a:cubicBezTo>
                <a:cubicBezTo>
                  <a:pt x="642" y="117"/>
                  <a:pt x="676" y="139"/>
                  <a:pt x="720" y="154"/>
                </a:cubicBezTo>
                <a:cubicBezTo>
                  <a:pt x="739" y="213"/>
                  <a:pt x="798" y="242"/>
                  <a:pt x="854" y="259"/>
                </a:cubicBezTo>
                <a:cubicBezTo>
                  <a:pt x="860" y="269"/>
                  <a:pt x="875" y="277"/>
                  <a:pt x="873" y="288"/>
                </a:cubicBezTo>
                <a:cubicBezTo>
                  <a:pt x="871" y="299"/>
                  <a:pt x="855" y="302"/>
                  <a:pt x="845" y="307"/>
                </a:cubicBezTo>
                <a:cubicBezTo>
                  <a:pt x="817" y="319"/>
                  <a:pt x="787" y="326"/>
                  <a:pt x="758" y="336"/>
                </a:cubicBezTo>
                <a:cubicBezTo>
                  <a:pt x="691" y="324"/>
                  <a:pt x="644" y="317"/>
                  <a:pt x="576" y="326"/>
                </a:cubicBezTo>
                <a:cubicBezTo>
                  <a:pt x="589" y="306"/>
                  <a:pt x="609" y="294"/>
                  <a:pt x="585" y="269"/>
                </a:cubicBezTo>
                <a:cubicBezTo>
                  <a:pt x="582" y="266"/>
                  <a:pt x="531" y="251"/>
                  <a:pt x="528" y="250"/>
                </a:cubicBezTo>
                <a:cubicBezTo>
                  <a:pt x="515" y="244"/>
                  <a:pt x="503" y="235"/>
                  <a:pt x="489" y="230"/>
                </a:cubicBezTo>
                <a:cubicBezTo>
                  <a:pt x="470" y="222"/>
                  <a:pt x="449" y="222"/>
                  <a:pt x="432" y="211"/>
                </a:cubicBezTo>
                <a:cubicBezTo>
                  <a:pt x="393" y="185"/>
                  <a:pt x="360" y="159"/>
                  <a:pt x="317" y="144"/>
                </a:cubicBezTo>
                <a:cubicBezTo>
                  <a:pt x="266" y="157"/>
                  <a:pt x="212" y="158"/>
                  <a:pt x="163" y="134"/>
                </a:cubicBezTo>
                <a:cubicBezTo>
                  <a:pt x="134" y="119"/>
                  <a:pt x="120" y="106"/>
                  <a:pt x="86" y="106"/>
                </a:cubicBezTo>
                <a:cubicBezTo>
                  <a:pt x="83" y="93"/>
                  <a:pt x="77" y="67"/>
                  <a:pt x="77" y="67"/>
                </a:cubicBezTo>
                <a:cubicBezTo>
                  <a:pt x="90" y="77"/>
                  <a:pt x="108" y="82"/>
                  <a:pt x="115" y="96"/>
                </a:cubicBezTo>
                <a:cubicBezTo>
                  <a:pt x="119" y="105"/>
                  <a:pt x="86" y="86"/>
                  <a:pt x="86" y="86"/>
                </a:cubicBezTo>
                <a:cubicBezTo>
                  <a:pt x="118" y="44"/>
                  <a:pt x="126" y="37"/>
                  <a:pt x="105" y="58"/>
                </a:cubicBezTo>
                <a:cubicBezTo>
                  <a:pt x="106" y="57"/>
                  <a:pt x="143" y="20"/>
                  <a:pt x="144" y="19"/>
                </a:cubicBezTo>
                <a:cubicBezTo>
                  <a:pt x="314" y="49"/>
                  <a:pt x="356" y="74"/>
                  <a:pt x="288" y="38"/>
                </a:cubicBezTo>
                <a:lnTo>
                  <a:pt x="211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 rot="20794800">
            <a:off x="1009080" y="3755880"/>
            <a:ext cx="2016000" cy="146160"/>
          </a:xfrm>
          <a:custGeom>
            <a:avLst/>
            <a:gdLst>
              <a:gd name="textAreaLeft" fmla="*/ 360 w 2016000"/>
              <a:gd name="textAreaRight" fmla="*/ 2016720 w 2016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228600" y="595440"/>
          <a:ext cx="7010280" cy="59814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595440"/>
                    <a:ext cx="7010280" cy="59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28600" y="2009880"/>
            <a:ext cx="3784680" cy="2503440"/>
          </a:xfrm>
          <a:custGeom>
            <a:avLst/>
            <a:gdLst/>
            <a:ahLst/>
            <a:rect l="l" t="t" r="r" b="b"/>
            <a:pathLst>
              <a:path w="2342" h="1639">
                <a:moveTo>
                  <a:pt x="1574" y="36"/>
                </a:moveTo>
                <a:cubicBezTo>
                  <a:pt x="1555" y="49"/>
                  <a:pt x="1536" y="61"/>
                  <a:pt x="1517" y="74"/>
                </a:cubicBezTo>
                <a:cubicBezTo>
                  <a:pt x="1499" y="86"/>
                  <a:pt x="1504" y="118"/>
                  <a:pt x="1488" y="132"/>
                </a:cubicBezTo>
                <a:cubicBezTo>
                  <a:pt x="1463" y="153"/>
                  <a:pt x="1411" y="190"/>
                  <a:pt x="1382" y="209"/>
                </a:cubicBezTo>
                <a:cubicBezTo>
                  <a:pt x="1369" y="228"/>
                  <a:pt x="1357" y="247"/>
                  <a:pt x="1344" y="266"/>
                </a:cubicBezTo>
                <a:cubicBezTo>
                  <a:pt x="1338" y="276"/>
                  <a:pt x="1325" y="295"/>
                  <a:pt x="1325" y="295"/>
                </a:cubicBezTo>
                <a:cubicBezTo>
                  <a:pt x="1308" y="362"/>
                  <a:pt x="1295" y="476"/>
                  <a:pt x="1248" y="526"/>
                </a:cubicBezTo>
                <a:cubicBezTo>
                  <a:pt x="1234" y="567"/>
                  <a:pt x="1211" y="604"/>
                  <a:pt x="1190" y="641"/>
                </a:cubicBezTo>
                <a:cubicBezTo>
                  <a:pt x="1167" y="681"/>
                  <a:pt x="1154" y="725"/>
                  <a:pt x="1133" y="766"/>
                </a:cubicBezTo>
                <a:cubicBezTo>
                  <a:pt x="1115" y="801"/>
                  <a:pt x="1103" y="853"/>
                  <a:pt x="1075" y="881"/>
                </a:cubicBezTo>
                <a:cubicBezTo>
                  <a:pt x="1036" y="920"/>
                  <a:pt x="984" y="951"/>
                  <a:pt x="941" y="986"/>
                </a:cubicBezTo>
                <a:cubicBezTo>
                  <a:pt x="915" y="1007"/>
                  <a:pt x="891" y="1036"/>
                  <a:pt x="864" y="1054"/>
                </a:cubicBezTo>
                <a:cubicBezTo>
                  <a:pt x="828" y="1078"/>
                  <a:pt x="787" y="1099"/>
                  <a:pt x="749" y="1121"/>
                </a:cubicBezTo>
                <a:cubicBezTo>
                  <a:pt x="666" y="1170"/>
                  <a:pt x="720" y="1149"/>
                  <a:pt x="662" y="1169"/>
                </a:cubicBezTo>
                <a:cubicBezTo>
                  <a:pt x="649" y="1179"/>
                  <a:pt x="638" y="1190"/>
                  <a:pt x="624" y="1198"/>
                </a:cubicBezTo>
                <a:cubicBezTo>
                  <a:pt x="615" y="1203"/>
                  <a:pt x="603" y="1201"/>
                  <a:pt x="595" y="1207"/>
                </a:cubicBezTo>
                <a:cubicBezTo>
                  <a:pt x="584" y="1214"/>
                  <a:pt x="577" y="1228"/>
                  <a:pt x="566" y="1236"/>
                </a:cubicBezTo>
                <a:cubicBezTo>
                  <a:pt x="558" y="1242"/>
                  <a:pt x="546" y="1241"/>
                  <a:pt x="537" y="1246"/>
                </a:cubicBezTo>
                <a:cubicBezTo>
                  <a:pt x="505" y="1262"/>
                  <a:pt x="475" y="1279"/>
                  <a:pt x="441" y="1294"/>
                </a:cubicBezTo>
                <a:cubicBezTo>
                  <a:pt x="344" y="1336"/>
                  <a:pt x="452" y="1296"/>
                  <a:pt x="374" y="1322"/>
                </a:cubicBezTo>
                <a:cubicBezTo>
                  <a:pt x="355" y="1328"/>
                  <a:pt x="317" y="1342"/>
                  <a:pt x="317" y="1342"/>
                </a:cubicBezTo>
                <a:cubicBezTo>
                  <a:pt x="215" y="1307"/>
                  <a:pt x="104" y="1310"/>
                  <a:pt x="0" y="1332"/>
                </a:cubicBezTo>
                <a:cubicBezTo>
                  <a:pt x="38" y="1357"/>
                  <a:pt x="70" y="1381"/>
                  <a:pt x="105" y="1409"/>
                </a:cubicBezTo>
                <a:cubicBezTo>
                  <a:pt x="126" y="1426"/>
                  <a:pt x="149" y="1454"/>
                  <a:pt x="173" y="1466"/>
                </a:cubicBezTo>
                <a:cubicBezTo>
                  <a:pt x="212" y="1486"/>
                  <a:pt x="260" y="1484"/>
                  <a:pt x="297" y="1505"/>
                </a:cubicBezTo>
                <a:cubicBezTo>
                  <a:pt x="340" y="1529"/>
                  <a:pt x="385" y="1576"/>
                  <a:pt x="432" y="1591"/>
                </a:cubicBezTo>
                <a:cubicBezTo>
                  <a:pt x="461" y="1610"/>
                  <a:pt x="476" y="1629"/>
                  <a:pt x="509" y="1639"/>
                </a:cubicBezTo>
                <a:cubicBezTo>
                  <a:pt x="528" y="1633"/>
                  <a:pt x="547" y="1626"/>
                  <a:pt x="566" y="1620"/>
                </a:cubicBezTo>
                <a:cubicBezTo>
                  <a:pt x="602" y="1608"/>
                  <a:pt x="628" y="1570"/>
                  <a:pt x="662" y="1553"/>
                </a:cubicBezTo>
                <a:cubicBezTo>
                  <a:pt x="723" y="1523"/>
                  <a:pt x="778" y="1485"/>
                  <a:pt x="835" y="1447"/>
                </a:cubicBezTo>
                <a:cubicBezTo>
                  <a:pt x="876" y="1420"/>
                  <a:pt x="923" y="1376"/>
                  <a:pt x="969" y="1361"/>
                </a:cubicBezTo>
                <a:cubicBezTo>
                  <a:pt x="1035" y="1299"/>
                  <a:pt x="913" y="1409"/>
                  <a:pt x="1046" y="1322"/>
                </a:cubicBezTo>
                <a:cubicBezTo>
                  <a:pt x="1160" y="1247"/>
                  <a:pt x="1333" y="1262"/>
                  <a:pt x="1459" y="1255"/>
                </a:cubicBezTo>
                <a:cubicBezTo>
                  <a:pt x="1520" y="1258"/>
                  <a:pt x="1581" y="1259"/>
                  <a:pt x="1641" y="1265"/>
                </a:cubicBezTo>
                <a:cubicBezTo>
                  <a:pt x="1677" y="1269"/>
                  <a:pt x="1712" y="1278"/>
                  <a:pt x="1747" y="1284"/>
                </a:cubicBezTo>
                <a:cubicBezTo>
                  <a:pt x="1766" y="1287"/>
                  <a:pt x="1805" y="1294"/>
                  <a:pt x="1805" y="1294"/>
                </a:cubicBezTo>
                <a:cubicBezTo>
                  <a:pt x="1905" y="1288"/>
                  <a:pt x="1975" y="1293"/>
                  <a:pt x="2064" y="1265"/>
                </a:cubicBezTo>
                <a:cubicBezTo>
                  <a:pt x="2110" y="1235"/>
                  <a:pt x="2133" y="1189"/>
                  <a:pt x="2179" y="1159"/>
                </a:cubicBezTo>
                <a:cubicBezTo>
                  <a:pt x="2216" y="1104"/>
                  <a:pt x="2246" y="1048"/>
                  <a:pt x="2285" y="996"/>
                </a:cubicBezTo>
                <a:cubicBezTo>
                  <a:pt x="2299" y="978"/>
                  <a:pt x="2310" y="957"/>
                  <a:pt x="2323" y="938"/>
                </a:cubicBezTo>
                <a:cubicBezTo>
                  <a:pt x="2329" y="929"/>
                  <a:pt x="2342" y="910"/>
                  <a:pt x="2342" y="910"/>
                </a:cubicBezTo>
                <a:cubicBezTo>
                  <a:pt x="2258" y="903"/>
                  <a:pt x="2198" y="925"/>
                  <a:pt x="2227" y="842"/>
                </a:cubicBezTo>
                <a:cubicBezTo>
                  <a:pt x="2218" y="760"/>
                  <a:pt x="2217" y="692"/>
                  <a:pt x="2237" y="612"/>
                </a:cubicBezTo>
                <a:cubicBezTo>
                  <a:pt x="2252" y="552"/>
                  <a:pt x="2238" y="614"/>
                  <a:pt x="2265" y="554"/>
                </a:cubicBezTo>
                <a:cubicBezTo>
                  <a:pt x="2302" y="472"/>
                  <a:pt x="2326" y="373"/>
                  <a:pt x="2342" y="286"/>
                </a:cubicBezTo>
                <a:cubicBezTo>
                  <a:pt x="2322" y="201"/>
                  <a:pt x="2240" y="233"/>
                  <a:pt x="2150" y="228"/>
                </a:cubicBezTo>
                <a:cubicBezTo>
                  <a:pt x="2086" y="224"/>
                  <a:pt x="2022" y="221"/>
                  <a:pt x="1958" y="218"/>
                </a:cubicBezTo>
                <a:cubicBezTo>
                  <a:pt x="1942" y="215"/>
                  <a:pt x="1926" y="213"/>
                  <a:pt x="1910" y="209"/>
                </a:cubicBezTo>
                <a:cubicBezTo>
                  <a:pt x="1891" y="204"/>
                  <a:pt x="1853" y="190"/>
                  <a:pt x="1853" y="190"/>
                </a:cubicBezTo>
                <a:cubicBezTo>
                  <a:pt x="1824" y="161"/>
                  <a:pt x="1789" y="139"/>
                  <a:pt x="1757" y="113"/>
                </a:cubicBezTo>
                <a:cubicBezTo>
                  <a:pt x="1725" y="88"/>
                  <a:pt x="1691" y="49"/>
                  <a:pt x="1651" y="36"/>
                </a:cubicBezTo>
                <a:cubicBezTo>
                  <a:pt x="1632" y="30"/>
                  <a:pt x="1612" y="23"/>
                  <a:pt x="1593" y="17"/>
                </a:cubicBezTo>
                <a:cubicBezTo>
                  <a:pt x="1584" y="14"/>
                  <a:pt x="1572" y="0"/>
                  <a:pt x="1565" y="7"/>
                </a:cubicBezTo>
                <a:cubicBezTo>
                  <a:pt x="1558" y="14"/>
                  <a:pt x="1571" y="26"/>
                  <a:pt x="1574" y="36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rot="19366800">
            <a:off x="2466720" y="1376280"/>
            <a:ext cx="2216160" cy="87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13200" y="4151160"/>
            <a:ext cx="2862000" cy="1905120"/>
          </a:xfrm>
          <a:custGeom>
            <a:avLst/>
            <a:gdLst/>
            <a:ahLst/>
            <a:rect l="l" t="t" r="r" b="b"/>
            <a:pathLst>
              <a:path w="1771" h="1248">
                <a:moveTo>
                  <a:pt x="111" y="153"/>
                </a:moveTo>
                <a:cubicBezTo>
                  <a:pt x="81" y="182"/>
                  <a:pt x="63" y="230"/>
                  <a:pt x="43" y="268"/>
                </a:cubicBezTo>
                <a:cubicBezTo>
                  <a:pt x="40" y="281"/>
                  <a:pt x="38" y="294"/>
                  <a:pt x="34" y="307"/>
                </a:cubicBezTo>
                <a:cubicBezTo>
                  <a:pt x="28" y="326"/>
                  <a:pt x="15" y="364"/>
                  <a:pt x="15" y="364"/>
                </a:cubicBezTo>
                <a:cubicBezTo>
                  <a:pt x="0" y="463"/>
                  <a:pt x="13" y="556"/>
                  <a:pt x="34" y="652"/>
                </a:cubicBezTo>
                <a:cubicBezTo>
                  <a:pt x="57" y="755"/>
                  <a:pt x="73" y="856"/>
                  <a:pt x="120" y="950"/>
                </a:cubicBezTo>
                <a:cubicBezTo>
                  <a:pt x="125" y="959"/>
                  <a:pt x="124" y="971"/>
                  <a:pt x="130" y="979"/>
                </a:cubicBezTo>
                <a:cubicBezTo>
                  <a:pt x="137" y="988"/>
                  <a:pt x="150" y="991"/>
                  <a:pt x="159" y="998"/>
                </a:cubicBezTo>
                <a:cubicBezTo>
                  <a:pt x="204" y="1036"/>
                  <a:pt x="255" y="1084"/>
                  <a:pt x="312" y="1104"/>
                </a:cubicBezTo>
                <a:cubicBezTo>
                  <a:pt x="390" y="1179"/>
                  <a:pt x="497" y="1195"/>
                  <a:pt x="600" y="1209"/>
                </a:cubicBezTo>
                <a:cubicBezTo>
                  <a:pt x="691" y="1222"/>
                  <a:pt x="778" y="1238"/>
                  <a:pt x="869" y="1248"/>
                </a:cubicBezTo>
                <a:cubicBezTo>
                  <a:pt x="1035" y="1241"/>
                  <a:pt x="1187" y="1225"/>
                  <a:pt x="1349" y="1200"/>
                </a:cubicBezTo>
                <a:cubicBezTo>
                  <a:pt x="1426" y="1174"/>
                  <a:pt x="1502" y="1146"/>
                  <a:pt x="1579" y="1123"/>
                </a:cubicBezTo>
                <a:cubicBezTo>
                  <a:pt x="1633" y="1107"/>
                  <a:pt x="1685" y="1097"/>
                  <a:pt x="1733" y="1065"/>
                </a:cubicBezTo>
                <a:cubicBezTo>
                  <a:pt x="1756" y="997"/>
                  <a:pt x="1741" y="1025"/>
                  <a:pt x="1771" y="979"/>
                </a:cubicBezTo>
                <a:cubicBezTo>
                  <a:pt x="1764" y="866"/>
                  <a:pt x="1757" y="815"/>
                  <a:pt x="1733" y="710"/>
                </a:cubicBezTo>
                <a:cubicBezTo>
                  <a:pt x="1720" y="655"/>
                  <a:pt x="1680" y="600"/>
                  <a:pt x="1647" y="556"/>
                </a:cubicBezTo>
                <a:cubicBezTo>
                  <a:pt x="1605" y="501"/>
                  <a:pt x="1593" y="445"/>
                  <a:pt x="1531" y="403"/>
                </a:cubicBezTo>
                <a:cubicBezTo>
                  <a:pt x="1451" y="349"/>
                  <a:pt x="1423" y="346"/>
                  <a:pt x="1320" y="316"/>
                </a:cubicBezTo>
                <a:cubicBezTo>
                  <a:pt x="1246" y="294"/>
                  <a:pt x="1175" y="265"/>
                  <a:pt x="1099" y="249"/>
                </a:cubicBezTo>
                <a:cubicBezTo>
                  <a:pt x="1041" y="237"/>
                  <a:pt x="951" y="225"/>
                  <a:pt x="888" y="201"/>
                </a:cubicBezTo>
                <a:cubicBezTo>
                  <a:pt x="684" y="124"/>
                  <a:pt x="481" y="34"/>
                  <a:pt x="264" y="0"/>
                </a:cubicBezTo>
                <a:cubicBezTo>
                  <a:pt x="219" y="9"/>
                  <a:pt x="190" y="17"/>
                  <a:pt x="149" y="38"/>
                </a:cubicBezTo>
                <a:cubicBezTo>
                  <a:pt x="123" y="77"/>
                  <a:pt x="82" y="108"/>
                  <a:pt x="43" y="134"/>
                </a:cubicBezTo>
                <a:cubicBezTo>
                  <a:pt x="40" y="144"/>
                  <a:pt x="24" y="194"/>
                  <a:pt x="24" y="201"/>
                </a:cubicBezTo>
                <a:cubicBezTo>
                  <a:pt x="24" y="236"/>
                  <a:pt x="34" y="272"/>
                  <a:pt x="34" y="307"/>
                </a:cubicBezTo>
                <a:lnTo>
                  <a:pt x="53" y="230"/>
                </a:lnTo>
                <a:lnTo>
                  <a:pt x="5" y="18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89280" y="1203480"/>
            <a:ext cx="1960560" cy="152856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1800" y="5345280"/>
            <a:ext cx="1009800" cy="60768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583160" y="457200"/>
            <a:ext cx="1944720" cy="16398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2400000">
            <a:off x="2012760" y="3182400"/>
            <a:ext cx="387360" cy="366840"/>
          </a:xfrm>
          <a:prstGeom prst="leftRightArrow">
            <a:avLst>
              <a:gd name="adj1" fmla="val 50000"/>
              <a:gd name="adj2" fmla="val 2102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2400000">
            <a:off x="4106880" y="4648320"/>
            <a:ext cx="388800" cy="366480"/>
          </a:xfrm>
          <a:prstGeom prst="leftRightArrow">
            <a:avLst>
              <a:gd name="adj1" fmla="val 50000"/>
              <a:gd name="adj2" fmla="val 2112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1935600">
            <a:off x="306000" y="4208040"/>
            <a:ext cx="1008000" cy="366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114880" y="2155680"/>
            <a:ext cx="698400" cy="1100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779480" y="4575240"/>
            <a:ext cx="465120" cy="87948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90880" y="3182760"/>
            <a:ext cx="215640" cy="10843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68640" y="2595600"/>
            <a:ext cx="339480" cy="56052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22360" y="2449440"/>
            <a:ext cx="1227240" cy="80640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19520" y="2376360"/>
            <a:ext cx="465120" cy="36540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95680" y="1935000"/>
            <a:ext cx="116388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4495680" y="2155680"/>
            <a:ext cx="131760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495680" y="2449440"/>
            <a:ext cx="131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641760" y="4428720"/>
            <a:ext cx="85392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564000" y="4721400"/>
            <a:ext cx="116352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35000" y="5675400"/>
            <a:ext cx="155880" cy="145800"/>
          </a:xfrm>
          <a:prstGeom prst="hexagon">
            <a:avLst>
              <a:gd name="adj" fmla="val 26728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927000" y="5162400"/>
            <a:ext cx="155520" cy="146160"/>
          </a:xfrm>
          <a:prstGeom prst="hexagon">
            <a:avLst>
              <a:gd name="adj" fmla="val 2660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69880" y="4281480"/>
            <a:ext cx="155880" cy="147600"/>
          </a:xfrm>
          <a:prstGeom prst="hexagon">
            <a:avLst>
              <a:gd name="adj" fmla="val 2640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314360" y="3768840"/>
            <a:ext cx="155520" cy="145800"/>
          </a:xfrm>
          <a:prstGeom prst="hexagon">
            <a:avLst>
              <a:gd name="adj" fmla="val 2666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57240" y="4135320"/>
            <a:ext cx="155880" cy="146160"/>
          </a:xfrm>
          <a:prstGeom prst="hexagon">
            <a:avLst>
              <a:gd name="adj" fmla="val 2666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33760" y="4062240"/>
            <a:ext cx="155520" cy="146160"/>
          </a:xfrm>
          <a:prstGeom prst="hexagon">
            <a:avLst>
              <a:gd name="adj" fmla="val 2660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425920" y="1203480"/>
            <a:ext cx="155880" cy="145800"/>
          </a:xfrm>
          <a:prstGeom prst="hexagon">
            <a:avLst>
              <a:gd name="adj" fmla="val 26728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254400" y="4502160"/>
            <a:ext cx="542880" cy="4395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68640" y="5235480"/>
            <a:ext cx="542880" cy="4399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54400" y="5529240"/>
            <a:ext cx="154080" cy="2192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75040" y="4941720"/>
            <a:ext cx="154080" cy="220680"/>
          </a:xfrm>
          <a:custGeom>
            <a:avLst/>
            <a:gdLst>
              <a:gd name="textAreaLeft" fmla="*/ 0 w 154080"/>
              <a:gd name="textAreaRight" fmla="*/ 154440 w 1540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340160" y="5162400"/>
            <a:ext cx="155520" cy="219240"/>
          </a:xfrm>
          <a:custGeom>
            <a:avLst/>
            <a:gdLst>
              <a:gd name="textAreaLeft" fmla="*/ 0 w 155520"/>
              <a:gd name="textAreaRight" fmla="*/ 155520 w 1555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38560" y="5162400"/>
            <a:ext cx="154080" cy="2192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95680" y="5969160"/>
            <a:ext cx="154080" cy="218880"/>
          </a:xfrm>
          <a:custGeom>
            <a:avLst/>
            <a:gdLst>
              <a:gd name="textAreaLeft" fmla="*/ 0 w 154080"/>
              <a:gd name="textAreaRight" fmla="*/ 154440 w 154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38560" y="5894280"/>
            <a:ext cx="154080" cy="220680"/>
          </a:xfrm>
          <a:custGeom>
            <a:avLst/>
            <a:gdLst>
              <a:gd name="textAreaLeft" fmla="*/ 0 w 154080"/>
              <a:gd name="textAreaRight" fmla="*/ 154440 w 1540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797280" y="5969160"/>
            <a:ext cx="155520" cy="218880"/>
          </a:xfrm>
          <a:custGeom>
            <a:avLst/>
            <a:gdLst>
              <a:gd name="textAreaLeft" fmla="*/ 0 w 155520"/>
              <a:gd name="textAreaRight" fmla="*/ 155520 w 1555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20140200">
            <a:off x="4805280" y="1128600"/>
            <a:ext cx="387360" cy="366840"/>
          </a:xfrm>
          <a:prstGeom prst="leftRightArrow">
            <a:avLst>
              <a:gd name="adj1" fmla="val 50000"/>
              <a:gd name="adj2" fmla="val 2102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95680" y="2668680"/>
            <a:ext cx="387360" cy="366480"/>
          </a:xfrm>
          <a:prstGeom prst="leftRightArrow">
            <a:avLst>
              <a:gd name="adj1" fmla="val 50000"/>
              <a:gd name="adj2" fmla="val 210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rot="2400000">
            <a:off x="2168280" y="4868640"/>
            <a:ext cx="387360" cy="366480"/>
          </a:xfrm>
          <a:prstGeom prst="leftRightArrow">
            <a:avLst>
              <a:gd name="adj1" fmla="val 50000"/>
              <a:gd name="adj2" fmla="val 2104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3360600">
            <a:off x="1169640" y="3171600"/>
            <a:ext cx="366840" cy="388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797280" y="2522520"/>
            <a:ext cx="387360" cy="29376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98880" y="2228760"/>
            <a:ext cx="387360" cy="29376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3558960" y="2619720"/>
            <a:ext cx="243360" cy="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62400" y="2668680"/>
            <a:ext cx="23328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3486240" y="2155320"/>
            <a:ext cx="77760" cy="220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3023640" y="2579400"/>
            <a:ext cx="153720" cy="4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560400" y="3595320"/>
            <a:ext cx="186480" cy="241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2176920" y="3987000"/>
            <a:ext cx="59400" cy="223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78240" y="4429080"/>
            <a:ext cx="23328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168640" y="4208400"/>
            <a:ext cx="309600" cy="220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0160" y="2155680"/>
            <a:ext cx="155520" cy="2206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797280" y="2816280"/>
            <a:ext cx="155520" cy="218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41760" y="2962440"/>
            <a:ext cx="311040" cy="2934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943360" y="1862280"/>
            <a:ext cx="15552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43360" y="2595600"/>
            <a:ext cx="155520" cy="1461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400480" y="2595600"/>
            <a:ext cx="233280" cy="293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021120" y="3768840"/>
            <a:ext cx="155520" cy="1458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69880" y="3841920"/>
            <a:ext cx="15588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779480" y="4356000"/>
            <a:ext cx="23364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1464840" y="4232160"/>
            <a:ext cx="241920" cy="24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625760" y="4208400"/>
            <a:ext cx="231480" cy="220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1541160" y="5531400"/>
            <a:ext cx="91080" cy="214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423080" y="5887800"/>
            <a:ext cx="15840" cy="23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92120" y="5675400"/>
            <a:ext cx="233640" cy="2188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71480" y="5381640"/>
            <a:ext cx="311040" cy="22068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1086000">
            <a:off x="3176640" y="2449080"/>
            <a:ext cx="309600" cy="1906560"/>
          </a:xfrm>
          <a:custGeom>
            <a:avLst/>
            <a:gdLst>
              <a:gd name="textAreaLeft" fmla="*/ 0 w 309600"/>
              <a:gd name="textAreaRight" fmla="*/ 309960 w 30960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9454800">
            <a:off x="1778760" y="3695760"/>
            <a:ext cx="1474920" cy="21888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61880" y="4135320"/>
            <a:ext cx="231840" cy="439920"/>
          </a:xfrm>
          <a:prstGeom prst="upArrow">
            <a:avLst>
              <a:gd name="adj1" fmla="val 50000"/>
              <a:gd name="adj2" fmla="val 47438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8112800">
            <a:off x="4384440" y="4158720"/>
            <a:ext cx="220680" cy="465120"/>
          </a:xfrm>
          <a:prstGeom prst="upArrow">
            <a:avLst>
              <a:gd name="adj1" fmla="val 50000"/>
              <a:gd name="adj2" fmla="val 52692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21340200">
            <a:off x="5891040" y="2301840"/>
            <a:ext cx="932040" cy="220680"/>
          </a:xfrm>
          <a:prstGeom prst="leftArrow">
            <a:avLst>
              <a:gd name="adj1" fmla="val 50000"/>
              <a:gd name="adj2" fmla="val 1055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rot="20350800">
            <a:off x="5891040" y="761760"/>
            <a:ext cx="1086120" cy="220680"/>
          </a:xfrm>
          <a:prstGeom prst="leftArrow">
            <a:avLst>
              <a:gd name="adj1" fmla="val 50000"/>
              <a:gd name="adj2" fmla="val 1230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1312200">
            <a:off x="3020760" y="5821200"/>
            <a:ext cx="542880" cy="366840"/>
          </a:xfrm>
          <a:prstGeom prst="leftArrow">
            <a:avLst>
              <a:gd name="adj1" fmla="val 50000"/>
              <a:gd name="adj2" fmla="val 3699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1549200">
            <a:off x="3796920" y="1861920"/>
            <a:ext cx="490680" cy="168732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55640" y="3724200"/>
            <a:ext cx="2963880" cy="227340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132680" y="1276200"/>
            <a:ext cx="465120" cy="366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32680" y="1789200"/>
            <a:ext cx="170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ériphérie intégrée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l’arrière –pays ou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hinterland.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Bénéficie de richesses et d’une activité agric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68640" y="5087880"/>
            <a:ext cx="1413000" cy="514440"/>
          </a:xfrm>
          <a:custGeom>
            <a:avLst/>
            <a:gdLst/>
            <a:ahLst/>
            <a:rect l="l" t="t" r="r" b="b"/>
            <a:pathLst>
              <a:path w="875" h="336">
                <a:moveTo>
                  <a:pt x="0" y="115"/>
                </a:moveTo>
                <a:cubicBezTo>
                  <a:pt x="16" y="112"/>
                  <a:pt x="32" y="110"/>
                  <a:pt x="48" y="106"/>
                </a:cubicBezTo>
                <a:cubicBezTo>
                  <a:pt x="58" y="104"/>
                  <a:pt x="74" y="106"/>
                  <a:pt x="77" y="96"/>
                </a:cubicBezTo>
                <a:cubicBezTo>
                  <a:pt x="80" y="87"/>
                  <a:pt x="64" y="83"/>
                  <a:pt x="57" y="77"/>
                </a:cubicBezTo>
                <a:cubicBezTo>
                  <a:pt x="93" y="43"/>
                  <a:pt x="145" y="35"/>
                  <a:pt x="192" y="19"/>
                </a:cubicBezTo>
                <a:cubicBezTo>
                  <a:pt x="306" y="94"/>
                  <a:pt x="465" y="96"/>
                  <a:pt x="595" y="106"/>
                </a:cubicBezTo>
                <a:cubicBezTo>
                  <a:pt x="642" y="117"/>
                  <a:pt x="676" y="139"/>
                  <a:pt x="720" y="154"/>
                </a:cubicBezTo>
                <a:cubicBezTo>
                  <a:pt x="739" y="213"/>
                  <a:pt x="798" y="242"/>
                  <a:pt x="854" y="259"/>
                </a:cubicBezTo>
                <a:cubicBezTo>
                  <a:pt x="860" y="269"/>
                  <a:pt x="875" y="277"/>
                  <a:pt x="873" y="288"/>
                </a:cubicBezTo>
                <a:cubicBezTo>
                  <a:pt x="871" y="299"/>
                  <a:pt x="855" y="302"/>
                  <a:pt x="845" y="307"/>
                </a:cubicBezTo>
                <a:cubicBezTo>
                  <a:pt x="817" y="319"/>
                  <a:pt x="787" y="326"/>
                  <a:pt x="758" y="336"/>
                </a:cubicBezTo>
                <a:cubicBezTo>
                  <a:pt x="691" y="324"/>
                  <a:pt x="644" y="317"/>
                  <a:pt x="576" y="326"/>
                </a:cubicBezTo>
                <a:cubicBezTo>
                  <a:pt x="589" y="306"/>
                  <a:pt x="609" y="294"/>
                  <a:pt x="585" y="269"/>
                </a:cubicBezTo>
                <a:cubicBezTo>
                  <a:pt x="582" y="266"/>
                  <a:pt x="531" y="251"/>
                  <a:pt x="528" y="250"/>
                </a:cubicBezTo>
                <a:cubicBezTo>
                  <a:pt x="515" y="244"/>
                  <a:pt x="503" y="235"/>
                  <a:pt x="489" y="230"/>
                </a:cubicBezTo>
                <a:cubicBezTo>
                  <a:pt x="470" y="222"/>
                  <a:pt x="449" y="222"/>
                  <a:pt x="432" y="211"/>
                </a:cubicBezTo>
                <a:cubicBezTo>
                  <a:pt x="393" y="185"/>
                  <a:pt x="360" y="159"/>
                  <a:pt x="317" y="144"/>
                </a:cubicBezTo>
                <a:cubicBezTo>
                  <a:pt x="266" y="157"/>
                  <a:pt x="212" y="158"/>
                  <a:pt x="163" y="134"/>
                </a:cubicBezTo>
                <a:cubicBezTo>
                  <a:pt x="134" y="119"/>
                  <a:pt x="120" y="106"/>
                  <a:pt x="86" y="106"/>
                </a:cubicBezTo>
                <a:cubicBezTo>
                  <a:pt x="83" y="93"/>
                  <a:pt x="77" y="67"/>
                  <a:pt x="77" y="67"/>
                </a:cubicBezTo>
                <a:cubicBezTo>
                  <a:pt x="90" y="77"/>
                  <a:pt x="108" y="82"/>
                  <a:pt x="115" y="96"/>
                </a:cubicBezTo>
                <a:cubicBezTo>
                  <a:pt x="119" y="105"/>
                  <a:pt x="86" y="86"/>
                  <a:pt x="86" y="86"/>
                </a:cubicBezTo>
                <a:cubicBezTo>
                  <a:pt x="118" y="44"/>
                  <a:pt x="126" y="37"/>
                  <a:pt x="105" y="58"/>
                </a:cubicBezTo>
                <a:cubicBezTo>
                  <a:pt x="106" y="57"/>
                  <a:pt x="143" y="20"/>
                  <a:pt x="144" y="19"/>
                </a:cubicBezTo>
                <a:cubicBezTo>
                  <a:pt x="314" y="49"/>
                  <a:pt x="356" y="74"/>
                  <a:pt x="288" y="38"/>
                </a:cubicBezTo>
                <a:lnTo>
                  <a:pt x="211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228600" y="542880"/>
          <a:ext cx="7010280" cy="6058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42880"/>
                    <a:ext cx="7010280" cy="60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380880" y="1976400"/>
            <a:ext cx="3718080" cy="2521080"/>
          </a:xfrm>
          <a:custGeom>
            <a:avLst/>
            <a:gdLst/>
            <a:ahLst/>
            <a:rect l="l" t="t" r="r" b="b"/>
            <a:pathLst>
              <a:path w="2342" h="1639">
                <a:moveTo>
                  <a:pt x="1574" y="36"/>
                </a:moveTo>
                <a:cubicBezTo>
                  <a:pt x="1555" y="49"/>
                  <a:pt x="1536" y="61"/>
                  <a:pt x="1517" y="74"/>
                </a:cubicBezTo>
                <a:cubicBezTo>
                  <a:pt x="1499" y="86"/>
                  <a:pt x="1504" y="118"/>
                  <a:pt x="1488" y="132"/>
                </a:cubicBezTo>
                <a:cubicBezTo>
                  <a:pt x="1463" y="153"/>
                  <a:pt x="1411" y="190"/>
                  <a:pt x="1382" y="209"/>
                </a:cubicBezTo>
                <a:cubicBezTo>
                  <a:pt x="1369" y="228"/>
                  <a:pt x="1357" y="247"/>
                  <a:pt x="1344" y="266"/>
                </a:cubicBezTo>
                <a:cubicBezTo>
                  <a:pt x="1338" y="276"/>
                  <a:pt x="1325" y="295"/>
                  <a:pt x="1325" y="295"/>
                </a:cubicBezTo>
                <a:cubicBezTo>
                  <a:pt x="1308" y="362"/>
                  <a:pt x="1295" y="476"/>
                  <a:pt x="1248" y="526"/>
                </a:cubicBezTo>
                <a:cubicBezTo>
                  <a:pt x="1234" y="567"/>
                  <a:pt x="1211" y="604"/>
                  <a:pt x="1190" y="641"/>
                </a:cubicBezTo>
                <a:cubicBezTo>
                  <a:pt x="1167" y="681"/>
                  <a:pt x="1154" y="725"/>
                  <a:pt x="1133" y="766"/>
                </a:cubicBezTo>
                <a:cubicBezTo>
                  <a:pt x="1115" y="801"/>
                  <a:pt x="1103" y="853"/>
                  <a:pt x="1075" y="881"/>
                </a:cubicBezTo>
                <a:cubicBezTo>
                  <a:pt x="1036" y="920"/>
                  <a:pt x="984" y="951"/>
                  <a:pt x="941" y="986"/>
                </a:cubicBezTo>
                <a:cubicBezTo>
                  <a:pt x="915" y="1007"/>
                  <a:pt x="891" y="1036"/>
                  <a:pt x="864" y="1054"/>
                </a:cubicBezTo>
                <a:cubicBezTo>
                  <a:pt x="828" y="1078"/>
                  <a:pt x="787" y="1099"/>
                  <a:pt x="749" y="1121"/>
                </a:cubicBezTo>
                <a:cubicBezTo>
                  <a:pt x="666" y="1170"/>
                  <a:pt x="720" y="1149"/>
                  <a:pt x="662" y="1169"/>
                </a:cubicBezTo>
                <a:cubicBezTo>
                  <a:pt x="649" y="1179"/>
                  <a:pt x="638" y="1190"/>
                  <a:pt x="624" y="1198"/>
                </a:cubicBezTo>
                <a:cubicBezTo>
                  <a:pt x="615" y="1203"/>
                  <a:pt x="603" y="1201"/>
                  <a:pt x="595" y="1207"/>
                </a:cubicBezTo>
                <a:cubicBezTo>
                  <a:pt x="584" y="1214"/>
                  <a:pt x="577" y="1228"/>
                  <a:pt x="566" y="1236"/>
                </a:cubicBezTo>
                <a:cubicBezTo>
                  <a:pt x="558" y="1242"/>
                  <a:pt x="546" y="1241"/>
                  <a:pt x="537" y="1246"/>
                </a:cubicBezTo>
                <a:cubicBezTo>
                  <a:pt x="505" y="1262"/>
                  <a:pt x="475" y="1279"/>
                  <a:pt x="441" y="1294"/>
                </a:cubicBezTo>
                <a:cubicBezTo>
                  <a:pt x="344" y="1336"/>
                  <a:pt x="452" y="1296"/>
                  <a:pt x="374" y="1322"/>
                </a:cubicBezTo>
                <a:cubicBezTo>
                  <a:pt x="355" y="1328"/>
                  <a:pt x="317" y="1342"/>
                  <a:pt x="317" y="1342"/>
                </a:cubicBezTo>
                <a:cubicBezTo>
                  <a:pt x="215" y="1307"/>
                  <a:pt x="104" y="1310"/>
                  <a:pt x="0" y="1332"/>
                </a:cubicBezTo>
                <a:cubicBezTo>
                  <a:pt x="38" y="1357"/>
                  <a:pt x="70" y="1381"/>
                  <a:pt x="105" y="1409"/>
                </a:cubicBezTo>
                <a:cubicBezTo>
                  <a:pt x="126" y="1426"/>
                  <a:pt x="149" y="1454"/>
                  <a:pt x="173" y="1466"/>
                </a:cubicBezTo>
                <a:cubicBezTo>
                  <a:pt x="212" y="1486"/>
                  <a:pt x="260" y="1484"/>
                  <a:pt x="297" y="1505"/>
                </a:cubicBezTo>
                <a:cubicBezTo>
                  <a:pt x="340" y="1529"/>
                  <a:pt x="385" y="1576"/>
                  <a:pt x="432" y="1591"/>
                </a:cubicBezTo>
                <a:cubicBezTo>
                  <a:pt x="461" y="1610"/>
                  <a:pt x="476" y="1629"/>
                  <a:pt x="509" y="1639"/>
                </a:cubicBezTo>
                <a:cubicBezTo>
                  <a:pt x="528" y="1633"/>
                  <a:pt x="547" y="1626"/>
                  <a:pt x="566" y="1620"/>
                </a:cubicBezTo>
                <a:cubicBezTo>
                  <a:pt x="602" y="1608"/>
                  <a:pt x="628" y="1570"/>
                  <a:pt x="662" y="1553"/>
                </a:cubicBezTo>
                <a:cubicBezTo>
                  <a:pt x="723" y="1523"/>
                  <a:pt x="778" y="1485"/>
                  <a:pt x="835" y="1447"/>
                </a:cubicBezTo>
                <a:cubicBezTo>
                  <a:pt x="876" y="1420"/>
                  <a:pt x="923" y="1376"/>
                  <a:pt x="969" y="1361"/>
                </a:cubicBezTo>
                <a:cubicBezTo>
                  <a:pt x="1035" y="1299"/>
                  <a:pt x="913" y="1409"/>
                  <a:pt x="1046" y="1322"/>
                </a:cubicBezTo>
                <a:cubicBezTo>
                  <a:pt x="1160" y="1247"/>
                  <a:pt x="1333" y="1262"/>
                  <a:pt x="1459" y="1255"/>
                </a:cubicBezTo>
                <a:cubicBezTo>
                  <a:pt x="1520" y="1258"/>
                  <a:pt x="1581" y="1259"/>
                  <a:pt x="1641" y="1265"/>
                </a:cubicBezTo>
                <a:cubicBezTo>
                  <a:pt x="1677" y="1269"/>
                  <a:pt x="1712" y="1278"/>
                  <a:pt x="1747" y="1284"/>
                </a:cubicBezTo>
                <a:cubicBezTo>
                  <a:pt x="1766" y="1287"/>
                  <a:pt x="1805" y="1294"/>
                  <a:pt x="1805" y="1294"/>
                </a:cubicBezTo>
                <a:cubicBezTo>
                  <a:pt x="1905" y="1288"/>
                  <a:pt x="1975" y="1293"/>
                  <a:pt x="2064" y="1265"/>
                </a:cubicBezTo>
                <a:cubicBezTo>
                  <a:pt x="2110" y="1235"/>
                  <a:pt x="2133" y="1189"/>
                  <a:pt x="2179" y="1159"/>
                </a:cubicBezTo>
                <a:cubicBezTo>
                  <a:pt x="2216" y="1104"/>
                  <a:pt x="2246" y="1048"/>
                  <a:pt x="2285" y="996"/>
                </a:cubicBezTo>
                <a:cubicBezTo>
                  <a:pt x="2299" y="978"/>
                  <a:pt x="2310" y="957"/>
                  <a:pt x="2323" y="938"/>
                </a:cubicBezTo>
                <a:cubicBezTo>
                  <a:pt x="2329" y="929"/>
                  <a:pt x="2342" y="910"/>
                  <a:pt x="2342" y="910"/>
                </a:cubicBezTo>
                <a:cubicBezTo>
                  <a:pt x="2258" y="903"/>
                  <a:pt x="2198" y="925"/>
                  <a:pt x="2227" y="842"/>
                </a:cubicBezTo>
                <a:cubicBezTo>
                  <a:pt x="2218" y="760"/>
                  <a:pt x="2217" y="692"/>
                  <a:pt x="2237" y="612"/>
                </a:cubicBezTo>
                <a:cubicBezTo>
                  <a:pt x="2252" y="552"/>
                  <a:pt x="2238" y="614"/>
                  <a:pt x="2265" y="554"/>
                </a:cubicBezTo>
                <a:cubicBezTo>
                  <a:pt x="2302" y="472"/>
                  <a:pt x="2326" y="373"/>
                  <a:pt x="2342" y="286"/>
                </a:cubicBezTo>
                <a:cubicBezTo>
                  <a:pt x="2322" y="201"/>
                  <a:pt x="2240" y="233"/>
                  <a:pt x="2150" y="228"/>
                </a:cubicBezTo>
                <a:cubicBezTo>
                  <a:pt x="2086" y="224"/>
                  <a:pt x="2022" y="221"/>
                  <a:pt x="1958" y="218"/>
                </a:cubicBezTo>
                <a:cubicBezTo>
                  <a:pt x="1942" y="215"/>
                  <a:pt x="1926" y="213"/>
                  <a:pt x="1910" y="209"/>
                </a:cubicBezTo>
                <a:cubicBezTo>
                  <a:pt x="1891" y="204"/>
                  <a:pt x="1853" y="190"/>
                  <a:pt x="1853" y="190"/>
                </a:cubicBezTo>
                <a:cubicBezTo>
                  <a:pt x="1824" y="161"/>
                  <a:pt x="1789" y="139"/>
                  <a:pt x="1757" y="113"/>
                </a:cubicBezTo>
                <a:cubicBezTo>
                  <a:pt x="1725" y="88"/>
                  <a:pt x="1691" y="49"/>
                  <a:pt x="1651" y="36"/>
                </a:cubicBezTo>
                <a:cubicBezTo>
                  <a:pt x="1632" y="30"/>
                  <a:pt x="1612" y="23"/>
                  <a:pt x="1593" y="17"/>
                </a:cubicBezTo>
                <a:cubicBezTo>
                  <a:pt x="1584" y="14"/>
                  <a:pt x="1572" y="0"/>
                  <a:pt x="1565" y="7"/>
                </a:cubicBezTo>
                <a:cubicBezTo>
                  <a:pt x="1558" y="14"/>
                  <a:pt x="1571" y="26"/>
                  <a:pt x="1574" y="36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9366800">
            <a:off x="2419200" y="1539720"/>
            <a:ext cx="2406960" cy="73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155680" y="5421240"/>
            <a:ext cx="481320" cy="631800"/>
          </a:xfrm>
          <a:custGeom>
            <a:avLst/>
            <a:gdLst/>
            <a:ahLst/>
            <a:rect l="l" t="t" r="r" b="b"/>
            <a:pathLst>
              <a:path w="303" h="411">
                <a:moveTo>
                  <a:pt x="284" y="17"/>
                </a:moveTo>
                <a:cubicBezTo>
                  <a:pt x="255" y="27"/>
                  <a:pt x="224" y="32"/>
                  <a:pt x="197" y="46"/>
                </a:cubicBezTo>
                <a:cubicBezTo>
                  <a:pt x="119" y="85"/>
                  <a:pt x="214" y="49"/>
                  <a:pt x="140" y="75"/>
                </a:cubicBezTo>
                <a:cubicBezTo>
                  <a:pt x="100" y="131"/>
                  <a:pt x="86" y="187"/>
                  <a:pt x="24" y="228"/>
                </a:cubicBezTo>
                <a:cubicBezTo>
                  <a:pt x="18" y="238"/>
                  <a:pt x="0" y="247"/>
                  <a:pt x="5" y="257"/>
                </a:cubicBezTo>
                <a:cubicBezTo>
                  <a:pt x="11" y="269"/>
                  <a:pt x="33" y="260"/>
                  <a:pt x="44" y="267"/>
                </a:cubicBezTo>
                <a:cubicBezTo>
                  <a:pt x="61" y="278"/>
                  <a:pt x="68" y="300"/>
                  <a:pt x="82" y="315"/>
                </a:cubicBezTo>
                <a:cubicBezTo>
                  <a:pt x="95" y="352"/>
                  <a:pt x="122" y="383"/>
                  <a:pt x="149" y="411"/>
                </a:cubicBezTo>
                <a:cubicBezTo>
                  <a:pt x="176" y="333"/>
                  <a:pt x="175" y="274"/>
                  <a:pt x="245" y="228"/>
                </a:cubicBezTo>
                <a:cubicBezTo>
                  <a:pt x="248" y="215"/>
                  <a:pt x="253" y="203"/>
                  <a:pt x="255" y="190"/>
                </a:cubicBezTo>
                <a:cubicBezTo>
                  <a:pt x="260" y="158"/>
                  <a:pt x="258" y="126"/>
                  <a:pt x="264" y="94"/>
                </a:cubicBezTo>
                <a:cubicBezTo>
                  <a:pt x="268" y="74"/>
                  <a:pt x="277" y="55"/>
                  <a:pt x="284" y="36"/>
                </a:cubicBezTo>
                <a:cubicBezTo>
                  <a:pt x="288" y="25"/>
                  <a:pt x="303" y="19"/>
                  <a:pt x="303" y="7"/>
                </a:cubicBezTo>
                <a:cubicBezTo>
                  <a:pt x="303" y="0"/>
                  <a:pt x="290" y="14"/>
                  <a:pt x="284" y="17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05320" y="380880"/>
            <a:ext cx="1600200" cy="930240"/>
          </a:xfrm>
          <a:custGeom>
            <a:avLst/>
            <a:gdLst/>
            <a:ahLst/>
            <a:rect l="l" t="t" r="r" b="b"/>
            <a:pathLst>
              <a:path w="1008" h="605">
                <a:moveTo>
                  <a:pt x="0" y="96"/>
                </a:moveTo>
                <a:cubicBezTo>
                  <a:pt x="29" y="181"/>
                  <a:pt x="34" y="269"/>
                  <a:pt x="58" y="355"/>
                </a:cubicBezTo>
                <a:cubicBezTo>
                  <a:pt x="64" y="375"/>
                  <a:pt x="75" y="440"/>
                  <a:pt x="86" y="451"/>
                </a:cubicBezTo>
                <a:cubicBezTo>
                  <a:pt x="145" y="510"/>
                  <a:pt x="207" y="577"/>
                  <a:pt x="288" y="605"/>
                </a:cubicBezTo>
                <a:cubicBezTo>
                  <a:pt x="414" y="598"/>
                  <a:pt x="431" y="605"/>
                  <a:pt x="518" y="576"/>
                </a:cubicBezTo>
                <a:cubicBezTo>
                  <a:pt x="547" y="566"/>
                  <a:pt x="576" y="557"/>
                  <a:pt x="605" y="547"/>
                </a:cubicBezTo>
                <a:cubicBezTo>
                  <a:pt x="615" y="544"/>
                  <a:pt x="634" y="538"/>
                  <a:pt x="634" y="538"/>
                </a:cubicBezTo>
                <a:cubicBezTo>
                  <a:pt x="664" y="493"/>
                  <a:pt x="707" y="450"/>
                  <a:pt x="758" y="432"/>
                </a:cubicBezTo>
                <a:cubicBezTo>
                  <a:pt x="783" y="408"/>
                  <a:pt x="806" y="400"/>
                  <a:pt x="835" y="384"/>
                </a:cubicBezTo>
                <a:cubicBezTo>
                  <a:pt x="877" y="361"/>
                  <a:pt x="906" y="333"/>
                  <a:pt x="950" y="317"/>
                </a:cubicBezTo>
                <a:cubicBezTo>
                  <a:pt x="967" y="300"/>
                  <a:pt x="979" y="293"/>
                  <a:pt x="989" y="269"/>
                </a:cubicBezTo>
                <a:cubicBezTo>
                  <a:pt x="997" y="250"/>
                  <a:pt x="1008" y="211"/>
                  <a:pt x="1008" y="211"/>
                </a:cubicBezTo>
                <a:cubicBezTo>
                  <a:pt x="994" y="157"/>
                  <a:pt x="982" y="104"/>
                  <a:pt x="950" y="58"/>
                </a:cubicBezTo>
                <a:cubicBezTo>
                  <a:pt x="936" y="12"/>
                  <a:pt x="927" y="14"/>
                  <a:pt x="883" y="29"/>
                </a:cubicBezTo>
                <a:cubicBezTo>
                  <a:pt x="776" y="1"/>
                  <a:pt x="647" y="6"/>
                  <a:pt x="538" y="0"/>
                </a:cubicBezTo>
                <a:cubicBezTo>
                  <a:pt x="364" y="7"/>
                  <a:pt x="203" y="16"/>
                  <a:pt x="38" y="67"/>
                </a:cubicBezTo>
                <a:cubicBezTo>
                  <a:pt x="14" y="92"/>
                  <a:pt x="27" y="83"/>
                  <a:pt x="0" y="96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657680" y="412920"/>
            <a:ext cx="1911240" cy="16524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16160" y="4133880"/>
            <a:ext cx="2811600" cy="1919160"/>
          </a:xfrm>
          <a:custGeom>
            <a:avLst/>
            <a:gdLst/>
            <a:ahLst/>
            <a:rect l="l" t="t" r="r" b="b"/>
            <a:pathLst>
              <a:path w="1771" h="1248">
                <a:moveTo>
                  <a:pt x="111" y="153"/>
                </a:moveTo>
                <a:cubicBezTo>
                  <a:pt x="81" y="182"/>
                  <a:pt x="63" y="230"/>
                  <a:pt x="43" y="268"/>
                </a:cubicBezTo>
                <a:cubicBezTo>
                  <a:pt x="40" y="281"/>
                  <a:pt x="38" y="294"/>
                  <a:pt x="34" y="307"/>
                </a:cubicBezTo>
                <a:cubicBezTo>
                  <a:pt x="28" y="326"/>
                  <a:pt x="15" y="364"/>
                  <a:pt x="15" y="364"/>
                </a:cubicBezTo>
                <a:cubicBezTo>
                  <a:pt x="0" y="463"/>
                  <a:pt x="13" y="556"/>
                  <a:pt x="34" y="652"/>
                </a:cubicBezTo>
                <a:cubicBezTo>
                  <a:pt x="57" y="755"/>
                  <a:pt x="73" y="856"/>
                  <a:pt x="120" y="950"/>
                </a:cubicBezTo>
                <a:cubicBezTo>
                  <a:pt x="125" y="959"/>
                  <a:pt x="124" y="971"/>
                  <a:pt x="130" y="979"/>
                </a:cubicBezTo>
                <a:cubicBezTo>
                  <a:pt x="137" y="988"/>
                  <a:pt x="150" y="991"/>
                  <a:pt x="159" y="998"/>
                </a:cubicBezTo>
                <a:cubicBezTo>
                  <a:pt x="204" y="1036"/>
                  <a:pt x="255" y="1084"/>
                  <a:pt x="312" y="1104"/>
                </a:cubicBezTo>
                <a:cubicBezTo>
                  <a:pt x="390" y="1179"/>
                  <a:pt x="497" y="1195"/>
                  <a:pt x="600" y="1209"/>
                </a:cubicBezTo>
                <a:cubicBezTo>
                  <a:pt x="691" y="1222"/>
                  <a:pt x="778" y="1238"/>
                  <a:pt x="869" y="1248"/>
                </a:cubicBezTo>
                <a:cubicBezTo>
                  <a:pt x="1035" y="1241"/>
                  <a:pt x="1187" y="1225"/>
                  <a:pt x="1349" y="1200"/>
                </a:cubicBezTo>
                <a:cubicBezTo>
                  <a:pt x="1426" y="1174"/>
                  <a:pt x="1502" y="1146"/>
                  <a:pt x="1579" y="1123"/>
                </a:cubicBezTo>
                <a:cubicBezTo>
                  <a:pt x="1633" y="1107"/>
                  <a:pt x="1685" y="1097"/>
                  <a:pt x="1733" y="1065"/>
                </a:cubicBezTo>
                <a:cubicBezTo>
                  <a:pt x="1756" y="997"/>
                  <a:pt x="1741" y="1025"/>
                  <a:pt x="1771" y="979"/>
                </a:cubicBezTo>
                <a:cubicBezTo>
                  <a:pt x="1764" y="866"/>
                  <a:pt x="1757" y="815"/>
                  <a:pt x="1733" y="710"/>
                </a:cubicBezTo>
                <a:cubicBezTo>
                  <a:pt x="1720" y="655"/>
                  <a:pt x="1680" y="600"/>
                  <a:pt x="1647" y="556"/>
                </a:cubicBezTo>
                <a:cubicBezTo>
                  <a:pt x="1605" y="501"/>
                  <a:pt x="1593" y="445"/>
                  <a:pt x="1531" y="403"/>
                </a:cubicBezTo>
                <a:cubicBezTo>
                  <a:pt x="1451" y="349"/>
                  <a:pt x="1423" y="346"/>
                  <a:pt x="1320" y="316"/>
                </a:cubicBezTo>
                <a:cubicBezTo>
                  <a:pt x="1246" y="294"/>
                  <a:pt x="1175" y="265"/>
                  <a:pt x="1099" y="249"/>
                </a:cubicBezTo>
                <a:cubicBezTo>
                  <a:pt x="1041" y="237"/>
                  <a:pt x="951" y="225"/>
                  <a:pt x="888" y="201"/>
                </a:cubicBezTo>
                <a:cubicBezTo>
                  <a:pt x="684" y="124"/>
                  <a:pt x="481" y="34"/>
                  <a:pt x="264" y="0"/>
                </a:cubicBezTo>
                <a:cubicBezTo>
                  <a:pt x="219" y="9"/>
                  <a:pt x="190" y="17"/>
                  <a:pt x="149" y="38"/>
                </a:cubicBezTo>
                <a:cubicBezTo>
                  <a:pt x="123" y="77"/>
                  <a:pt x="82" y="108"/>
                  <a:pt x="43" y="134"/>
                </a:cubicBezTo>
                <a:cubicBezTo>
                  <a:pt x="40" y="144"/>
                  <a:pt x="24" y="194"/>
                  <a:pt x="24" y="201"/>
                </a:cubicBezTo>
                <a:cubicBezTo>
                  <a:pt x="24" y="236"/>
                  <a:pt x="34" y="272"/>
                  <a:pt x="34" y="307"/>
                </a:cubicBezTo>
                <a:lnTo>
                  <a:pt x="53" y="230"/>
                </a:lnTo>
                <a:lnTo>
                  <a:pt x="5" y="182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895480" y="1163520"/>
            <a:ext cx="1927440" cy="15400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60680" y="5335560"/>
            <a:ext cx="992160" cy="61272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2400000">
            <a:off x="2133720" y="3157200"/>
            <a:ext cx="380880" cy="369720"/>
          </a:xfrm>
          <a:prstGeom prst="leftRightArrow">
            <a:avLst>
              <a:gd name="adj1" fmla="val 50000"/>
              <a:gd name="adj2" fmla="val 2050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400000">
            <a:off x="4190760" y="4635360"/>
            <a:ext cx="380880" cy="368280"/>
          </a:xfrm>
          <a:prstGeom prst="leftRightArrow">
            <a:avLst>
              <a:gd name="adj1" fmla="val 50000"/>
              <a:gd name="adj2" fmla="val 2058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1935600">
            <a:off x="456840" y="4191120"/>
            <a:ext cx="990720" cy="36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5181120" y="2124000"/>
            <a:ext cx="685800" cy="110808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1905120" y="4560840"/>
            <a:ext cx="457200" cy="8859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09680" y="3157560"/>
            <a:ext cx="212760" cy="109224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86000" y="2567160"/>
            <a:ext cx="334800" cy="56484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438280" y="2419200"/>
            <a:ext cx="1204920" cy="81288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09880" y="2346480"/>
            <a:ext cx="457200" cy="3682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4572000" y="1901520"/>
            <a:ext cx="11430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4572000" y="2124000"/>
            <a:ext cx="129528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72000" y="241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3733920" y="4412880"/>
            <a:ext cx="83808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3657600" y="4708440"/>
            <a:ext cx="114300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57400" y="566892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066680" y="5151600"/>
            <a:ext cx="152640" cy="147600"/>
          </a:xfrm>
          <a:prstGeom prst="hexagon">
            <a:avLst>
              <a:gd name="adj" fmla="val 2585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600200" y="426564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447920" y="374796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81080" y="4118040"/>
            <a:ext cx="152640" cy="147600"/>
          </a:xfrm>
          <a:prstGeom prst="hexagon">
            <a:avLst>
              <a:gd name="adj" fmla="val 2585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43200" y="404352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86400" y="116352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352680" y="4486320"/>
            <a:ext cx="533520" cy="4446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86000" y="5226120"/>
            <a:ext cx="533520" cy="4428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352680" y="5521320"/>
            <a:ext cx="152640" cy="220680"/>
          </a:xfrm>
          <a:custGeom>
            <a:avLst/>
            <a:gdLst>
              <a:gd name="textAreaLeft" fmla="*/ 0 w 152640"/>
              <a:gd name="textAreaRight" fmla="*/ 153000 w 1526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62520" y="4930920"/>
            <a:ext cx="152280" cy="220680"/>
          </a:xfrm>
          <a:custGeom>
            <a:avLst/>
            <a:gdLst>
              <a:gd name="textAreaLeft" fmla="*/ 0 w 152280"/>
              <a:gd name="textAreaRight" fmla="*/ 152640 w 1522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419720" y="5151600"/>
            <a:ext cx="152280" cy="222120"/>
          </a:xfrm>
          <a:custGeom>
            <a:avLst/>
            <a:gdLst>
              <a:gd name="textAreaLeft" fmla="*/ 0 w 152280"/>
              <a:gd name="textAreaRight" fmla="*/ 152640 w 1522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05520" y="5151600"/>
            <a:ext cx="152280" cy="222120"/>
          </a:xfrm>
          <a:custGeom>
            <a:avLst/>
            <a:gdLst>
              <a:gd name="textAreaLeft" fmla="*/ 0 w 152280"/>
              <a:gd name="textAreaRight" fmla="*/ 152640 w 1522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0" y="5964120"/>
            <a:ext cx="152280" cy="220680"/>
          </a:xfrm>
          <a:custGeom>
            <a:avLst/>
            <a:gdLst>
              <a:gd name="textAreaLeft" fmla="*/ 0 w 152280"/>
              <a:gd name="textAreaRight" fmla="*/ 152640 w 1522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05520" y="5889600"/>
            <a:ext cx="152280" cy="222120"/>
          </a:xfrm>
          <a:custGeom>
            <a:avLst/>
            <a:gdLst>
              <a:gd name="textAreaLeft" fmla="*/ 0 w 152280"/>
              <a:gd name="textAreaRight" fmla="*/ 152640 w 1522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86200" y="5964120"/>
            <a:ext cx="152280" cy="220680"/>
          </a:xfrm>
          <a:custGeom>
            <a:avLst/>
            <a:gdLst>
              <a:gd name="textAreaLeft" fmla="*/ 0 w 152280"/>
              <a:gd name="textAreaRight" fmla="*/ 152640 w 1522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rot="20140200">
            <a:off x="4876560" y="1090080"/>
            <a:ext cx="380880" cy="368640"/>
          </a:xfrm>
          <a:prstGeom prst="leftRightArrow">
            <a:avLst>
              <a:gd name="adj1" fmla="val 50000"/>
              <a:gd name="adj2" fmla="val 205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572000" y="2641680"/>
            <a:ext cx="380880" cy="368280"/>
          </a:xfrm>
          <a:prstGeom prst="leftRightArrow">
            <a:avLst>
              <a:gd name="adj1" fmla="val 50000"/>
              <a:gd name="adj2" fmla="val 2058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rot="2400000">
            <a:off x="2285640" y="4855680"/>
            <a:ext cx="380880" cy="370080"/>
          </a:xfrm>
          <a:prstGeom prst="leftRightArrow">
            <a:avLst>
              <a:gd name="adj1" fmla="val 50000"/>
              <a:gd name="adj2" fmla="val 2048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rot="3360600">
            <a:off x="1300680" y="3151800"/>
            <a:ext cx="369720" cy="3812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2494080"/>
            <a:ext cx="380880" cy="2952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00400" y="2197080"/>
            <a:ext cx="380880" cy="2970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3652200" y="2590920"/>
            <a:ext cx="238680" cy="26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343400" y="2641680"/>
            <a:ext cx="22860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3581280" y="2124000"/>
            <a:ext cx="76320" cy="22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3126600" y="2551320"/>
            <a:ext cx="150840" cy="4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3651840" y="3572640"/>
            <a:ext cx="185400" cy="244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2294280" y="3967560"/>
            <a:ext cx="59760" cy="225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90920" y="4413240"/>
            <a:ext cx="22860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4191120"/>
            <a:ext cx="304920" cy="222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419720" y="2124000"/>
            <a:ext cx="152280" cy="222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2789280"/>
            <a:ext cx="152280" cy="2206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33920" y="2936880"/>
            <a:ext cx="304560" cy="2952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48120" y="1828800"/>
            <a:ext cx="15228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48120" y="2567160"/>
            <a:ext cx="15228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514600" y="2567160"/>
            <a:ext cx="2286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24080" y="3747960"/>
            <a:ext cx="1526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600200" y="3822840"/>
            <a:ext cx="15228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05120" y="4338720"/>
            <a:ext cx="228600" cy="7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flipV="1">
            <a:off x="1594800" y="4214880"/>
            <a:ext cx="238680" cy="26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52480" y="4191120"/>
            <a:ext cx="228600" cy="222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670040" y="5523480"/>
            <a:ext cx="88920" cy="21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53400" y="5883480"/>
            <a:ext cx="17640" cy="23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23880" y="5668920"/>
            <a:ext cx="228600" cy="220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914400" y="5373720"/>
            <a:ext cx="304920" cy="22068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1086000">
            <a:off x="3276360" y="2419200"/>
            <a:ext cx="304560" cy="1919520"/>
          </a:xfrm>
          <a:custGeom>
            <a:avLst/>
            <a:gdLst>
              <a:gd name="textAreaLeft" fmla="*/ 0 w 304560"/>
              <a:gd name="textAreaRight" fmla="*/ 304920 w 30456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4118040"/>
            <a:ext cx="228600" cy="442800"/>
          </a:xfrm>
          <a:prstGeom prst="upArrow">
            <a:avLst>
              <a:gd name="adj1" fmla="val 50000"/>
              <a:gd name="adj2" fmla="val 4842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18112800">
            <a:off x="4461480" y="4146840"/>
            <a:ext cx="220680" cy="457200"/>
          </a:xfrm>
          <a:prstGeom prst="upArrow">
            <a:avLst>
              <a:gd name="adj1" fmla="val 50000"/>
              <a:gd name="adj2" fmla="val 51794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rot="21340200">
            <a:off x="5943240" y="2271600"/>
            <a:ext cx="914400" cy="222480"/>
          </a:xfrm>
          <a:prstGeom prst="leftArrow">
            <a:avLst>
              <a:gd name="adj1" fmla="val 50000"/>
              <a:gd name="adj2" fmla="val 1027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20350800">
            <a:off x="5943240" y="720720"/>
            <a:ext cx="1066680" cy="222120"/>
          </a:xfrm>
          <a:prstGeom prst="leftArrow">
            <a:avLst>
              <a:gd name="adj1" fmla="val 50000"/>
              <a:gd name="adj2" fmla="val 1200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312200">
            <a:off x="3124080" y="5816520"/>
            <a:ext cx="533520" cy="368280"/>
          </a:xfrm>
          <a:prstGeom prst="leftArrow">
            <a:avLst>
              <a:gd name="adj1" fmla="val 50000"/>
              <a:gd name="adj2" fmla="val 3621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549200">
            <a:off x="3885840" y="1828800"/>
            <a:ext cx="482760" cy="169848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98560" y="3703680"/>
            <a:ext cx="2911320" cy="228924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410080" y="868320"/>
            <a:ext cx="716040" cy="560520"/>
          </a:xfrm>
          <a:custGeom>
            <a:avLst/>
            <a:gdLst/>
            <a:ahLst/>
            <a:rect l="l" t="t" r="r" b="b"/>
            <a:pathLst>
              <a:path w="451" h="364">
                <a:moveTo>
                  <a:pt x="69" y="28"/>
                </a:moveTo>
                <a:cubicBezTo>
                  <a:pt x="63" y="19"/>
                  <a:pt x="61" y="0"/>
                  <a:pt x="50" y="0"/>
                </a:cubicBezTo>
                <a:cubicBezTo>
                  <a:pt x="40" y="0"/>
                  <a:pt x="38" y="18"/>
                  <a:pt x="40" y="28"/>
                </a:cubicBezTo>
                <a:cubicBezTo>
                  <a:pt x="42" y="37"/>
                  <a:pt x="53" y="41"/>
                  <a:pt x="60" y="48"/>
                </a:cubicBezTo>
                <a:cubicBezTo>
                  <a:pt x="78" y="104"/>
                  <a:pt x="62" y="154"/>
                  <a:pt x="31" y="201"/>
                </a:cubicBezTo>
                <a:cubicBezTo>
                  <a:pt x="34" y="217"/>
                  <a:pt x="40" y="233"/>
                  <a:pt x="40" y="249"/>
                </a:cubicBezTo>
                <a:cubicBezTo>
                  <a:pt x="40" y="363"/>
                  <a:pt x="0" y="325"/>
                  <a:pt x="60" y="364"/>
                </a:cubicBezTo>
                <a:cubicBezTo>
                  <a:pt x="79" y="358"/>
                  <a:pt x="98" y="351"/>
                  <a:pt x="117" y="345"/>
                </a:cubicBezTo>
                <a:cubicBezTo>
                  <a:pt x="127" y="342"/>
                  <a:pt x="146" y="336"/>
                  <a:pt x="146" y="336"/>
                </a:cubicBezTo>
                <a:cubicBezTo>
                  <a:pt x="180" y="300"/>
                  <a:pt x="242" y="303"/>
                  <a:pt x="290" y="288"/>
                </a:cubicBezTo>
                <a:cubicBezTo>
                  <a:pt x="296" y="281"/>
                  <a:pt x="300" y="270"/>
                  <a:pt x="309" y="268"/>
                </a:cubicBezTo>
                <a:cubicBezTo>
                  <a:pt x="351" y="261"/>
                  <a:pt x="388" y="313"/>
                  <a:pt x="424" y="326"/>
                </a:cubicBezTo>
                <a:cubicBezTo>
                  <a:pt x="451" y="248"/>
                  <a:pt x="399" y="222"/>
                  <a:pt x="348" y="182"/>
                </a:cubicBezTo>
                <a:cubicBezTo>
                  <a:pt x="320" y="160"/>
                  <a:pt x="310" y="135"/>
                  <a:pt x="280" y="115"/>
                </a:cubicBezTo>
                <a:cubicBezTo>
                  <a:pt x="234" y="45"/>
                  <a:pt x="276" y="92"/>
                  <a:pt x="117" y="76"/>
                </a:cubicBezTo>
                <a:cubicBezTo>
                  <a:pt x="101" y="74"/>
                  <a:pt x="85" y="71"/>
                  <a:pt x="69" y="67"/>
                </a:cubicBezTo>
                <a:cubicBezTo>
                  <a:pt x="59" y="65"/>
                  <a:pt x="40" y="67"/>
                  <a:pt x="40" y="57"/>
                </a:cubicBezTo>
                <a:cubicBezTo>
                  <a:pt x="40" y="43"/>
                  <a:pt x="59" y="38"/>
                  <a:pt x="69" y="28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62920" y="868320"/>
            <a:ext cx="685800" cy="442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162920" y="14590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ériphéries délaissées ou isol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170160" y="5078520"/>
            <a:ext cx="1389240" cy="515880"/>
          </a:xfrm>
          <a:custGeom>
            <a:avLst/>
            <a:gdLst/>
            <a:ahLst/>
            <a:rect l="l" t="t" r="r" b="b"/>
            <a:pathLst>
              <a:path w="875" h="336">
                <a:moveTo>
                  <a:pt x="0" y="115"/>
                </a:moveTo>
                <a:cubicBezTo>
                  <a:pt x="16" y="112"/>
                  <a:pt x="32" y="110"/>
                  <a:pt x="48" y="106"/>
                </a:cubicBezTo>
                <a:cubicBezTo>
                  <a:pt x="58" y="104"/>
                  <a:pt x="74" y="106"/>
                  <a:pt x="77" y="96"/>
                </a:cubicBezTo>
                <a:cubicBezTo>
                  <a:pt x="80" y="87"/>
                  <a:pt x="64" y="83"/>
                  <a:pt x="57" y="77"/>
                </a:cubicBezTo>
                <a:cubicBezTo>
                  <a:pt x="93" y="43"/>
                  <a:pt x="145" y="35"/>
                  <a:pt x="192" y="19"/>
                </a:cubicBezTo>
                <a:cubicBezTo>
                  <a:pt x="306" y="94"/>
                  <a:pt x="465" y="96"/>
                  <a:pt x="595" y="106"/>
                </a:cubicBezTo>
                <a:cubicBezTo>
                  <a:pt x="642" y="117"/>
                  <a:pt x="676" y="139"/>
                  <a:pt x="720" y="154"/>
                </a:cubicBezTo>
                <a:cubicBezTo>
                  <a:pt x="739" y="213"/>
                  <a:pt x="798" y="242"/>
                  <a:pt x="854" y="259"/>
                </a:cubicBezTo>
                <a:cubicBezTo>
                  <a:pt x="860" y="269"/>
                  <a:pt x="875" y="277"/>
                  <a:pt x="873" y="288"/>
                </a:cubicBezTo>
                <a:cubicBezTo>
                  <a:pt x="871" y="299"/>
                  <a:pt x="855" y="302"/>
                  <a:pt x="845" y="307"/>
                </a:cubicBezTo>
                <a:cubicBezTo>
                  <a:pt x="817" y="319"/>
                  <a:pt x="787" y="326"/>
                  <a:pt x="758" y="336"/>
                </a:cubicBezTo>
                <a:cubicBezTo>
                  <a:pt x="691" y="324"/>
                  <a:pt x="644" y="317"/>
                  <a:pt x="576" y="326"/>
                </a:cubicBezTo>
                <a:cubicBezTo>
                  <a:pt x="589" y="306"/>
                  <a:pt x="609" y="294"/>
                  <a:pt x="585" y="269"/>
                </a:cubicBezTo>
                <a:cubicBezTo>
                  <a:pt x="582" y="266"/>
                  <a:pt x="531" y="251"/>
                  <a:pt x="528" y="250"/>
                </a:cubicBezTo>
                <a:cubicBezTo>
                  <a:pt x="515" y="244"/>
                  <a:pt x="503" y="235"/>
                  <a:pt x="489" y="230"/>
                </a:cubicBezTo>
                <a:cubicBezTo>
                  <a:pt x="470" y="222"/>
                  <a:pt x="449" y="222"/>
                  <a:pt x="432" y="211"/>
                </a:cubicBezTo>
                <a:cubicBezTo>
                  <a:pt x="393" y="185"/>
                  <a:pt x="360" y="159"/>
                  <a:pt x="317" y="144"/>
                </a:cubicBezTo>
                <a:cubicBezTo>
                  <a:pt x="266" y="157"/>
                  <a:pt x="212" y="158"/>
                  <a:pt x="163" y="134"/>
                </a:cubicBezTo>
                <a:cubicBezTo>
                  <a:pt x="134" y="119"/>
                  <a:pt x="120" y="106"/>
                  <a:pt x="86" y="106"/>
                </a:cubicBezTo>
                <a:cubicBezTo>
                  <a:pt x="83" y="93"/>
                  <a:pt x="77" y="67"/>
                  <a:pt x="77" y="67"/>
                </a:cubicBezTo>
                <a:cubicBezTo>
                  <a:pt x="90" y="77"/>
                  <a:pt x="108" y="82"/>
                  <a:pt x="115" y="96"/>
                </a:cubicBezTo>
                <a:cubicBezTo>
                  <a:pt x="119" y="105"/>
                  <a:pt x="86" y="86"/>
                  <a:pt x="86" y="86"/>
                </a:cubicBezTo>
                <a:cubicBezTo>
                  <a:pt x="118" y="44"/>
                  <a:pt x="126" y="37"/>
                  <a:pt x="105" y="58"/>
                </a:cubicBezTo>
                <a:cubicBezTo>
                  <a:pt x="106" y="57"/>
                  <a:pt x="143" y="20"/>
                  <a:pt x="144" y="19"/>
                </a:cubicBezTo>
                <a:cubicBezTo>
                  <a:pt x="314" y="49"/>
                  <a:pt x="356" y="74"/>
                  <a:pt x="288" y="38"/>
                </a:cubicBezTo>
                <a:lnTo>
                  <a:pt x="211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 rot="20794800">
            <a:off x="1146960" y="3700440"/>
            <a:ext cx="1981440" cy="147600"/>
          </a:xfrm>
          <a:custGeom>
            <a:avLst/>
            <a:gdLst>
              <a:gd name="textAreaLeft" fmla="*/ 360 w 1981440"/>
              <a:gd name="textAreaRight" fmla="*/ 1982160 w 1981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380880" y="500040"/>
          <a:ext cx="6886800" cy="61009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0040"/>
                    <a:ext cx="688680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2155680" y="5459400"/>
            <a:ext cx="481320" cy="609480"/>
          </a:xfrm>
          <a:custGeom>
            <a:avLst/>
            <a:gdLst/>
            <a:ahLst/>
            <a:rect l="l" t="t" r="r" b="b"/>
            <a:pathLst>
              <a:path w="303" h="411">
                <a:moveTo>
                  <a:pt x="284" y="17"/>
                </a:moveTo>
                <a:cubicBezTo>
                  <a:pt x="255" y="27"/>
                  <a:pt x="224" y="32"/>
                  <a:pt x="197" y="46"/>
                </a:cubicBezTo>
                <a:cubicBezTo>
                  <a:pt x="119" y="85"/>
                  <a:pt x="214" y="49"/>
                  <a:pt x="140" y="75"/>
                </a:cubicBezTo>
                <a:cubicBezTo>
                  <a:pt x="100" y="131"/>
                  <a:pt x="86" y="187"/>
                  <a:pt x="24" y="228"/>
                </a:cubicBezTo>
                <a:cubicBezTo>
                  <a:pt x="18" y="238"/>
                  <a:pt x="0" y="247"/>
                  <a:pt x="5" y="257"/>
                </a:cubicBezTo>
                <a:cubicBezTo>
                  <a:pt x="11" y="269"/>
                  <a:pt x="33" y="260"/>
                  <a:pt x="44" y="267"/>
                </a:cubicBezTo>
                <a:cubicBezTo>
                  <a:pt x="61" y="278"/>
                  <a:pt x="68" y="300"/>
                  <a:pt x="82" y="315"/>
                </a:cubicBezTo>
                <a:cubicBezTo>
                  <a:pt x="95" y="352"/>
                  <a:pt x="122" y="383"/>
                  <a:pt x="149" y="411"/>
                </a:cubicBezTo>
                <a:cubicBezTo>
                  <a:pt x="176" y="333"/>
                  <a:pt x="175" y="274"/>
                  <a:pt x="245" y="228"/>
                </a:cubicBezTo>
                <a:cubicBezTo>
                  <a:pt x="248" y="215"/>
                  <a:pt x="253" y="203"/>
                  <a:pt x="255" y="190"/>
                </a:cubicBezTo>
                <a:cubicBezTo>
                  <a:pt x="260" y="158"/>
                  <a:pt x="258" y="126"/>
                  <a:pt x="264" y="94"/>
                </a:cubicBezTo>
                <a:cubicBezTo>
                  <a:pt x="268" y="74"/>
                  <a:pt x="277" y="55"/>
                  <a:pt x="284" y="36"/>
                </a:cubicBezTo>
                <a:cubicBezTo>
                  <a:pt x="288" y="25"/>
                  <a:pt x="303" y="19"/>
                  <a:pt x="303" y="7"/>
                </a:cubicBezTo>
                <a:cubicBezTo>
                  <a:pt x="303" y="0"/>
                  <a:pt x="290" y="14"/>
                  <a:pt x="284" y="17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05320" y="609480"/>
            <a:ext cx="1600200" cy="895320"/>
          </a:xfrm>
          <a:custGeom>
            <a:avLst/>
            <a:gdLst/>
            <a:ahLst/>
            <a:rect l="l" t="t" r="r" b="b"/>
            <a:pathLst>
              <a:path w="1008" h="605">
                <a:moveTo>
                  <a:pt x="0" y="96"/>
                </a:moveTo>
                <a:cubicBezTo>
                  <a:pt x="29" y="181"/>
                  <a:pt x="34" y="269"/>
                  <a:pt x="58" y="355"/>
                </a:cubicBezTo>
                <a:cubicBezTo>
                  <a:pt x="64" y="375"/>
                  <a:pt x="75" y="440"/>
                  <a:pt x="86" y="451"/>
                </a:cubicBezTo>
                <a:cubicBezTo>
                  <a:pt x="145" y="510"/>
                  <a:pt x="207" y="577"/>
                  <a:pt x="288" y="605"/>
                </a:cubicBezTo>
                <a:cubicBezTo>
                  <a:pt x="414" y="598"/>
                  <a:pt x="431" y="605"/>
                  <a:pt x="518" y="576"/>
                </a:cubicBezTo>
                <a:cubicBezTo>
                  <a:pt x="547" y="566"/>
                  <a:pt x="576" y="557"/>
                  <a:pt x="605" y="547"/>
                </a:cubicBezTo>
                <a:cubicBezTo>
                  <a:pt x="615" y="544"/>
                  <a:pt x="634" y="538"/>
                  <a:pt x="634" y="538"/>
                </a:cubicBezTo>
                <a:cubicBezTo>
                  <a:pt x="664" y="493"/>
                  <a:pt x="707" y="450"/>
                  <a:pt x="758" y="432"/>
                </a:cubicBezTo>
                <a:cubicBezTo>
                  <a:pt x="783" y="408"/>
                  <a:pt x="806" y="400"/>
                  <a:pt x="835" y="384"/>
                </a:cubicBezTo>
                <a:cubicBezTo>
                  <a:pt x="877" y="361"/>
                  <a:pt x="906" y="333"/>
                  <a:pt x="950" y="317"/>
                </a:cubicBezTo>
                <a:cubicBezTo>
                  <a:pt x="967" y="300"/>
                  <a:pt x="979" y="293"/>
                  <a:pt x="989" y="269"/>
                </a:cubicBezTo>
                <a:cubicBezTo>
                  <a:pt x="997" y="250"/>
                  <a:pt x="1008" y="211"/>
                  <a:pt x="1008" y="211"/>
                </a:cubicBezTo>
                <a:cubicBezTo>
                  <a:pt x="994" y="157"/>
                  <a:pt x="982" y="104"/>
                  <a:pt x="950" y="58"/>
                </a:cubicBezTo>
                <a:cubicBezTo>
                  <a:pt x="936" y="12"/>
                  <a:pt x="927" y="14"/>
                  <a:pt x="883" y="29"/>
                </a:cubicBezTo>
                <a:cubicBezTo>
                  <a:pt x="776" y="1"/>
                  <a:pt x="647" y="6"/>
                  <a:pt x="538" y="0"/>
                </a:cubicBezTo>
                <a:cubicBezTo>
                  <a:pt x="364" y="7"/>
                  <a:pt x="203" y="16"/>
                  <a:pt x="38" y="67"/>
                </a:cubicBezTo>
                <a:cubicBezTo>
                  <a:pt x="14" y="92"/>
                  <a:pt x="27" y="83"/>
                  <a:pt x="0" y="9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657680" y="641520"/>
            <a:ext cx="1911240" cy="158904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16160" y="4221000"/>
            <a:ext cx="2811600" cy="1847880"/>
          </a:xfrm>
          <a:custGeom>
            <a:avLst/>
            <a:gdLst/>
            <a:ahLst/>
            <a:rect l="l" t="t" r="r" b="b"/>
            <a:pathLst>
              <a:path w="1771" h="1248">
                <a:moveTo>
                  <a:pt x="111" y="153"/>
                </a:moveTo>
                <a:cubicBezTo>
                  <a:pt x="81" y="182"/>
                  <a:pt x="63" y="230"/>
                  <a:pt x="43" y="268"/>
                </a:cubicBezTo>
                <a:cubicBezTo>
                  <a:pt x="40" y="281"/>
                  <a:pt x="38" y="294"/>
                  <a:pt x="34" y="307"/>
                </a:cubicBezTo>
                <a:cubicBezTo>
                  <a:pt x="28" y="326"/>
                  <a:pt x="15" y="364"/>
                  <a:pt x="15" y="364"/>
                </a:cubicBezTo>
                <a:cubicBezTo>
                  <a:pt x="0" y="463"/>
                  <a:pt x="13" y="556"/>
                  <a:pt x="34" y="652"/>
                </a:cubicBezTo>
                <a:cubicBezTo>
                  <a:pt x="57" y="755"/>
                  <a:pt x="73" y="856"/>
                  <a:pt x="120" y="950"/>
                </a:cubicBezTo>
                <a:cubicBezTo>
                  <a:pt x="125" y="959"/>
                  <a:pt x="124" y="971"/>
                  <a:pt x="130" y="979"/>
                </a:cubicBezTo>
                <a:cubicBezTo>
                  <a:pt x="137" y="988"/>
                  <a:pt x="150" y="991"/>
                  <a:pt x="159" y="998"/>
                </a:cubicBezTo>
                <a:cubicBezTo>
                  <a:pt x="204" y="1036"/>
                  <a:pt x="255" y="1084"/>
                  <a:pt x="312" y="1104"/>
                </a:cubicBezTo>
                <a:cubicBezTo>
                  <a:pt x="390" y="1179"/>
                  <a:pt x="497" y="1195"/>
                  <a:pt x="600" y="1209"/>
                </a:cubicBezTo>
                <a:cubicBezTo>
                  <a:pt x="691" y="1222"/>
                  <a:pt x="778" y="1238"/>
                  <a:pt x="869" y="1248"/>
                </a:cubicBezTo>
                <a:cubicBezTo>
                  <a:pt x="1035" y="1241"/>
                  <a:pt x="1187" y="1225"/>
                  <a:pt x="1349" y="1200"/>
                </a:cubicBezTo>
                <a:cubicBezTo>
                  <a:pt x="1426" y="1174"/>
                  <a:pt x="1502" y="1146"/>
                  <a:pt x="1579" y="1123"/>
                </a:cubicBezTo>
                <a:cubicBezTo>
                  <a:pt x="1633" y="1107"/>
                  <a:pt x="1685" y="1097"/>
                  <a:pt x="1733" y="1065"/>
                </a:cubicBezTo>
                <a:cubicBezTo>
                  <a:pt x="1756" y="997"/>
                  <a:pt x="1741" y="1025"/>
                  <a:pt x="1771" y="979"/>
                </a:cubicBezTo>
                <a:cubicBezTo>
                  <a:pt x="1764" y="866"/>
                  <a:pt x="1757" y="815"/>
                  <a:pt x="1733" y="710"/>
                </a:cubicBezTo>
                <a:cubicBezTo>
                  <a:pt x="1720" y="655"/>
                  <a:pt x="1680" y="600"/>
                  <a:pt x="1647" y="556"/>
                </a:cubicBezTo>
                <a:cubicBezTo>
                  <a:pt x="1605" y="501"/>
                  <a:pt x="1593" y="445"/>
                  <a:pt x="1531" y="403"/>
                </a:cubicBezTo>
                <a:cubicBezTo>
                  <a:pt x="1451" y="349"/>
                  <a:pt x="1423" y="346"/>
                  <a:pt x="1320" y="316"/>
                </a:cubicBezTo>
                <a:cubicBezTo>
                  <a:pt x="1246" y="294"/>
                  <a:pt x="1175" y="265"/>
                  <a:pt x="1099" y="249"/>
                </a:cubicBezTo>
                <a:cubicBezTo>
                  <a:pt x="1041" y="237"/>
                  <a:pt x="951" y="225"/>
                  <a:pt x="888" y="201"/>
                </a:cubicBezTo>
                <a:cubicBezTo>
                  <a:pt x="684" y="124"/>
                  <a:pt x="481" y="34"/>
                  <a:pt x="264" y="0"/>
                </a:cubicBezTo>
                <a:cubicBezTo>
                  <a:pt x="219" y="9"/>
                  <a:pt x="190" y="17"/>
                  <a:pt x="149" y="38"/>
                </a:cubicBezTo>
                <a:cubicBezTo>
                  <a:pt x="123" y="77"/>
                  <a:pt x="82" y="108"/>
                  <a:pt x="43" y="134"/>
                </a:cubicBezTo>
                <a:cubicBezTo>
                  <a:pt x="40" y="144"/>
                  <a:pt x="24" y="194"/>
                  <a:pt x="24" y="201"/>
                </a:cubicBezTo>
                <a:cubicBezTo>
                  <a:pt x="24" y="236"/>
                  <a:pt x="34" y="272"/>
                  <a:pt x="34" y="307"/>
                </a:cubicBezTo>
                <a:lnTo>
                  <a:pt x="53" y="230"/>
                </a:lnTo>
                <a:lnTo>
                  <a:pt x="5" y="18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80880" y="2144880"/>
            <a:ext cx="3718080" cy="2427120"/>
          </a:xfrm>
          <a:custGeom>
            <a:avLst/>
            <a:gdLst/>
            <a:ahLst/>
            <a:rect l="l" t="t" r="r" b="b"/>
            <a:pathLst>
              <a:path w="2342" h="1639">
                <a:moveTo>
                  <a:pt x="1574" y="36"/>
                </a:moveTo>
                <a:cubicBezTo>
                  <a:pt x="1555" y="49"/>
                  <a:pt x="1536" y="61"/>
                  <a:pt x="1517" y="74"/>
                </a:cubicBezTo>
                <a:cubicBezTo>
                  <a:pt x="1499" y="86"/>
                  <a:pt x="1504" y="118"/>
                  <a:pt x="1488" y="132"/>
                </a:cubicBezTo>
                <a:cubicBezTo>
                  <a:pt x="1463" y="153"/>
                  <a:pt x="1411" y="190"/>
                  <a:pt x="1382" y="209"/>
                </a:cubicBezTo>
                <a:cubicBezTo>
                  <a:pt x="1369" y="228"/>
                  <a:pt x="1357" y="247"/>
                  <a:pt x="1344" y="266"/>
                </a:cubicBezTo>
                <a:cubicBezTo>
                  <a:pt x="1338" y="276"/>
                  <a:pt x="1325" y="295"/>
                  <a:pt x="1325" y="295"/>
                </a:cubicBezTo>
                <a:cubicBezTo>
                  <a:pt x="1308" y="362"/>
                  <a:pt x="1295" y="476"/>
                  <a:pt x="1248" y="526"/>
                </a:cubicBezTo>
                <a:cubicBezTo>
                  <a:pt x="1234" y="567"/>
                  <a:pt x="1211" y="604"/>
                  <a:pt x="1190" y="641"/>
                </a:cubicBezTo>
                <a:cubicBezTo>
                  <a:pt x="1167" y="681"/>
                  <a:pt x="1154" y="725"/>
                  <a:pt x="1133" y="766"/>
                </a:cubicBezTo>
                <a:cubicBezTo>
                  <a:pt x="1115" y="801"/>
                  <a:pt x="1103" y="853"/>
                  <a:pt x="1075" y="881"/>
                </a:cubicBezTo>
                <a:cubicBezTo>
                  <a:pt x="1036" y="920"/>
                  <a:pt x="984" y="951"/>
                  <a:pt x="941" y="986"/>
                </a:cubicBezTo>
                <a:cubicBezTo>
                  <a:pt x="915" y="1007"/>
                  <a:pt x="891" y="1036"/>
                  <a:pt x="864" y="1054"/>
                </a:cubicBezTo>
                <a:cubicBezTo>
                  <a:pt x="828" y="1078"/>
                  <a:pt x="787" y="1099"/>
                  <a:pt x="749" y="1121"/>
                </a:cubicBezTo>
                <a:cubicBezTo>
                  <a:pt x="666" y="1170"/>
                  <a:pt x="720" y="1149"/>
                  <a:pt x="662" y="1169"/>
                </a:cubicBezTo>
                <a:cubicBezTo>
                  <a:pt x="649" y="1179"/>
                  <a:pt x="638" y="1190"/>
                  <a:pt x="624" y="1198"/>
                </a:cubicBezTo>
                <a:cubicBezTo>
                  <a:pt x="615" y="1203"/>
                  <a:pt x="603" y="1201"/>
                  <a:pt x="595" y="1207"/>
                </a:cubicBezTo>
                <a:cubicBezTo>
                  <a:pt x="584" y="1214"/>
                  <a:pt x="577" y="1228"/>
                  <a:pt x="566" y="1236"/>
                </a:cubicBezTo>
                <a:cubicBezTo>
                  <a:pt x="558" y="1242"/>
                  <a:pt x="546" y="1241"/>
                  <a:pt x="537" y="1246"/>
                </a:cubicBezTo>
                <a:cubicBezTo>
                  <a:pt x="505" y="1262"/>
                  <a:pt x="475" y="1279"/>
                  <a:pt x="441" y="1294"/>
                </a:cubicBezTo>
                <a:cubicBezTo>
                  <a:pt x="344" y="1336"/>
                  <a:pt x="452" y="1296"/>
                  <a:pt x="374" y="1322"/>
                </a:cubicBezTo>
                <a:cubicBezTo>
                  <a:pt x="355" y="1328"/>
                  <a:pt x="317" y="1342"/>
                  <a:pt x="317" y="1342"/>
                </a:cubicBezTo>
                <a:cubicBezTo>
                  <a:pt x="215" y="1307"/>
                  <a:pt x="104" y="1310"/>
                  <a:pt x="0" y="1332"/>
                </a:cubicBezTo>
                <a:cubicBezTo>
                  <a:pt x="38" y="1357"/>
                  <a:pt x="70" y="1381"/>
                  <a:pt x="105" y="1409"/>
                </a:cubicBezTo>
                <a:cubicBezTo>
                  <a:pt x="126" y="1426"/>
                  <a:pt x="149" y="1454"/>
                  <a:pt x="173" y="1466"/>
                </a:cubicBezTo>
                <a:cubicBezTo>
                  <a:pt x="212" y="1486"/>
                  <a:pt x="260" y="1484"/>
                  <a:pt x="297" y="1505"/>
                </a:cubicBezTo>
                <a:cubicBezTo>
                  <a:pt x="340" y="1529"/>
                  <a:pt x="385" y="1576"/>
                  <a:pt x="432" y="1591"/>
                </a:cubicBezTo>
                <a:cubicBezTo>
                  <a:pt x="461" y="1610"/>
                  <a:pt x="476" y="1629"/>
                  <a:pt x="509" y="1639"/>
                </a:cubicBezTo>
                <a:cubicBezTo>
                  <a:pt x="528" y="1633"/>
                  <a:pt x="547" y="1626"/>
                  <a:pt x="566" y="1620"/>
                </a:cubicBezTo>
                <a:cubicBezTo>
                  <a:pt x="602" y="1608"/>
                  <a:pt x="628" y="1570"/>
                  <a:pt x="662" y="1553"/>
                </a:cubicBezTo>
                <a:cubicBezTo>
                  <a:pt x="723" y="1523"/>
                  <a:pt x="778" y="1485"/>
                  <a:pt x="835" y="1447"/>
                </a:cubicBezTo>
                <a:cubicBezTo>
                  <a:pt x="876" y="1420"/>
                  <a:pt x="923" y="1376"/>
                  <a:pt x="969" y="1361"/>
                </a:cubicBezTo>
                <a:cubicBezTo>
                  <a:pt x="1035" y="1299"/>
                  <a:pt x="913" y="1409"/>
                  <a:pt x="1046" y="1322"/>
                </a:cubicBezTo>
                <a:cubicBezTo>
                  <a:pt x="1160" y="1247"/>
                  <a:pt x="1333" y="1262"/>
                  <a:pt x="1459" y="1255"/>
                </a:cubicBezTo>
                <a:cubicBezTo>
                  <a:pt x="1520" y="1258"/>
                  <a:pt x="1581" y="1259"/>
                  <a:pt x="1641" y="1265"/>
                </a:cubicBezTo>
                <a:cubicBezTo>
                  <a:pt x="1677" y="1269"/>
                  <a:pt x="1712" y="1278"/>
                  <a:pt x="1747" y="1284"/>
                </a:cubicBezTo>
                <a:cubicBezTo>
                  <a:pt x="1766" y="1287"/>
                  <a:pt x="1805" y="1294"/>
                  <a:pt x="1805" y="1294"/>
                </a:cubicBezTo>
                <a:cubicBezTo>
                  <a:pt x="1905" y="1288"/>
                  <a:pt x="1975" y="1293"/>
                  <a:pt x="2064" y="1265"/>
                </a:cubicBezTo>
                <a:cubicBezTo>
                  <a:pt x="2110" y="1235"/>
                  <a:pt x="2133" y="1189"/>
                  <a:pt x="2179" y="1159"/>
                </a:cubicBezTo>
                <a:cubicBezTo>
                  <a:pt x="2216" y="1104"/>
                  <a:pt x="2246" y="1048"/>
                  <a:pt x="2285" y="996"/>
                </a:cubicBezTo>
                <a:cubicBezTo>
                  <a:pt x="2299" y="978"/>
                  <a:pt x="2310" y="957"/>
                  <a:pt x="2323" y="938"/>
                </a:cubicBezTo>
                <a:cubicBezTo>
                  <a:pt x="2329" y="929"/>
                  <a:pt x="2342" y="910"/>
                  <a:pt x="2342" y="910"/>
                </a:cubicBezTo>
                <a:cubicBezTo>
                  <a:pt x="2258" y="903"/>
                  <a:pt x="2198" y="925"/>
                  <a:pt x="2227" y="842"/>
                </a:cubicBezTo>
                <a:cubicBezTo>
                  <a:pt x="2218" y="760"/>
                  <a:pt x="2217" y="692"/>
                  <a:pt x="2237" y="612"/>
                </a:cubicBezTo>
                <a:cubicBezTo>
                  <a:pt x="2252" y="552"/>
                  <a:pt x="2238" y="614"/>
                  <a:pt x="2265" y="554"/>
                </a:cubicBezTo>
                <a:cubicBezTo>
                  <a:pt x="2302" y="472"/>
                  <a:pt x="2326" y="373"/>
                  <a:pt x="2342" y="286"/>
                </a:cubicBezTo>
                <a:cubicBezTo>
                  <a:pt x="2322" y="201"/>
                  <a:pt x="2240" y="233"/>
                  <a:pt x="2150" y="228"/>
                </a:cubicBezTo>
                <a:cubicBezTo>
                  <a:pt x="2086" y="224"/>
                  <a:pt x="2022" y="221"/>
                  <a:pt x="1958" y="218"/>
                </a:cubicBezTo>
                <a:cubicBezTo>
                  <a:pt x="1942" y="215"/>
                  <a:pt x="1926" y="213"/>
                  <a:pt x="1910" y="209"/>
                </a:cubicBezTo>
                <a:cubicBezTo>
                  <a:pt x="1891" y="204"/>
                  <a:pt x="1853" y="190"/>
                  <a:pt x="1853" y="190"/>
                </a:cubicBezTo>
                <a:cubicBezTo>
                  <a:pt x="1824" y="161"/>
                  <a:pt x="1789" y="139"/>
                  <a:pt x="1757" y="113"/>
                </a:cubicBezTo>
                <a:cubicBezTo>
                  <a:pt x="1725" y="88"/>
                  <a:pt x="1691" y="49"/>
                  <a:pt x="1651" y="36"/>
                </a:cubicBezTo>
                <a:cubicBezTo>
                  <a:pt x="1632" y="30"/>
                  <a:pt x="1612" y="23"/>
                  <a:pt x="1593" y="17"/>
                </a:cubicBezTo>
                <a:cubicBezTo>
                  <a:pt x="1584" y="14"/>
                  <a:pt x="1572" y="0"/>
                  <a:pt x="1565" y="7"/>
                </a:cubicBezTo>
                <a:cubicBezTo>
                  <a:pt x="1558" y="14"/>
                  <a:pt x="1571" y="26"/>
                  <a:pt x="1574" y="36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9366800">
            <a:off x="2786040" y="1468080"/>
            <a:ext cx="1947960" cy="852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95480" y="1363680"/>
            <a:ext cx="1927440" cy="148104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676520" y="5343480"/>
            <a:ext cx="992160" cy="58896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rot="2400000">
            <a:off x="2133360" y="3281400"/>
            <a:ext cx="380880" cy="355680"/>
          </a:xfrm>
          <a:prstGeom prst="leftRightArrow">
            <a:avLst>
              <a:gd name="adj1" fmla="val 50000"/>
              <a:gd name="adj2" fmla="val 2131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2400000">
            <a:off x="4190760" y="4703760"/>
            <a:ext cx="380880" cy="355680"/>
          </a:xfrm>
          <a:prstGeom prst="leftRightArrow">
            <a:avLst>
              <a:gd name="adj1" fmla="val 50000"/>
              <a:gd name="adj2" fmla="val 2131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1935600">
            <a:off x="456840" y="4276800"/>
            <a:ext cx="990720" cy="355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5181120" y="2287440"/>
            <a:ext cx="685800" cy="106524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905120" y="4632480"/>
            <a:ext cx="457200" cy="85248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09680" y="3281400"/>
            <a:ext cx="212760" cy="105264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286000" y="2712960"/>
            <a:ext cx="334800" cy="54468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438280" y="2571840"/>
            <a:ext cx="1204920" cy="78084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09880" y="2500200"/>
            <a:ext cx="457200" cy="3556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4572000" y="2073240"/>
            <a:ext cx="114300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4572000" y="2287440"/>
            <a:ext cx="129528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0" y="2571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3733920" y="4490640"/>
            <a:ext cx="83808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3657600" y="4774680"/>
            <a:ext cx="1143000" cy="1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57400" y="5699160"/>
            <a:ext cx="152280" cy="141120"/>
          </a:xfrm>
          <a:prstGeom prst="hexagon">
            <a:avLst>
              <a:gd name="adj" fmla="val 269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66680" y="5200560"/>
            <a:ext cx="152640" cy="142920"/>
          </a:xfrm>
          <a:prstGeom prst="hexagon">
            <a:avLst>
              <a:gd name="adj" fmla="val 267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00200" y="434808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47920" y="3851280"/>
            <a:ext cx="152280" cy="141120"/>
          </a:xfrm>
          <a:prstGeom prst="hexagon">
            <a:avLst>
              <a:gd name="adj" fmla="val 269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981080" y="4205160"/>
            <a:ext cx="152640" cy="142920"/>
          </a:xfrm>
          <a:prstGeom prst="hexagon">
            <a:avLst>
              <a:gd name="adj" fmla="val 267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743200" y="4135320"/>
            <a:ext cx="152280" cy="141480"/>
          </a:xfrm>
          <a:prstGeom prst="hexagon">
            <a:avLst>
              <a:gd name="adj" fmla="val 26908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86400" y="1363680"/>
            <a:ext cx="152280" cy="141120"/>
          </a:xfrm>
          <a:prstGeom prst="hexagon">
            <a:avLst>
              <a:gd name="adj" fmla="val 269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352680" y="4560840"/>
            <a:ext cx="533520" cy="4269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86000" y="5272200"/>
            <a:ext cx="533520" cy="4269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52680" y="5556240"/>
            <a:ext cx="152640" cy="212760"/>
          </a:xfrm>
          <a:custGeom>
            <a:avLst/>
            <a:gdLst>
              <a:gd name="textAreaLeft" fmla="*/ 0 w 152640"/>
              <a:gd name="textAreaRight" fmla="*/ 153000 w 1526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62520" y="4987800"/>
            <a:ext cx="152280" cy="212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19720" y="5200560"/>
            <a:ext cx="152280" cy="2145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105520" y="5200560"/>
            <a:ext cx="152280" cy="2145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572000" y="5983200"/>
            <a:ext cx="152280" cy="212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05520" y="5911920"/>
            <a:ext cx="152280" cy="212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886200" y="5983200"/>
            <a:ext cx="152280" cy="212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20140200">
            <a:off x="4876920" y="1292400"/>
            <a:ext cx="380880" cy="355320"/>
          </a:xfrm>
          <a:prstGeom prst="leftRightArrow">
            <a:avLst>
              <a:gd name="adj1" fmla="val 50000"/>
              <a:gd name="adj2" fmla="val 2133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72000" y="2927520"/>
            <a:ext cx="380880" cy="353880"/>
          </a:xfrm>
          <a:prstGeom prst="leftRightArrow">
            <a:avLst>
              <a:gd name="adj1" fmla="val 50000"/>
              <a:gd name="adj2" fmla="val 2142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2400000">
            <a:off x="2285640" y="4916520"/>
            <a:ext cx="380880" cy="355680"/>
          </a:xfrm>
          <a:prstGeom prst="leftRightArrow">
            <a:avLst>
              <a:gd name="adj1" fmla="val 50000"/>
              <a:gd name="adj2" fmla="val 2131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3360600">
            <a:off x="1307520" y="3268800"/>
            <a:ext cx="355680" cy="3812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86200" y="2643120"/>
            <a:ext cx="380880" cy="2844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200400" y="2357280"/>
            <a:ext cx="380880" cy="28584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 flipV="1">
            <a:off x="3652200" y="2736720"/>
            <a:ext cx="23832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343400" y="278460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3581280" y="2287080"/>
            <a:ext cx="76320" cy="212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3127320" y="2696760"/>
            <a:ext cx="150480" cy="4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3654000" y="3681720"/>
            <a:ext cx="181080" cy="23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 flipV="1">
            <a:off x="2296440" y="4060440"/>
            <a:ext cx="55440" cy="219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590920" y="4491000"/>
            <a:ext cx="22860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0" y="4276800"/>
            <a:ext cx="304920" cy="214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19720" y="2287440"/>
            <a:ext cx="152280" cy="2127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86200" y="2927520"/>
            <a:ext cx="152280" cy="2124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733920" y="3068640"/>
            <a:ext cx="304560" cy="28404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2003400"/>
            <a:ext cx="152280" cy="1414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48120" y="271296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514600" y="2712960"/>
            <a:ext cx="228600" cy="2844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124080" y="3851280"/>
            <a:ext cx="152640" cy="1411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00200" y="392112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05120" y="441972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flipV="1">
            <a:off x="1595160" y="4300560"/>
            <a:ext cx="23796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752480" y="4276800"/>
            <a:ext cx="228600" cy="214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670400" y="5558400"/>
            <a:ext cx="88560" cy="20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555200" y="5905440"/>
            <a:ext cx="14040" cy="225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523880" y="5699160"/>
            <a:ext cx="228600" cy="2127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4400" y="5415120"/>
            <a:ext cx="304920" cy="2124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086000">
            <a:off x="3276360" y="2571840"/>
            <a:ext cx="304560" cy="1847880"/>
          </a:xfrm>
          <a:custGeom>
            <a:avLst/>
            <a:gdLst>
              <a:gd name="textAreaLeft" fmla="*/ 0 w 304560"/>
              <a:gd name="textAreaRight" fmla="*/ 304920 w 304560"/>
              <a:gd name="textAreaTop" fmla="*/ 0 h 1847880"/>
              <a:gd name="textAreaBottom" fmla="*/ 1848240 h 1847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09480" y="4205160"/>
            <a:ext cx="228600" cy="427320"/>
          </a:xfrm>
          <a:prstGeom prst="upArrow">
            <a:avLst>
              <a:gd name="adj1" fmla="val 50000"/>
              <a:gd name="adj2" fmla="val 46732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rot="18112800">
            <a:off x="4465440" y="4225320"/>
            <a:ext cx="212760" cy="457200"/>
          </a:xfrm>
          <a:prstGeom prst="upArrow">
            <a:avLst>
              <a:gd name="adj1" fmla="val 50000"/>
              <a:gd name="adj2" fmla="val 53723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rot="21340200">
            <a:off x="5943240" y="2428920"/>
            <a:ext cx="914400" cy="214200"/>
          </a:xfrm>
          <a:prstGeom prst="leftArrow">
            <a:avLst>
              <a:gd name="adj1" fmla="val 50000"/>
              <a:gd name="adj2" fmla="val 1067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20350800">
            <a:off x="5943600" y="936720"/>
            <a:ext cx="1066680" cy="212760"/>
          </a:xfrm>
          <a:prstGeom prst="leftArrow">
            <a:avLst>
              <a:gd name="adj1" fmla="val 50000"/>
              <a:gd name="adj2" fmla="val 1253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1312200">
            <a:off x="3123720" y="5840280"/>
            <a:ext cx="533520" cy="35568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1549200">
            <a:off x="3885840" y="2003400"/>
            <a:ext cx="482760" cy="163368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98560" y="3808440"/>
            <a:ext cx="2911320" cy="220176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410080" y="1079640"/>
            <a:ext cx="716040" cy="538200"/>
          </a:xfrm>
          <a:custGeom>
            <a:avLst/>
            <a:gdLst/>
            <a:ahLst/>
            <a:rect l="l" t="t" r="r" b="b"/>
            <a:pathLst>
              <a:path w="451" h="364">
                <a:moveTo>
                  <a:pt x="69" y="28"/>
                </a:moveTo>
                <a:cubicBezTo>
                  <a:pt x="63" y="19"/>
                  <a:pt x="61" y="0"/>
                  <a:pt x="50" y="0"/>
                </a:cubicBezTo>
                <a:cubicBezTo>
                  <a:pt x="40" y="0"/>
                  <a:pt x="38" y="18"/>
                  <a:pt x="40" y="28"/>
                </a:cubicBezTo>
                <a:cubicBezTo>
                  <a:pt x="42" y="37"/>
                  <a:pt x="53" y="41"/>
                  <a:pt x="60" y="48"/>
                </a:cubicBezTo>
                <a:cubicBezTo>
                  <a:pt x="78" y="104"/>
                  <a:pt x="62" y="154"/>
                  <a:pt x="31" y="201"/>
                </a:cubicBezTo>
                <a:cubicBezTo>
                  <a:pt x="34" y="217"/>
                  <a:pt x="40" y="233"/>
                  <a:pt x="40" y="249"/>
                </a:cubicBezTo>
                <a:cubicBezTo>
                  <a:pt x="40" y="363"/>
                  <a:pt x="0" y="325"/>
                  <a:pt x="60" y="364"/>
                </a:cubicBezTo>
                <a:cubicBezTo>
                  <a:pt x="79" y="358"/>
                  <a:pt x="98" y="351"/>
                  <a:pt x="117" y="345"/>
                </a:cubicBezTo>
                <a:cubicBezTo>
                  <a:pt x="127" y="342"/>
                  <a:pt x="146" y="336"/>
                  <a:pt x="146" y="336"/>
                </a:cubicBezTo>
                <a:cubicBezTo>
                  <a:pt x="180" y="300"/>
                  <a:pt x="242" y="303"/>
                  <a:pt x="290" y="288"/>
                </a:cubicBezTo>
                <a:cubicBezTo>
                  <a:pt x="296" y="281"/>
                  <a:pt x="300" y="270"/>
                  <a:pt x="309" y="268"/>
                </a:cubicBezTo>
                <a:cubicBezTo>
                  <a:pt x="351" y="261"/>
                  <a:pt x="388" y="313"/>
                  <a:pt x="424" y="326"/>
                </a:cubicBezTo>
                <a:cubicBezTo>
                  <a:pt x="451" y="248"/>
                  <a:pt x="399" y="222"/>
                  <a:pt x="348" y="182"/>
                </a:cubicBezTo>
                <a:cubicBezTo>
                  <a:pt x="320" y="160"/>
                  <a:pt x="310" y="135"/>
                  <a:pt x="280" y="115"/>
                </a:cubicBezTo>
                <a:cubicBezTo>
                  <a:pt x="234" y="45"/>
                  <a:pt x="276" y="92"/>
                  <a:pt x="117" y="76"/>
                </a:cubicBezTo>
                <a:cubicBezTo>
                  <a:pt x="101" y="74"/>
                  <a:pt x="85" y="71"/>
                  <a:pt x="69" y="67"/>
                </a:cubicBezTo>
                <a:cubicBezTo>
                  <a:pt x="59" y="65"/>
                  <a:pt x="40" y="67"/>
                  <a:pt x="40" y="57"/>
                </a:cubicBezTo>
                <a:cubicBezTo>
                  <a:pt x="40" y="43"/>
                  <a:pt x="59" y="38"/>
                  <a:pt x="69" y="28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162920" y="164772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ériphéries délaissées pour des raisons politiq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391520" y="652320"/>
            <a:ext cx="761760" cy="56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170160" y="5129280"/>
            <a:ext cx="1389240" cy="498240"/>
          </a:xfrm>
          <a:custGeom>
            <a:avLst/>
            <a:gdLst/>
            <a:ahLst/>
            <a:rect l="l" t="t" r="r" b="b"/>
            <a:pathLst>
              <a:path w="875" h="336">
                <a:moveTo>
                  <a:pt x="0" y="115"/>
                </a:moveTo>
                <a:cubicBezTo>
                  <a:pt x="16" y="112"/>
                  <a:pt x="32" y="110"/>
                  <a:pt x="48" y="106"/>
                </a:cubicBezTo>
                <a:cubicBezTo>
                  <a:pt x="58" y="104"/>
                  <a:pt x="74" y="106"/>
                  <a:pt x="77" y="96"/>
                </a:cubicBezTo>
                <a:cubicBezTo>
                  <a:pt x="80" y="87"/>
                  <a:pt x="64" y="83"/>
                  <a:pt x="57" y="77"/>
                </a:cubicBezTo>
                <a:cubicBezTo>
                  <a:pt x="93" y="43"/>
                  <a:pt x="145" y="35"/>
                  <a:pt x="192" y="19"/>
                </a:cubicBezTo>
                <a:cubicBezTo>
                  <a:pt x="306" y="94"/>
                  <a:pt x="465" y="96"/>
                  <a:pt x="595" y="106"/>
                </a:cubicBezTo>
                <a:cubicBezTo>
                  <a:pt x="642" y="117"/>
                  <a:pt x="676" y="139"/>
                  <a:pt x="720" y="154"/>
                </a:cubicBezTo>
                <a:cubicBezTo>
                  <a:pt x="739" y="213"/>
                  <a:pt x="798" y="242"/>
                  <a:pt x="854" y="259"/>
                </a:cubicBezTo>
                <a:cubicBezTo>
                  <a:pt x="860" y="269"/>
                  <a:pt x="875" y="277"/>
                  <a:pt x="873" y="288"/>
                </a:cubicBezTo>
                <a:cubicBezTo>
                  <a:pt x="871" y="299"/>
                  <a:pt x="855" y="302"/>
                  <a:pt x="845" y="307"/>
                </a:cubicBezTo>
                <a:cubicBezTo>
                  <a:pt x="817" y="319"/>
                  <a:pt x="787" y="326"/>
                  <a:pt x="758" y="336"/>
                </a:cubicBezTo>
                <a:cubicBezTo>
                  <a:pt x="691" y="324"/>
                  <a:pt x="644" y="317"/>
                  <a:pt x="576" y="326"/>
                </a:cubicBezTo>
                <a:cubicBezTo>
                  <a:pt x="589" y="306"/>
                  <a:pt x="609" y="294"/>
                  <a:pt x="585" y="269"/>
                </a:cubicBezTo>
                <a:cubicBezTo>
                  <a:pt x="582" y="266"/>
                  <a:pt x="531" y="251"/>
                  <a:pt x="528" y="250"/>
                </a:cubicBezTo>
                <a:cubicBezTo>
                  <a:pt x="515" y="244"/>
                  <a:pt x="503" y="235"/>
                  <a:pt x="489" y="230"/>
                </a:cubicBezTo>
                <a:cubicBezTo>
                  <a:pt x="470" y="222"/>
                  <a:pt x="449" y="222"/>
                  <a:pt x="432" y="211"/>
                </a:cubicBezTo>
                <a:cubicBezTo>
                  <a:pt x="393" y="185"/>
                  <a:pt x="360" y="159"/>
                  <a:pt x="317" y="144"/>
                </a:cubicBezTo>
                <a:cubicBezTo>
                  <a:pt x="266" y="157"/>
                  <a:pt x="212" y="158"/>
                  <a:pt x="163" y="134"/>
                </a:cubicBezTo>
                <a:cubicBezTo>
                  <a:pt x="134" y="119"/>
                  <a:pt x="120" y="106"/>
                  <a:pt x="86" y="106"/>
                </a:cubicBezTo>
                <a:cubicBezTo>
                  <a:pt x="83" y="93"/>
                  <a:pt x="77" y="67"/>
                  <a:pt x="77" y="67"/>
                </a:cubicBezTo>
                <a:cubicBezTo>
                  <a:pt x="90" y="77"/>
                  <a:pt x="108" y="82"/>
                  <a:pt x="115" y="96"/>
                </a:cubicBezTo>
                <a:cubicBezTo>
                  <a:pt x="119" y="105"/>
                  <a:pt x="86" y="86"/>
                  <a:pt x="86" y="86"/>
                </a:cubicBezTo>
                <a:cubicBezTo>
                  <a:pt x="118" y="44"/>
                  <a:pt x="126" y="37"/>
                  <a:pt x="105" y="58"/>
                </a:cubicBezTo>
                <a:cubicBezTo>
                  <a:pt x="106" y="57"/>
                  <a:pt x="143" y="20"/>
                  <a:pt x="144" y="19"/>
                </a:cubicBezTo>
                <a:cubicBezTo>
                  <a:pt x="314" y="49"/>
                  <a:pt x="356" y="74"/>
                  <a:pt x="288" y="38"/>
                </a:cubicBezTo>
                <a:lnTo>
                  <a:pt x="211" y="0"/>
                </a:lnTo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 rot="20794800">
            <a:off x="1146960" y="3805200"/>
            <a:ext cx="1981440" cy="141840"/>
          </a:xfrm>
          <a:custGeom>
            <a:avLst/>
            <a:gdLst>
              <a:gd name="textAreaLeft" fmla="*/ 360 w 1981440"/>
              <a:gd name="textAreaRight" fmla="*/ 1982160 w 1981440"/>
              <a:gd name="textAreaTop" fmla="*/ 0 h 141840"/>
              <a:gd name="textAreaBottom" fmla="*/ 141840 h 1418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380880" y="652320"/>
          <a:ext cx="6886800" cy="58723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652320"/>
                    <a:ext cx="688680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/un littoral inégalement ouve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es atouts natur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3552840" y="380880"/>
            <a:ext cx="1585800" cy="930240"/>
          </a:xfrm>
          <a:custGeom>
            <a:avLst/>
            <a:gdLst/>
            <a:ahLst/>
            <a:rect l="l" t="t" r="r" b="b"/>
            <a:pathLst>
              <a:path w="1008" h="605">
                <a:moveTo>
                  <a:pt x="0" y="96"/>
                </a:moveTo>
                <a:cubicBezTo>
                  <a:pt x="29" y="181"/>
                  <a:pt x="34" y="269"/>
                  <a:pt x="58" y="355"/>
                </a:cubicBezTo>
                <a:cubicBezTo>
                  <a:pt x="64" y="375"/>
                  <a:pt x="75" y="440"/>
                  <a:pt x="86" y="451"/>
                </a:cubicBezTo>
                <a:cubicBezTo>
                  <a:pt x="145" y="510"/>
                  <a:pt x="207" y="577"/>
                  <a:pt x="288" y="605"/>
                </a:cubicBezTo>
                <a:cubicBezTo>
                  <a:pt x="414" y="598"/>
                  <a:pt x="431" y="605"/>
                  <a:pt x="518" y="576"/>
                </a:cubicBezTo>
                <a:cubicBezTo>
                  <a:pt x="547" y="566"/>
                  <a:pt x="576" y="557"/>
                  <a:pt x="605" y="547"/>
                </a:cubicBezTo>
                <a:cubicBezTo>
                  <a:pt x="615" y="544"/>
                  <a:pt x="634" y="538"/>
                  <a:pt x="634" y="538"/>
                </a:cubicBezTo>
                <a:cubicBezTo>
                  <a:pt x="664" y="493"/>
                  <a:pt x="707" y="450"/>
                  <a:pt x="758" y="432"/>
                </a:cubicBezTo>
                <a:cubicBezTo>
                  <a:pt x="783" y="408"/>
                  <a:pt x="806" y="400"/>
                  <a:pt x="835" y="384"/>
                </a:cubicBezTo>
                <a:cubicBezTo>
                  <a:pt x="877" y="361"/>
                  <a:pt x="906" y="333"/>
                  <a:pt x="950" y="317"/>
                </a:cubicBezTo>
                <a:cubicBezTo>
                  <a:pt x="967" y="300"/>
                  <a:pt x="979" y="293"/>
                  <a:pt x="989" y="269"/>
                </a:cubicBezTo>
                <a:cubicBezTo>
                  <a:pt x="997" y="250"/>
                  <a:pt x="1008" y="211"/>
                  <a:pt x="1008" y="211"/>
                </a:cubicBezTo>
                <a:cubicBezTo>
                  <a:pt x="994" y="157"/>
                  <a:pt x="982" y="104"/>
                  <a:pt x="950" y="58"/>
                </a:cubicBezTo>
                <a:cubicBezTo>
                  <a:pt x="936" y="12"/>
                  <a:pt x="927" y="14"/>
                  <a:pt x="883" y="29"/>
                </a:cubicBezTo>
                <a:cubicBezTo>
                  <a:pt x="776" y="1"/>
                  <a:pt x="647" y="6"/>
                  <a:pt x="538" y="0"/>
                </a:cubicBezTo>
                <a:cubicBezTo>
                  <a:pt x="364" y="7"/>
                  <a:pt x="203" y="16"/>
                  <a:pt x="38" y="67"/>
                </a:cubicBezTo>
                <a:cubicBezTo>
                  <a:pt x="14" y="92"/>
                  <a:pt x="27" y="83"/>
                  <a:pt x="0" y="96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7200" y="1976400"/>
            <a:ext cx="3684600" cy="2521080"/>
          </a:xfrm>
          <a:custGeom>
            <a:avLst/>
            <a:gdLst/>
            <a:ahLst/>
            <a:rect l="l" t="t" r="r" b="b"/>
            <a:pathLst>
              <a:path w="2342" h="1639">
                <a:moveTo>
                  <a:pt x="1574" y="36"/>
                </a:moveTo>
                <a:cubicBezTo>
                  <a:pt x="1555" y="49"/>
                  <a:pt x="1536" y="61"/>
                  <a:pt x="1517" y="74"/>
                </a:cubicBezTo>
                <a:cubicBezTo>
                  <a:pt x="1499" y="86"/>
                  <a:pt x="1504" y="118"/>
                  <a:pt x="1488" y="132"/>
                </a:cubicBezTo>
                <a:cubicBezTo>
                  <a:pt x="1463" y="153"/>
                  <a:pt x="1411" y="190"/>
                  <a:pt x="1382" y="209"/>
                </a:cubicBezTo>
                <a:cubicBezTo>
                  <a:pt x="1369" y="228"/>
                  <a:pt x="1357" y="247"/>
                  <a:pt x="1344" y="266"/>
                </a:cubicBezTo>
                <a:cubicBezTo>
                  <a:pt x="1338" y="276"/>
                  <a:pt x="1325" y="295"/>
                  <a:pt x="1325" y="295"/>
                </a:cubicBezTo>
                <a:cubicBezTo>
                  <a:pt x="1308" y="362"/>
                  <a:pt x="1295" y="476"/>
                  <a:pt x="1248" y="526"/>
                </a:cubicBezTo>
                <a:cubicBezTo>
                  <a:pt x="1234" y="567"/>
                  <a:pt x="1211" y="604"/>
                  <a:pt x="1190" y="641"/>
                </a:cubicBezTo>
                <a:cubicBezTo>
                  <a:pt x="1167" y="681"/>
                  <a:pt x="1154" y="725"/>
                  <a:pt x="1133" y="766"/>
                </a:cubicBezTo>
                <a:cubicBezTo>
                  <a:pt x="1115" y="801"/>
                  <a:pt x="1103" y="853"/>
                  <a:pt x="1075" y="881"/>
                </a:cubicBezTo>
                <a:cubicBezTo>
                  <a:pt x="1036" y="920"/>
                  <a:pt x="984" y="951"/>
                  <a:pt x="941" y="986"/>
                </a:cubicBezTo>
                <a:cubicBezTo>
                  <a:pt x="915" y="1007"/>
                  <a:pt x="891" y="1036"/>
                  <a:pt x="864" y="1054"/>
                </a:cubicBezTo>
                <a:cubicBezTo>
                  <a:pt x="828" y="1078"/>
                  <a:pt x="787" y="1099"/>
                  <a:pt x="749" y="1121"/>
                </a:cubicBezTo>
                <a:cubicBezTo>
                  <a:pt x="666" y="1170"/>
                  <a:pt x="720" y="1149"/>
                  <a:pt x="662" y="1169"/>
                </a:cubicBezTo>
                <a:cubicBezTo>
                  <a:pt x="649" y="1179"/>
                  <a:pt x="638" y="1190"/>
                  <a:pt x="624" y="1198"/>
                </a:cubicBezTo>
                <a:cubicBezTo>
                  <a:pt x="615" y="1203"/>
                  <a:pt x="603" y="1201"/>
                  <a:pt x="595" y="1207"/>
                </a:cubicBezTo>
                <a:cubicBezTo>
                  <a:pt x="584" y="1214"/>
                  <a:pt x="577" y="1228"/>
                  <a:pt x="566" y="1236"/>
                </a:cubicBezTo>
                <a:cubicBezTo>
                  <a:pt x="558" y="1242"/>
                  <a:pt x="546" y="1241"/>
                  <a:pt x="537" y="1246"/>
                </a:cubicBezTo>
                <a:cubicBezTo>
                  <a:pt x="505" y="1262"/>
                  <a:pt x="475" y="1279"/>
                  <a:pt x="441" y="1294"/>
                </a:cubicBezTo>
                <a:cubicBezTo>
                  <a:pt x="344" y="1336"/>
                  <a:pt x="452" y="1296"/>
                  <a:pt x="374" y="1322"/>
                </a:cubicBezTo>
                <a:cubicBezTo>
                  <a:pt x="355" y="1328"/>
                  <a:pt x="317" y="1342"/>
                  <a:pt x="317" y="1342"/>
                </a:cubicBezTo>
                <a:cubicBezTo>
                  <a:pt x="215" y="1307"/>
                  <a:pt x="104" y="1310"/>
                  <a:pt x="0" y="1332"/>
                </a:cubicBezTo>
                <a:cubicBezTo>
                  <a:pt x="38" y="1357"/>
                  <a:pt x="70" y="1381"/>
                  <a:pt x="105" y="1409"/>
                </a:cubicBezTo>
                <a:cubicBezTo>
                  <a:pt x="126" y="1426"/>
                  <a:pt x="149" y="1454"/>
                  <a:pt x="173" y="1466"/>
                </a:cubicBezTo>
                <a:cubicBezTo>
                  <a:pt x="212" y="1486"/>
                  <a:pt x="260" y="1484"/>
                  <a:pt x="297" y="1505"/>
                </a:cubicBezTo>
                <a:cubicBezTo>
                  <a:pt x="340" y="1529"/>
                  <a:pt x="385" y="1576"/>
                  <a:pt x="432" y="1591"/>
                </a:cubicBezTo>
                <a:cubicBezTo>
                  <a:pt x="461" y="1610"/>
                  <a:pt x="476" y="1629"/>
                  <a:pt x="509" y="1639"/>
                </a:cubicBezTo>
                <a:cubicBezTo>
                  <a:pt x="528" y="1633"/>
                  <a:pt x="547" y="1626"/>
                  <a:pt x="566" y="1620"/>
                </a:cubicBezTo>
                <a:cubicBezTo>
                  <a:pt x="602" y="1608"/>
                  <a:pt x="628" y="1570"/>
                  <a:pt x="662" y="1553"/>
                </a:cubicBezTo>
                <a:cubicBezTo>
                  <a:pt x="723" y="1523"/>
                  <a:pt x="778" y="1485"/>
                  <a:pt x="835" y="1447"/>
                </a:cubicBezTo>
                <a:cubicBezTo>
                  <a:pt x="876" y="1420"/>
                  <a:pt x="923" y="1376"/>
                  <a:pt x="969" y="1361"/>
                </a:cubicBezTo>
                <a:cubicBezTo>
                  <a:pt x="1035" y="1299"/>
                  <a:pt x="913" y="1409"/>
                  <a:pt x="1046" y="1322"/>
                </a:cubicBezTo>
                <a:cubicBezTo>
                  <a:pt x="1160" y="1247"/>
                  <a:pt x="1333" y="1262"/>
                  <a:pt x="1459" y="1255"/>
                </a:cubicBezTo>
                <a:cubicBezTo>
                  <a:pt x="1520" y="1258"/>
                  <a:pt x="1581" y="1259"/>
                  <a:pt x="1641" y="1265"/>
                </a:cubicBezTo>
                <a:cubicBezTo>
                  <a:pt x="1677" y="1269"/>
                  <a:pt x="1712" y="1278"/>
                  <a:pt x="1747" y="1284"/>
                </a:cubicBezTo>
                <a:cubicBezTo>
                  <a:pt x="1766" y="1287"/>
                  <a:pt x="1805" y="1294"/>
                  <a:pt x="1805" y="1294"/>
                </a:cubicBezTo>
                <a:cubicBezTo>
                  <a:pt x="1905" y="1288"/>
                  <a:pt x="1975" y="1293"/>
                  <a:pt x="2064" y="1265"/>
                </a:cubicBezTo>
                <a:cubicBezTo>
                  <a:pt x="2110" y="1235"/>
                  <a:pt x="2133" y="1189"/>
                  <a:pt x="2179" y="1159"/>
                </a:cubicBezTo>
                <a:cubicBezTo>
                  <a:pt x="2216" y="1104"/>
                  <a:pt x="2246" y="1048"/>
                  <a:pt x="2285" y="996"/>
                </a:cubicBezTo>
                <a:cubicBezTo>
                  <a:pt x="2299" y="978"/>
                  <a:pt x="2310" y="957"/>
                  <a:pt x="2323" y="938"/>
                </a:cubicBezTo>
                <a:cubicBezTo>
                  <a:pt x="2329" y="929"/>
                  <a:pt x="2342" y="910"/>
                  <a:pt x="2342" y="910"/>
                </a:cubicBezTo>
                <a:cubicBezTo>
                  <a:pt x="2258" y="903"/>
                  <a:pt x="2198" y="925"/>
                  <a:pt x="2227" y="842"/>
                </a:cubicBezTo>
                <a:cubicBezTo>
                  <a:pt x="2218" y="760"/>
                  <a:pt x="2217" y="692"/>
                  <a:pt x="2237" y="612"/>
                </a:cubicBezTo>
                <a:cubicBezTo>
                  <a:pt x="2252" y="552"/>
                  <a:pt x="2238" y="614"/>
                  <a:pt x="2265" y="554"/>
                </a:cubicBezTo>
                <a:cubicBezTo>
                  <a:pt x="2302" y="472"/>
                  <a:pt x="2326" y="373"/>
                  <a:pt x="2342" y="286"/>
                </a:cubicBezTo>
                <a:cubicBezTo>
                  <a:pt x="2322" y="201"/>
                  <a:pt x="2240" y="233"/>
                  <a:pt x="2150" y="228"/>
                </a:cubicBezTo>
                <a:cubicBezTo>
                  <a:pt x="2086" y="224"/>
                  <a:pt x="2022" y="221"/>
                  <a:pt x="1958" y="218"/>
                </a:cubicBezTo>
                <a:cubicBezTo>
                  <a:pt x="1942" y="215"/>
                  <a:pt x="1926" y="213"/>
                  <a:pt x="1910" y="209"/>
                </a:cubicBezTo>
                <a:cubicBezTo>
                  <a:pt x="1891" y="204"/>
                  <a:pt x="1853" y="190"/>
                  <a:pt x="1853" y="190"/>
                </a:cubicBezTo>
                <a:cubicBezTo>
                  <a:pt x="1824" y="161"/>
                  <a:pt x="1789" y="139"/>
                  <a:pt x="1757" y="113"/>
                </a:cubicBezTo>
                <a:cubicBezTo>
                  <a:pt x="1725" y="88"/>
                  <a:pt x="1691" y="49"/>
                  <a:pt x="1651" y="36"/>
                </a:cubicBezTo>
                <a:cubicBezTo>
                  <a:pt x="1632" y="30"/>
                  <a:pt x="1612" y="23"/>
                  <a:pt x="1593" y="17"/>
                </a:cubicBezTo>
                <a:cubicBezTo>
                  <a:pt x="1584" y="14"/>
                  <a:pt x="1572" y="0"/>
                  <a:pt x="1565" y="7"/>
                </a:cubicBezTo>
                <a:cubicBezTo>
                  <a:pt x="1558" y="14"/>
                  <a:pt x="1571" y="26"/>
                  <a:pt x="1574" y="36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9366800">
            <a:off x="2492280" y="1361880"/>
            <a:ext cx="2374920" cy="885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024360" y="190188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or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935600">
            <a:off x="380520" y="4117680"/>
            <a:ext cx="981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66920" y="4132440"/>
            <a:ext cx="2787840" cy="1920600"/>
          </a:xfrm>
          <a:custGeom>
            <a:avLst/>
            <a:gdLst/>
            <a:ahLst/>
            <a:rect l="l" t="t" r="r" b="b"/>
            <a:pathLst>
              <a:path w="1771" h="1248">
                <a:moveTo>
                  <a:pt x="111" y="153"/>
                </a:moveTo>
                <a:cubicBezTo>
                  <a:pt x="81" y="182"/>
                  <a:pt x="63" y="230"/>
                  <a:pt x="43" y="268"/>
                </a:cubicBezTo>
                <a:cubicBezTo>
                  <a:pt x="40" y="281"/>
                  <a:pt x="38" y="294"/>
                  <a:pt x="34" y="307"/>
                </a:cubicBezTo>
                <a:cubicBezTo>
                  <a:pt x="28" y="326"/>
                  <a:pt x="15" y="364"/>
                  <a:pt x="15" y="364"/>
                </a:cubicBezTo>
                <a:cubicBezTo>
                  <a:pt x="0" y="463"/>
                  <a:pt x="13" y="556"/>
                  <a:pt x="34" y="652"/>
                </a:cubicBezTo>
                <a:cubicBezTo>
                  <a:pt x="57" y="755"/>
                  <a:pt x="73" y="856"/>
                  <a:pt x="120" y="950"/>
                </a:cubicBezTo>
                <a:cubicBezTo>
                  <a:pt x="125" y="959"/>
                  <a:pt x="124" y="971"/>
                  <a:pt x="130" y="979"/>
                </a:cubicBezTo>
                <a:cubicBezTo>
                  <a:pt x="137" y="988"/>
                  <a:pt x="150" y="991"/>
                  <a:pt x="159" y="998"/>
                </a:cubicBezTo>
                <a:cubicBezTo>
                  <a:pt x="204" y="1036"/>
                  <a:pt x="255" y="1084"/>
                  <a:pt x="312" y="1104"/>
                </a:cubicBezTo>
                <a:cubicBezTo>
                  <a:pt x="390" y="1179"/>
                  <a:pt x="497" y="1195"/>
                  <a:pt x="600" y="1209"/>
                </a:cubicBezTo>
                <a:cubicBezTo>
                  <a:pt x="691" y="1222"/>
                  <a:pt x="778" y="1238"/>
                  <a:pt x="869" y="1248"/>
                </a:cubicBezTo>
                <a:cubicBezTo>
                  <a:pt x="1035" y="1241"/>
                  <a:pt x="1187" y="1225"/>
                  <a:pt x="1349" y="1200"/>
                </a:cubicBezTo>
                <a:cubicBezTo>
                  <a:pt x="1426" y="1174"/>
                  <a:pt x="1502" y="1146"/>
                  <a:pt x="1579" y="1123"/>
                </a:cubicBezTo>
                <a:cubicBezTo>
                  <a:pt x="1633" y="1107"/>
                  <a:pt x="1685" y="1097"/>
                  <a:pt x="1733" y="1065"/>
                </a:cubicBezTo>
                <a:cubicBezTo>
                  <a:pt x="1756" y="997"/>
                  <a:pt x="1741" y="1025"/>
                  <a:pt x="1771" y="979"/>
                </a:cubicBezTo>
                <a:cubicBezTo>
                  <a:pt x="1764" y="866"/>
                  <a:pt x="1757" y="815"/>
                  <a:pt x="1733" y="710"/>
                </a:cubicBezTo>
                <a:cubicBezTo>
                  <a:pt x="1720" y="655"/>
                  <a:pt x="1680" y="600"/>
                  <a:pt x="1647" y="556"/>
                </a:cubicBezTo>
                <a:cubicBezTo>
                  <a:pt x="1605" y="501"/>
                  <a:pt x="1593" y="445"/>
                  <a:pt x="1531" y="403"/>
                </a:cubicBezTo>
                <a:cubicBezTo>
                  <a:pt x="1451" y="349"/>
                  <a:pt x="1423" y="346"/>
                  <a:pt x="1320" y="316"/>
                </a:cubicBezTo>
                <a:cubicBezTo>
                  <a:pt x="1246" y="294"/>
                  <a:pt x="1175" y="265"/>
                  <a:pt x="1099" y="249"/>
                </a:cubicBezTo>
                <a:cubicBezTo>
                  <a:pt x="1041" y="237"/>
                  <a:pt x="951" y="225"/>
                  <a:pt x="888" y="201"/>
                </a:cubicBezTo>
                <a:cubicBezTo>
                  <a:pt x="684" y="124"/>
                  <a:pt x="481" y="34"/>
                  <a:pt x="264" y="0"/>
                </a:cubicBezTo>
                <a:cubicBezTo>
                  <a:pt x="219" y="9"/>
                  <a:pt x="190" y="17"/>
                  <a:pt x="149" y="38"/>
                </a:cubicBezTo>
                <a:cubicBezTo>
                  <a:pt x="123" y="77"/>
                  <a:pt x="82" y="108"/>
                  <a:pt x="43" y="134"/>
                </a:cubicBezTo>
                <a:cubicBezTo>
                  <a:pt x="40" y="144"/>
                  <a:pt x="24" y="194"/>
                  <a:pt x="24" y="201"/>
                </a:cubicBezTo>
                <a:cubicBezTo>
                  <a:pt x="24" y="236"/>
                  <a:pt x="34" y="272"/>
                  <a:pt x="34" y="307"/>
                </a:cubicBezTo>
                <a:lnTo>
                  <a:pt x="53" y="230"/>
                </a:lnTo>
                <a:lnTo>
                  <a:pt x="5" y="18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703680" y="1297080"/>
            <a:ext cx="1073160" cy="1181160"/>
          </a:xfrm>
          <a:custGeom>
            <a:avLst/>
            <a:gdLst/>
            <a:ahLst/>
            <a:rect l="l" t="t" r="r" b="b"/>
            <a:pathLst>
              <a:path w="682" h="768">
                <a:moveTo>
                  <a:pt x="106" y="634"/>
                </a:moveTo>
                <a:cubicBezTo>
                  <a:pt x="116" y="592"/>
                  <a:pt x="130" y="582"/>
                  <a:pt x="154" y="548"/>
                </a:cubicBezTo>
                <a:cubicBezTo>
                  <a:pt x="182" y="461"/>
                  <a:pt x="237" y="389"/>
                  <a:pt x="278" y="308"/>
                </a:cubicBezTo>
                <a:cubicBezTo>
                  <a:pt x="314" y="238"/>
                  <a:pt x="344" y="172"/>
                  <a:pt x="422" y="144"/>
                </a:cubicBezTo>
                <a:cubicBezTo>
                  <a:pt x="477" y="89"/>
                  <a:pt x="448" y="103"/>
                  <a:pt x="499" y="87"/>
                </a:cubicBezTo>
                <a:cubicBezTo>
                  <a:pt x="509" y="77"/>
                  <a:pt x="520" y="69"/>
                  <a:pt x="528" y="58"/>
                </a:cubicBezTo>
                <a:cubicBezTo>
                  <a:pt x="534" y="50"/>
                  <a:pt x="530" y="35"/>
                  <a:pt x="538" y="29"/>
                </a:cubicBezTo>
                <a:cubicBezTo>
                  <a:pt x="554" y="17"/>
                  <a:pt x="576" y="16"/>
                  <a:pt x="595" y="10"/>
                </a:cubicBezTo>
                <a:cubicBezTo>
                  <a:pt x="605" y="7"/>
                  <a:pt x="624" y="0"/>
                  <a:pt x="624" y="0"/>
                </a:cubicBezTo>
                <a:cubicBezTo>
                  <a:pt x="627" y="10"/>
                  <a:pt x="629" y="20"/>
                  <a:pt x="634" y="29"/>
                </a:cubicBezTo>
                <a:cubicBezTo>
                  <a:pt x="639" y="39"/>
                  <a:pt x="651" y="47"/>
                  <a:pt x="653" y="58"/>
                </a:cubicBezTo>
                <a:cubicBezTo>
                  <a:pt x="656" y="78"/>
                  <a:pt x="640" y="97"/>
                  <a:pt x="634" y="116"/>
                </a:cubicBezTo>
                <a:cubicBezTo>
                  <a:pt x="652" y="173"/>
                  <a:pt x="662" y="125"/>
                  <a:pt x="682" y="183"/>
                </a:cubicBezTo>
                <a:cubicBezTo>
                  <a:pt x="662" y="239"/>
                  <a:pt x="655" y="242"/>
                  <a:pt x="624" y="288"/>
                </a:cubicBezTo>
                <a:cubicBezTo>
                  <a:pt x="664" y="405"/>
                  <a:pt x="560" y="437"/>
                  <a:pt x="490" y="500"/>
                </a:cubicBezTo>
                <a:cubicBezTo>
                  <a:pt x="466" y="521"/>
                  <a:pt x="440" y="541"/>
                  <a:pt x="422" y="567"/>
                </a:cubicBezTo>
                <a:cubicBezTo>
                  <a:pt x="409" y="586"/>
                  <a:pt x="400" y="607"/>
                  <a:pt x="384" y="624"/>
                </a:cubicBezTo>
                <a:cubicBezTo>
                  <a:pt x="354" y="656"/>
                  <a:pt x="331" y="693"/>
                  <a:pt x="307" y="730"/>
                </a:cubicBezTo>
                <a:cubicBezTo>
                  <a:pt x="294" y="749"/>
                  <a:pt x="250" y="768"/>
                  <a:pt x="250" y="768"/>
                </a:cubicBezTo>
                <a:lnTo>
                  <a:pt x="0" y="682"/>
                </a:lnTo>
                <a:lnTo>
                  <a:pt x="48" y="634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695840" y="412920"/>
            <a:ext cx="1893960" cy="16524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216160" y="5419800"/>
            <a:ext cx="476280" cy="633240"/>
          </a:xfrm>
          <a:custGeom>
            <a:avLst/>
            <a:gdLst/>
            <a:ahLst/>
            <a:rect l="l" t="t" r="r" b="b"/>
            <a:pathLst>
              <a:path w="303" h="411">
                <a:moveTo>
                  <a:pt x="284" y="17"/>
                </a:moveTo>
                <a:cubicBezTo>
                  <a:pt x="255" y="27"/>
                  <a:pt x="224" y="32"/>
                  <a:pt x="197" y="46"/>
                </a:cubicBezTo>
                <a:cubicBezTo>
                  <a:pt x="119" y="85"/>
                  <a:pt x="214" y="49"/>
                  <a:pt x="140" y="75"/>
                </a:cubicBezTo>
                <a:cubicBezTo>
                  <a:pt x="100" y="131"/>
                  <a:pt x="86" y="187"/>
                  <a:pt x="24" y="228"/>
                </a:cubicBezTo>
                <a:cubicBezTo>
                  <a:pt x="18" y="238"/>
                  <a:pt x="0" y="247"/>
                  <a:pt x="5" y="257"/>
                </a:cubicBezTo>
                <a:cubicBezTo>
                  <a:pt x="11" y="269"/>
                  <a:pt x="33" y="260"/>
                  <a:pt x="44" y="267"/>
                </a:cubicBezTo>
                <a:cubicBezTo>
                  <a:pt x="61" y="278"/>
                  <a:pt x="68" y="300"/>
                  <a:pt x="82" y="315"/>
                </a:cubicBezTo>
                <a:cubicBezTo>
                  <a:pt x="95" y="352"/>
                  <a:pt x="122" y="383"/>
                  <a:pt x="149" y="411"/>
                </a:cubicBezTo>
                <a:cubicBezTo>
                  <a:pt x="176" y="333"/>
                  <a:pt x="175" y="274"/>
                  <a:pt x="245" y="228"/>
                </a:cubicBezTo>
                <a:cubicBezTo>
                  <a:pt x="248" y="215"/>
                  <a:pt x="253" y="203"/>
                  <a:pt x="255" y="190"/>
                </a:cubicBezTo>
                <a:cubicBezTo>
                  <a:pt x="260" y="158"/>
                  <a:pt x="258" y="126"/>
                  <a:pt x="264" y="94"/>
                </a:cubicBezTo>
                <a:cubicBezTo>
                  <a:pt x="268" y="74"/>
                  <a:pt x="277" y="55"/>
                  <a:pt x="284" y="36"/>
                </a:cubicBezTo>
                <a:cubicBezTo>
                  <a:pt x="288" y="25"/>
                  <a:pt x="303" y="19"/>
                  <a:pt x="303" y="7"/>
                </a:cubicBezTo>
                <a:cubicBezTo>
                  <a:pt x="303" y="0"/>
                  <a:pt x="290" y="14"/>
                  <a:pt x="284" y="17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739880" y="5372280"/>
            <a:ext cx="984240" cy="61272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02000" y="4486320"/>
            <a:ext cx="528480" cy="4428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549200">
            <a:off x="4078080" y="1825560"/>
            <a:ext cx="479160" cy="169884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589040" y="5667480"/>
            <a:ext cx="227160" cy="222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816200" y="4191120"/>
            <a:ext cx="226800" cy="222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232160" y="2492280"/>
            <a:ext cx="378000" cy="2952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54520" y="1976400"/>
            <a:ext cx="377640" cy="2952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30480" y="2862360"/>
            <a:ext cx="301680" cy="2952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081320" y="2639880"/>
            <a:ext cx="150840" cy="222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610160" y="2124000"/>
            <a:ext cx="150840" cy="2206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325680" y="4265640"/>
            <a:ext cx="1526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629160" y="4708440"/>
            <a:ext cx="1508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74840" y="3747960"/>
            <a:ext cx="1508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514520" y="3747960"/>
            <a:ext cx="1508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71840" y="2567160"/>
            <a:ext cx="22536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100320" y="2567160"/>
            <a:ext cx="1508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402000" y="2271600"/>
            <a:ext cx="1508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913280" y="1754280"/>
            <a:ext cx="225360" cy="1476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610160" y="1901880"/>
            <a:ext cx="226800" cy="1476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421000" y="5224320"/>
            <a:ext cx="603360" cy="5907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69840" y="3703680"/>
            <a:ext cx="2884680" cy="228924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344680" y="4118040"/>
            <a:ext cx="378000" cy="295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85680" y="5372280"/>
            <a:ext cx="301680" cy="22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10160" y="2714760"/>
            <a:ext cx="226800" cy="7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232160" y="2124000"/>
            <a:ext cx="22716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646360" y="4413240"/>
            <a:ext cx="22716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67040" y="4338720"/>
            <a:ext cx="226800" cy="7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4001400" y="2516040"/>
            <a:ext cx="236160" cy="27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623760" y="2072880"/>
            <a:ext cx="235800" cy="27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 flipV="1">
            <a:off x="2352960" y="3967560"/>
            <a:ext cx="59760" cy="225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1659960" y="4214520"/>
            <a:ext cx="237240" cy="27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618560" y="5883480"/>
            <a:ext cx="17280" cy="23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1733400" y="5522040"/>
            <a:ext cx="89280" cy="21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009960" y="5092560"/>
            <a:ext cx="1433520" cy="471600"/>
          </a:xfrm>
          <a:custGeom>
            <a:avLst/>
            <a:gdLst/>
            <a:ahLst/>
            <a:rect l="l" t="t" r="r" b="b"/>
            <a:pathLst>
              <a:path w="911" h="307">
                <a:moveTo>
                  <a:pt x="211" y="48"/>
                </a:moveTo>
                <a:cubicBezTo>
                  <a:pt x="189" y="55"/>
                  <a:pt x="131" y="94"/>
                  <a:pt x="124" y="96"/>
                </a:cubicBezTo>
                <a:cubicBezTo>
                  <a:pt x="95" y="105"/>
                  <a:pt x="67" y="115"/>
                  <a:pt x="38" y="124"/>
                </a:cubicBezTo>
                <a:cubicBezTo>
                  <a:pt x="0" y="69"/>
                  <a:pt x="18" y="69"/>
                  <a:pt x="76" y="57"/>
                </a:cubicBezTo>
                <a:cubicBezTo>
                  <a:pt x="95" y="44"/>
                  <a:pt x="112" y="26"/>
                  <a:pt x="134" y="19"/>
                </a:cubicBezTo>
                <a:cubicBezTo>
                  <a:pt x="153" y="13"/>
                  <a:pt x="191" y="0"/>
                  <a:pt x="191" y="0"/>
                </a:cubicBezTo>
                <a:cubicBezTo>
                  <a:pt x="274" y="13"/>
                  <a:pt x="358" y="24"/>
                  <a:pt x="441" y="38"/>
                </a:cubicBezTo>
                <a:cubicBezTo>
                  <a:pt x="523" y="51"/>
                  <a:pt x="599" y="84"/>
                  <a:pt x="681" y="96"/>
                </a:cubicBezTo>
                <a:cubicBezTo>
                  <a:pt x="691" y="99"/>
                  <a:pt x="700" y="102"/>
                  <a:pt x="710" y="105"/>
                </a:cubicBezTo>
                <a:cubicBezTo>
                  <a:pt x="729" y="111"/>
                  <a:pt x="767" y="124"/>
                  <a:pt x="767" y="124"/>
                </a:cubicBezTo>
                <a:cubicBezTo>
                  <a:pt x="774" y="131"/>
                  <a:pt x="782" y="136"/>
                  <a:pt x="787" y="144"/>
                </a:cubicBezTo>
                <a:cubicBezTo>
                  <a:pt x="792" y="152"/>
                  <a:pt x="789" y="165"/>
                  <a:pt x="796" y="172"/>
                </a:cubicBezTo>
                <a:cubicBezTo>
                  <a:pt x="803" y="179"/>
                  <a:pt x="816" y="177"/>
                  <a:pt x="825" y="182"/>
                </a:cubicBezTo>
                <a:cubicBezTo>
                  <a:pt x="835" y="187"/>
                  <a:pt x="843" y="196"/>
                  <a:pt x="854" y="201"/>
                </a:cubicBezTo>
                <a:cubicBezTo>
                  <a:pt x="872" y="209"/>
                  <a:pt x="911" y="220"/>
                  <a:pt x="911" y="220"/>
                </a:cubicBezTo>
                <a:cubicBezTo>
                  <a:pt x="908" y="230"/>
                  <a:pt x="910" y="243"/>
                  <a:pt x="902" y="249"/>
                </a:cubicBezTo>
                <a:cubicBezTo>
                  <a:pt x="885" y="261"/>
                  <a:pt x="844" y="268"/>
                  <a:pt x="844" y="268"/>
                </a:cubicBezTo>
                <a:cubicBezTo>
                  <a:pt x="834" y="275"/>
                  <a:pt x="826" y="283"/>
                  <a:pt x="815" y="288"/>
                </a:cubicBezTo>
                <a:cubicBezTo>
                  <a:pt x="797" y="296"/>
                  <a:pt x="758" y="307"/>
                  <a:pt x="758" y="307"/>
                </a:cubicBezTo>
                <a:cubicBezTo>
                  <a:pt x="748" y="304"/>
                  <a:pt x="738" y="302"/>
                  <a:pt x="729" y="297"/>
                </a:cubicBezTo>
                <a:cubicBezTo>
                  <a:pt x="719" y="292"/>
                  <a:pt x="711" y="283"/>
                  <a:pt x="700" y="278"/>
                </a:cubicBezTo>
                <a:cubicBezTo>
                  <a:pt x="682" y="270"/>
                  <a:pt x="643" y="259"/>
                  <a:pt x="643" y="259"/>
                </a:cubicBezTo>
                <a:cubicBezTo>
                  <a:pt x="633" y="262"/>
                  <a:pt x="623" y="272"/>
                  <a:pt x="614" y="268"/>
                </a:cubicBezTo>
                <a:cubicBezTo>
                  <a:pt x="605" y="264"/>
                  <a:pt x="609" y="248"/>
                  <a:pt x="604" y="240"/>
                </a:cubicBezTo>
                <a:cubicBezTo>
                  <a:pt x="587" y="212"/>
                  <a:pt x="556" y="201"/>
                  <a:pt x="527" y="192"/>
                </a:cubicBezTo>
                <a:cubicBezTo>
                  <a:pt x="494" y="157"/>
                  <a:pt x="469" y="150"/>
                  <a:pt x="422" y="134"/>
                </a:cubicBezTo>
                <a:cubicBezTo>
                  <a:pt x="400" y="127"/>
                  <a:pt x="364" y="96"/>
                  <a:pt x="364" y="96"/>
                </a:cubicBezTo>
                <a:cubicBezTo>
                  <a:pt x="333" y="100"/>
                  <a:pt x="230" y="117"/>
                  <a:pt x="201" y="96"/>
                </a:cubicBezTo>
                <a:cubicBezTo>
                  <a:pt x="188" y="86"/>
                  <a:pt x="208" y="64"/>
                  <a:pt x="211" y="48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081320" y="396720"/>
            <a:ext cx="1163880" cy="1505160"/>
          </a:xfrm>
          <a:custGeom>
            <a:avLst/>
            <a:gdLst/>
            <a:ahLst/>
            <a:rect l="l" t="t" r="r" b="b"/>
            <a:pathLst>
              <a:path w="739" h="979">
                <a:moveTo>
                  <a:pt x="0" y="979"/>
                </a:moveTo>
                <a:cubicBezTo>
                  <a:pt x="53" y="897"/>
                  <a:pt x="93" y="812"/>
                  <a:pt x="125" y="720"/>
                </a:cubicBezTo>
                <a:cubicBezTo>
                  <a:pt x="131" y="702"/>
                  <a:pt x="201" y="620"/>
                  <a:pt x="211" y="605"/>
                </a:cubicBezTo>
                <a:cubicBezTo>
                  <a:pt x="232" y="574"/>
                  <a:pt x="271" y="545"/>
                  <a:pt x="298" y="518"/>
                </a:cubicBezTo>
                <a:cubicBezTo>
                  <a:pt x="308" y="508"/>
                  <a:pt x="316" y="499"/>
                  <a:pt x="326" y="489"/>
                </a:cubicBezTo>
                <a:cubicBezTo>
                  <a:pt x="333" y="482"/>
                  <a:pt x="346" y="470"/>
                  <a:pt x="346" y="470"/>
                </a:cubicBezTo>
                <a:cubicBezTo>
                  <a:pt x="349" y="460"/>
                  <a:pt x="348" y="448"/>
                  <a:pt x="355" y="441"/>
                </a:cubicBezTo>
                <a:cubicBezTo>
                  <a:pt x="362" y="434"/>
                  <a:pt x="375" y="436"/>
                  <a:pt x="384" y="432"/>
                </a:cubicBezTo>
                <a:cubicBezTo>
                  <a:pt x="429" y="413"/>
                  <a:pt x="471" y="400"/>
                  <a:pt x="518" y="384"/>
                </a:cubicBezTo>
                <a:cubicBezTo>
                  <a:pt x="528" y="381"/>
                  <a:pt x="537" y="377"/>
                  <a:pt x="547" y="374"/>
                </a:cubicBezTo>
                <a:cubicBezTo>
                  <a:pt x="557" y="371"/>
                  <a:pt x="576" y="365"/>
                  <a:pt x="576" y="365"/>
                </a:cubicBezTo>
                <a:cubicBezTo>
                  <a:pt x="582" y="358"/>
                  <a:pt x="588" y="351"/>
                  <a:pt x="595" y="345"/>
                </a:cubicBezTo>
                <a:cubicBezTo>
                  <a:pt x="604" y="338"/>
                  <a:pt x="616" y="334"/>
                  <a:pt x="624" y="326"/>
                </a:cubicBezTo>
                <a:cubicBezTo>
                  <a:pt x="632" y="318"/>
                  <a:pt x="635" y="305"/>
                  <a:pt x="643" y="297"/>
                </a:cubicBezTo>
                <a:cubicBezTo>
                  <a:pt x="701" y="239"/>
                  <a:pt x="643" y="324"/>
                  <a:pt x="701" y="249"/>
                </a:cubicBezTo>
                <a:cubicBezTo>
                  <a:pt x="715" y="231"/>
                  <a:pt x="739" y="192"/>
                  <a:pt x="739" y="192"/>
                </a:cubicBezTo>
                <a:cubicBezTo>
                  <a:pt x="716" y="117"/>
                  <a:pt x="677" y="121"/>
                  <a:pt x="624" y="86"/>
                </a:cubicBezTo>
                <a:cubicBezTo>
                  <a:pt x="616" y="73"/>
                  <a:pt x="595" y="47"/>
                  <a:pt x="595" y="29"/>
                </a:cubicBezTo>
                <a:cubicBezTo>
                  <a:pt x="595" y="19"/>
                  <a:pt x="605" y="0"/>
                  <a:pt x="60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702320" y="1606680"/>
            <a:ext cx="574560" cy="487080"/>
          </a:xfrm>
          <a:custGeom>
            <a:avLst/>
            <a:gdLst/>
            <a:ahLst/>
            <a:rect l="l" t="t" r="r" b="b"/>
            <a:pathLst>
              <a:path w="366" h="317">
                <a:moveTo>
                  <a:pt x="57" y="0"/>
                </a:moveTo>
                <a:cubicBezTo>
                  <a:pt x="41" y="66"/>
                  <a:pt x="55" y="12"/>
                  <a:pt x="28" y="96"/>
                </a:cubicBezTo>
                <a:cubicBezTo>
                  <a:pt x="22" y="115"/>
                  <a:pt x="15" y="135"/>
                  <a:pt x="9" y="154"/>
                </a:cubicBezTo>
                <a:cubicBezTo>
                  <a:pt x="6" y="163"/>
                  <a:pt x="0" y="182"/>
                  <a:pt x="0" y="182"/>
                </a:cubicBezTo>
                <a:cubicBezTo>
                  <a:pt x="3" y="192"/>
                  <a:pt x="2" y="204"/>
                  <a:pt x="9" y="211"/>
                </a:cubicBezTo>
                <a:cubicBezTo>
                  <a:pt x="42" y="245"/>
                  <a:pt x="54" y="187"/>
                  <a:pt x="86" y="173"/>
                </a:cubicBezTo>
                <a:cubicBezTo>
                  <a:pt x="105" y="165"/>
                  <a:pt x="144" y="154"/>
                  <a:pt x="144" y="154"/>
                </a:cubicBezTo>
                <a:cubicBezTo>
                  <a:pt x="133" y="214"/>
                  <a:pt x="84" y="293"/>
                  <a:pt x="153" y="317"/>
                </a:cubicBezTo>
                <a:cubicBezTo>
                  <a:pt x="171" y="311"/>
                  <a:pt x="198" y="304"/>
                  <a:pt x="211" y="288"/>
                </a:cubicBezTo>
                <a:cubicBezTo>
                  <a:pt x="217" y="280"/>
                  <a:pt x="215" y="268"/>
                  <a:pt x="220" y="259"/>
                </a:cubicBezTo>
                <a:cubicBezTo>
                  <a:pt x="225" y="251"/>
                  <a:pt x="234" y="247"/>
                  <a:pt x="240" y="240"/>
                </a:cubicBezTo>
                <a:cubicBezTo>
                  <a:pt x="247" y="231"/>
                  <a:pt x="250" y="219"/>
                  <a:pt x="259" y="211"/>
                </a:cubicBezTo>
                <a:cubicBezTo>
                  <a:pt x="276" y="196"/>
                  <a:pt x="299" y="189"/>
                  <a:pt x="316" y="173"/>
                </a:cubicBezTo>
                <a:cubicBezTo>
                  <a:pt x="323" y="167"/>
                  <a:pt x="329" y="160"/>
                  <a:pt x="336" y="154"/>
                </a:cubicBezTo>
                <a:cubicBezTo>
                  <a:pt x="359" y="84"/>
                  <a:pt x="350" y="116"/>
                  <a:pt x="364" y="58"/>
                </a:cubicBezTo>
                <a:cubicBezTo>
                  <a:pt x="361" y="45"/>
                  <a:pt x="366" y="27"/>
                  <a:pt x="355" y="19"/>
                </a:cubicBezTo>
                <a:cubicBezTo>
                  <a:pt x="333" y="2"/>
                  <a:pt x="311" y="55"/>
                  <a:pt x="307" y="58"/>
                </a:cubicBezTo>
                <a:cubicBezTo>
                  <a:pt x="291" y="71"/>
                  <a:pt x="268" y="70"/>
                  <a:pt x="249" y="77"/>
                </a:cubicBezTo>
                <a:cubicBezTo>
                  <a:pt x="206" y="66"/>
                  <a:pt x="57" y="60"/>
                  <a:pt x="57" y="0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286240" y="809640"/>
            <a:ext cx="709920" cy="560520"/>
          </a:xfrm>
          <a:custGeom>
            <a:avLst/>
            <a:gdLst/>
            <a:ahLst/>
            <a:rect l="l" t="t" r="r" b="b"/>
            <a:pathLst>
              <a:path w="451" h="364">
                <a:moveTo>
                  <a:pt x="69" y="28"/>
                </a:moveTo>
                <a:cubicBezTo>
                  <a:pt x="63" y="19"/>
                  <a:pt x="61" y="0"/>
                  <a:pt x="50" y="0"/>
                </a:cubicBezTo>
                <a:cubicBezTo>
                  <a:pt x="40" y="0"/>
                  <a:pt x="38" y="18"/>
                  <a:pt x="40" y="28"/>
                </a:cubicBezTo>
                <a:cubicBezTo>
                  <a:pt x="42" y="37"/>
                  <a:pt x="53" y="41"/>
                  <a:pt x="60" y="48"/>
                </a:cubicBezTo>
                <a:cubicBezTo>
                  <a:pt x="78" y="104"/>
                  <a:pt x="62" y="154"/>
                  <a:pt x="31" y="201"/>
                </a:cubicBezTo>
                <a:cubicBezTo>
                  <a:pt x="34" y="217"/>
                  <a:pt x="40" y="233"/>
                  <a:pt x="40" y="249"/>
                </a:cubicBezTo>
                <a:cubicBezTo>
                  <a:pt x="40" y="363"/>
                  <a:pt x="0" y="325"/>
                  <a:pt x="60" y="364"/>
                </a:cubicBezTo>
                <a:cubicBezTo>
                  <a:pt x="79" y="358"/>
                  <a:pt x="98" y="351"/>
                  <a:pt x="117" y="345"/>
                </a:cubicBezTo>
                <a:cubicBezTo>
                  <a:pt x="127" y="342"/>
                  <a:pt x="146" y="336"/>
                  <a:pt x="146" y="336"/>
                </a:cubicBezTo>
                <a:cubicBezTo>
                  <a:pt x="180" y="300"/>
                  <a:pt x="242" y="303"/>
                  <a:pt x="290" y="288"/>
                </a:cubicBezTo>
                <a:cubicBezTo>
                  <a:pt x="296" y="281"/>
                  <a:pt x="300" y="270"/>
                  <a:pt x="309" y="268"/>
                </a:cubicBezTo>
                <a:cubicBezTo>
                  <a:pt x="351" y="261"/>
                  <a:pt x="388" y="313"/>
                  <a:pt x="424" y="326"/>
                </a:cubicBezTo>
                <a:cubicBezTo>
                  <a:pt x="451" y="248"/>
                  <a:pt x="399" y="222"/>
                  <a:pt x="348" y="182"/>
                </a:cubicBezTo>
                <a:cubicBezTo>
                  <a:pt x="320" y="160"/>
                  <a:pt x="310" y="135"/>
                  <a:pt x="280" y="115"/>
                </a:cubicBezTo>
                <a:cubicBezTo>
                  <a:pt x="234" y="45"/>
                  <a:pt x="276" y="92"/>
                  <a:pt x="117" y="76"/>
                </a:cubicBezTo>
                <a:cubicBezTo>
                  <a:pt x="101" y="74"/>
                  <a:pt x="85" y="71"/>
                  <a:pt x="69" y="67"/>
                </a:cubicBezTo>
                <a:cubicBezTo>
                  <a:pt x="59" y="65"/>
                  <a:pt x="40" y="67"/>
                  <a:pt x="40" y="57"/>
                </a:cubicBezTo>
                <a:cubicBezTo>
                  <a:pt x="40" y="43"/>
                  <a:pt x="59" y="38"/>
                  <a:pt x="69" y="28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3697920" y="3572640"/>
            <a:ext cx="185400" cy="244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78320" y="5372280"/>
            <a:ext cx="150840" cy="222120"/>
          </a:xfrm>
          <a:custGeom>
            <a:avLst/>
            <a:gdLst>
              <a:gd name="textAreaLeft" fmla="*/ 0 w 150840"/>
              <a:gd name="textAreaRight" fmla="*/ 151200 w 15084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59320" y="5151600"/>
            <a:ext cx="150840" cy="220680"/>
          </a:xfrm>
          <a:custGeom>
            <a:avLst/>
            <a:gdLst>
              <a:gd name="textAreaLeft" fmla="*/ 0 w 150840"/>
              <a:gd name="textAreaRight" fmla="*/ 151200 w 150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780000" y="5667480"/>
            <a:ext cx="150480" cy="222120"/>
          </a:xfrm>
          <a:custGeom>
            <a:avLst/>
            <a:gdLst>
              <a:gd name="textAreaLeft" fmla="*/ 0 w 150480"/>
              <a:gd name="textAreaRight" fmla="*/ 150840 w 1504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10160" y="5889600"/>
            <a:ext cx="150840" cy="220680"/>
          </a:xfrm>
          <a:custGeom>
            <a:avLst/>
            <a:gdLst>
              <a:gd name="textAreaLeft" fmla="*/ 0 w 150840"/>
              <a:gd name="textAreaRight" fmla="*/ 151200 w 150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81320" y="5962680"/>
            <a:ext cx="150840" cy="222120"/>
          </a:xfrm>
          <a:custGeom>
            <a:avLst/>
            <a:gdLst>
              <a:gd name="textAreaLeft" fmla="*/ 0 w 150840"/>
              <a:gd name="textAreaRight" fmla="*/ 151200 w 15084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06800" y="4929120"/>
            <a:ext cx="150840" cy="222480"/>
          </a:xfrm>
          <a:custGeom>
            <a:avLst/>
            <a:gdLst>
              <a:gd name="textAreaLeft" fmla="*/ 0 w 150840"/>
              <a:gd name="textAreaRight" fmla="*/ 151200 w 1508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38640" y="5151600"/>
            <a:ext cx="150840" cy="220680"/>
          </a:xfrm>
          <a:custGeom>
            <a:avLst/>
            <a:gdLst>
              <a:gd name="textAreaLeft" fmla="*/ 0 w 150840"/>
              <a:gd name="textAreaRight" fmla="*/ 151200 w 150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571840" y="3970440"/>
            <a:ext cx="150840" cy="147600"/>
          </a:xfrm>
          <a:prstGeom prst="hexagon">
            <a:avLst>
              <a:gd name="adj" fmla="val 255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67040" y="4043520"/>
            <a:ext cx="150840" cy="147600"/>
          </a:xfrm>
          <a:prstGeom prst="hexagon">
            <a:avLst>
              <a:gd name="adj" fmla="val 255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362240" y="382284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136520" y="4929120"/>
            <a:ext cx="150840" cy="147600"/>
          </a:xfrm>
          <a:prstGeom prst="hexagon">
            <a:avLst>
              <a:gd name="adj" fmla="val 255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043000" y="5446800"/>
            <a:ext cx="150840" cy="147600"/>
          </a:xfrm>
          <a:prstGeom prst="hexagon">
            <a:avLst>
              <a:gd name="adj" fmla="val 255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42120" y="1090440"/>
            <a:ext cx="150480" cy="147960"/>
          </a:xfrm>
          <a:prstGeom prst="hexagon">
            <a:avLst>
              <a:gd name="adj" fmla="val 2542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5214600" y="2124000"/>
            <a:ext cx="679320" cy="110664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1665000" y="4560840"/>
            <a:ext cx="452520" cy="8859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589040" y="4191120"/>
            <a:ext cx="150840" cy="147600"/>
          </a:xfrm>
          <a:prstGeom prst="hexagon">
            <a:avLst>
              <a:gd name="adj" fmla="val 255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64120" y="2344680"/>
            <a:ext cx="378000" cy="370080"/>
          </a:xfrm>
          <a:prstGeom prst="leftRightArrow">
            <a:avLst>
              <a:gd name="adj1" fmla="val 50000"/>
              <a:gd name="adj2" fmla="val 2033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20140200">
            <a:off x="4912920" y="1090440"/>
            <a:ext cx="376200" cy="368640"/>
          </a:xfrm>
          <a:prstGeom prst="leftRightArrow">
            <a:avLst>
              <a:gd name="adj1" fmla="val 50000"/>
              <a:gd name="adj2" fmla="val 2031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2400000">
            <a:off x="2193480" y="4781520"/>
            <a:ext cx="378000" cy="370080"/>
          </a:xfrm>
          <a:prstGeom prst="leftRightArrow">
            <a:avLst>
              <a:gd name="adj1" fmla="val 50000"/>
              <a:gd name="adj2" fmla="val 2033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2400000">
            <a:off x="3930120" y="4560480"/>
            <a:ext cx="378000" cy="368280"/>
          </a:xfrm>
          <a:prstGeom prst="leftRightArrow">
            <a:avLst>
              <a:gd name="adj1" fmla="val 50000"/>
              <a:gd name="adj2" fmla="val 2043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2400000">
            <a:off x="2193840" y="3157560"/>
            <a:ext cx="378000" cy="369720"/>
          </a:xfrm>
          <a:prstGeom prst="leftRightArrow">
            <a:avLst>
              <a:gd name="adj1" fmla="val 50000"/>
              <a:gd name="adj2" fmla="val 203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3360600">
            <a:off x="1593000" y="3337200"/>
            <a:ext cx="370080" cy="378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09680" y="3157560"/>
            <a:ext cx="211320" cy="109224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449440" y="2360520"/>
            <a:ext cx="1195560" cy="81288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314440" y="2577960"/>
            <a:ext cx="331920" cy="56376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19240" y="1100160"/>
            <a:ext cx="1909800" cy="153972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900600" y="2182680"/>
            <a:ext cx="453960" cy="3682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3780000" y="4338360"/>
            <a:ext cx="83016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3854520" y="4560840"/>
            <a:ext cx="11332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4610160" y="1901880"/>
            <a:ext cx="113328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4913280" y="1976400"/>
            <a:ext cx="128268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36960" y="2344680"/>
            <a:ext cx="1284480" cy="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rot="1086000">
            <a:off x="3325320" y="2419200"/>
            <a:ext cx="303480" cy="1919520"/>
          </a:xfrm>
          <a:custGeom>
            <a:avLst/>
            <a:gdLst>
              <a:gd name="textAreaLeft" fmla="*/ 0 w 303480"/>
              <a:gd name="textAreaRight" fmla="*/ 303840 w 30348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2560" y="4118040"/>
            <a:ext cx="227160" cy="442800"/>
          </a:xfrm>
          <a:prstGeom prst="upArrow">
            <a:avLst>
              <a:gd name="adj1" fmla="val 50000"/>
              <a:gd name="adj2" fmla="val 48732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20448600">
            <a:off x="2796840" y="4708440"/>
            <a:ext cx="227160" cy="443160"/>
          </a:xfrm>
          <a:prstGeom prst="upArrow">
            <a:avLst>
              <a:gd name="adj1" fmla="val 50000"/>
              <a:gd name="adj2" fmla="val 48772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8112800">
            <a:off x="4499280" y="4148640"/>
            <a:ext cx="220680" cy="453960"/>
          </a:xfrm>
          <a:prstGeom prst="upArrow">
            <a:avLst>
              <a:gd name="adj1" fmla="val 50000"/>
              <a:gd name="adj2" fmla="val 51427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20350800">
            <a:off x="5970240" y="720360"/>
            <a:ext cx="1057320" cy="222120"/>
          </a:xfrm>
          <a:prstGeom prst="leftArrow">
            <a:avLst>
              <a:gd name="adj1" fmla="val 50000"/>
              <a:gd name="adj2" fmla="val 1190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21340200">
            <a:off x="5970240" y="2271600"/>
            <a:ext cx="905040" cy="220680"/>
          </a:xfrm>
          <a:prstGeom prst="leftArrow">
            <a:avLst>
              <a:gd name="adj1" fmla="val 50000"/>
              <a:gd name="adj2" fmla="val 1025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20202600">
            <a:off x="2711520" y="1181160"/>
            <a:ext cx="20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Main 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10160" y="1976400"/>
            <a:ext cx="9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o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610160" y="256716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New y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30480" y="320040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Washing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02000" y="1606680"/>
            <a:ext cx="12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ontré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495520" y="2862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hic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024360" y="263988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ét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797200" y="3527280"/>
            <a:ext cx="9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tla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930480" y="3527280"/>
            <a:ext cx="11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harle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552840" y="419112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am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854520" y="47084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ia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344680" y="4191120"/>
            <a:ext cx="98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uvelle Orlé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11400" y="389556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909720" y="3527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1720" y="544680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1400" y="566748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éra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268360" y="5594400"/>
            <a:ext cx="9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nc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402000" y="492912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780000" y="581508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Jama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95800" y="544680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610160" y="5151600"/>
            <a:ext cx="1057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épublique dominica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592600" y="544680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rto 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081320" y="2787480"/>
            <a:ext cx="14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hiladelph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3280" y="1015920"/>
            <a:ext cx="1662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façade de l’Amérique du Nord: le centre d’une aire de puiss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 rot="20794800">
            <a:off x="1215000" y="3700440"/>
            <a:ext cx="1963800" cy="147600"/>
          </a:xfrm>
          <a:custGeom>
            <a:avLst/>
            <a:gdLst>
              <a:gd name="textAreaLeft" fmla="*/ -360 w 1963800"/>
              <a:gd name="textAreaRight" fmla="*/ 1963800 w 196380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380880" y="476280"/>
          <a:ext cx="6826320" cy="6100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76280"/>
                    <a:ext cx="6826320" cy="61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224000" y="228600"/>
            <a:ext cx="37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facteurs)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80880" y="685800"/>
            <a:ext cx="8763120" cy="70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/un littoral inégalement ouv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es atouts natur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Un interface océa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es interfaces transfrontaliers continent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layé par un réseau de communication et des aménag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Voies navigables aménag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aisceaux de fibres optiq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/avec des richesses natur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étrole et autres ressources énergé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es atouts touristiques explo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Un potentiel pour les croisiè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ichesses halieutiques (pêch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133720" y="30160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56840" y="1371600"/>
            <a:ext cx="228600" cy="3049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8600" y="2133720"/>
            <a:ext cx="4572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28600" y="3124080"/>
            <a:ext cx="304920" cy="22860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2860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3520" y="4191120"/>
            <a:ext cx="152280" cy="1522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33520" y="4495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487692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04920" y="5486400"/>
            <a:ext cx="4572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105520" y="990720"/>
            <a:ext cx="37335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105520" y="990720"/>
            <a:ext cx="37335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207040" y="1209600"/>
            <a:ext cx="3006720" cy="2548080"/>
            <a:chOff x="5207040" y="1209600"/>
            <a:chExt cx="3006720" cy="2548080"/>
          </a:xfrm>
        </p:grpSpPr>
        <p:sp>
          <p:nvSpPr>
            <p:cNvPr id="1165" name=""/>
            <p:cNvSpPr/>
            <p:nvPr/>
          </p:nvSpPr>
          <p:spPr>
            <a:xfrm rot="19366800">
              <a:off x="6167160" y="1631520"/>
              <a:ext cx="960480" cy="339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1935600">
              <a:off x="5273640" y="2760480"/>
              <a:ext cx="432000" cy="155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335360" y="1898640"/>
              <a:ext cx="298440" cy="46188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5905440" y="2916360"/>
              <a:ext cx="200160" cy="36972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039000" y="2330280"/>
              <a:ext cx="91800" cy="455760"/>
            </a:xfrm>
            <a:custGeom>
              <a:avLst/>
              <a:gdLst/>
              <a:ahLst/>
              <a:rect l="l" t="t" r="r" b="b"/>
              <a:pathLst>
                <a:path w="134" h="710">
                  <a:moveTo>
                    <a:pt x="124" y="710"/>
                  </a:moveTo>
                  <a:cubicBezTo>
                    <a:pt x="105" y="652"/>
                    <a:pt x="73" y="589"/>
                    <a:pt x="28" y="547"/>
                  </a:cubicBezTo>
                  <a:cubicBezTo>
                    <a:pt x="19" y="518"/>
                    <a:pt x="9" y="490"/>
                    <a:pt x="0" y="461"/>
                  </a:cubicBezTo>
                  <a:cubicBezTo>
                    <a:pt x="11" y="404"/>
                    <a:pt x="13" y="344"/>
                    <a:pt x="28" y="288"/>
                  </a:cubicBezTo>
                  <a:cubicBezTo>
                    <a:pt x="38" y="250"/>
                    <a:pt x="54" y="211"/>
                    <a:pt x="67" y="173"/>
                  </a:cubicBezTo>
                  <a:cubicBezTo>
                    <a:pt x="81" y="132"/>
                    <a:pt x="101" y="98"/>
                    <a:pt x="115" y="58"/>
                  </a:cubicBezTo>
                  <a:cubicBezTo>
                    <a:pt x="122" y="39"/>
                    <a:pt x="134" y="0"/>
                    <a:pt x="134" y="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072120" y="2082960"/>
              <a:ext cx="146160" cy="236520"/>
            </a:xfrm>
            <a:custGeom>
              <a:avLst/>
              <a:gdLst/>
              <a:ahLst/>
              <a:rect l="l" t="t" r="r" b="b"/>
              <a:pathLst>
                <a:path w="211" h="367">
                  <a:moveTo>
                    <a:pt x="38" y="367"/>
                  </a:moveTo>
                  <a:cubicBezTo>
                    <a:pt x="27" y="331"/>
                    <a:pt x="9" y="308"/>
                    <a:pt x="0" y="271"/>
                  </a:cubicBezTo>
                  <a:cubicBezTo>
                    <a:pt x="12" y="219"/>
                    <a:pt x="21" y="186"/>
                    <a:pt x="67" y="156"/>
                  </a:cubicBezTo>
                  <a:cubicBezTo>
                    <a:pt x="102" y="103"/>
                    <a:pt x="67" y="148"/>
                    <a:pt x="115" y="108"/>
                  </a:cubicBezTo>
                  <a:cubicBezTo>
                    <a:pt x="141" y="87"/>
                    <a:pt x="161" y="57"/>
                    <a:pt x="182" y="31"/>
                  </a:cubicBezTo>
                  <a:cubicBezTo>
                    <a:pt x="206" y="0"/>
                    <a:pt x="189" y="3"/>
                    <a:pt x="211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138720" y="2021040"/>
              <a:ext cx="525600" cy="339480"/>
            </a:xfrm>
            <a:custGeom>
              <a:avLst/>
              <a:gdLst/>
              <a:ahLst/>
              <a:rect l="l" t="t" r="r" b="b"/>
              <a:pathLst>
                <a:path w="759" h="528">
                  <a:moveTo>
                    <a:pt x="0" y="528"/>
                  </a:moveTo>
                  <a:cubicBezTo>
                    <a:pt x="3" y="518"/>
                    <a:pt x="1" y="504"/>
                    <a:pt x="10" y="499"/>
                  </a:cubicBezTo>
                  <a:cubicBezTo>
                    <a:pt x="19" y="494"/>
                    <a:pt x="29" y="508"/>
                    <a:pt x="39" y="508"/>
                  </a:cubicBezTo>
                  <a:cubicBezTo>
                    <a:pt x="68" y="508"/>
                    <a:pt x="96" y="502"/>
                    <a:pt x="125" y="499"/>
                  </a:cubicBezTo>
                  <a:cubicBezTo>
                    <a:pt x="168" y="484"/>
                    <a:pt x="202" y="448"/>
                    <a:pt x="240" y="422"/>
                  </a:cubicBezTo>
                  <a:cubicBezTo>
                    <a:pt x="271" y="401"/>
                    <a:pt x="319" y="387"/>
                    <a:pt x="355" y="374"/>
                  </a:cubicBezTo>
                  <a:cubicBezTo>
                    <a:pt x="397" y="385"/>
                    <a:pt x="438" y="399"/>
                    <a:pt x="480" y="412"/>
                  </a:cubicBezTo>
                  <a:cubicBezTo>
                    <a:pt x="504" y="405"/>
                    <a:pt x="519" y="403"/>
                    <a:pt x="538" y="384"/>
                  </a:cubicBezTo>
                  <a:cubicBezTo>
                    <a:pt x="575" y="347"/>
                    <a:pt x="563" y="323"/>
                    <a:pt x="615" y="307"/>
                  </a:cubicBezTo>
                  <a:cubicBezTo>
                    <a:pt x="700" y="222"/>
                    <a:pt x="759" y="124"/>
                    <a:pt x="759" y="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37440" y="1496880"/>
              <a:ext cx="841320" cy="642960"/>
            </a:xfrm>
            <a:custGeom>
              <a:avLst/>
              <a:gdLst/>
              <a:ahLst/>
              <a:rect l="l" t="t" r="r" b="b"/>
              <a:pathLst>
                <a:path w="1214" h="1001">
                  <a:moveTo>
                    <a:pt x="0" y="598"/>
                  </a:moveTo>
                  <a:cubicBezTo>
                    <a:pt x="10" y="595"/>
                    <a:pt x="19" y="588"/>
                    <a:pt x="29" y="588"/>
                  </a:cubicBezTo>
                  <a:cubicBezTo>
                    <a:pt x="50" y="588"/>
                    <a:pt x="124" y="633"/>
                    <a:pt x="144" y="646"/>
                  </a:cubicBezTo>
                  <a:cubicBezTo>
                    <a:pt x="150" y="665"/>
                    <a:pt x="163" y="683"/>
                    <a:pt x="163" y="703"/>
                  </a:cubicBezTo>
                  <a:cubicBezTo>
                    <a:pt x="163" y="759"/>
                    <a:pt x="141" y="814"/>
                    <a:pt x="125" y="867"/>
                  </a:cubicBezTo>
                  <a:cubicBezTo>
                    <a:pt x="133" y="936"/>
                    <a:pt x="127" y="955"/>
                    <a:pt x="173" y="1001"/>
                  </a:cubicBezTo>
                  <a:cubicBezTo>
                    <a:pt x="186" y="998"/>
                    <a:pt x="201" y="999"/>
                    <a:pt x="211" y="991"/>
                  </a:cubicBezTo>
                  <a:cubicBezTo>
                    <a:pt x="219" y="985"/>
                    <a:pt x="215" y="971"/>
                    <a:pt x="221" y="963"/>
                  </a:cubicBezTo>
                  <a:cubicBezTo>
                    <a:pt x="242" y="936"/>
                    <a:pt x="264" y="901"/>
                    <a:pt x="297" y="895"/>
                  </a:cubicBezTo>
                  <a:cubicBezTo>
                    <a:pt x="338" y="887"/>
                    <a:pt x="380" y="889"/>
                    <a:pt x="422" y="886"/>
                  </a:cubicBezTo>
                  <a:cubicBezTo>
                    <a:pt x="473" y="869"/>
                    <a:pt x="445" y="885"/>
                    <a:pt x="489" y="819"/>
                  </a:cubicBezTo>
                  <a:cubicBezTo>
                    <a:pt x="515" y="779"/>
                    <a:pt x="571" y="757"/>
                    <a:pt x="605" y="723"/>
                  </a:cubicBezTo>
                  <a:cubicBezTo>
                    <a:pt x="671" y="657"/>
                    <a:pt x="571" y="757"/>
                    <a:pt x="643" y="675"/>
                  </a:cubicBezTo>
                  <a:cubicBezTo>
                    <a:pt x="658" y="658"/>
                    <a:pt x="691" y="627"/>
                    <a:pt x="691" y="627"/>
                  </a:cubicBezTo>
                  <a:cubicBezTo>
                    <a:pt x="707" y="580"/>
                    <a:pt x="727" y="548"/>
                    <a:pt x="768" y="521"/>
                  </a:cubicBezTo>
                  <a:cubicBezTo>
                    <a:pt x="793" y="483"/>
                    <a:pt x="826" y="452"/>
                    <a:pt x="854" y="415"/>
                  </a:cubicBezTo>
                  <a:cubicBezTo>
                    <a:pt x="868" y="397"/>
                    <a:pt x="893" y="358"/>
                    <a:pt x="893" y="358"/>
                  </a:cubicBezTo>
                  <a:cubicBezTo>
                    <a:pt x="903" y="325"/>
                    <a:pt x="916" y="305"/>
                    <a:pt x="941" y="281"/>
                  </a:cubicBezTo>
                  <a:cubicBezTo>
                    <a:pt x="951" y="248"/>
                    <a:pt x="964" y="228"/>
                    <a:pt x="989" y="204"/>
                  </a:cubicBezTo>
                  <a:cubicBezTo>
                    <a:pt x="999" y="171"/>
                    <a:pt x="1012" y="152"/>
                    <a:pt x="1037" y="127"/>
                  </a:cubicBezTo>
                  <a:cubicBezTo>
                    <a:pt x="1058" y="61"/>
                    <a:pt x="1083" y="61"/>
                    <a:pt x="1142" y="41"/>
                  </a:cubicBezTo>
                  <a:cubicBezTo>
                    <a:pt x="1153" y="37"/>
                    <a:pt x="1161" y="27"/>
                    <a:pt x="1171" y="22"/>
                  </a:cubicBezTo>
                  <a:cubicBezTo>
                    <a:pt x="1214" y="0"/>
                    <a:pt x="1189" y="23"/>
                    <a:pt x="1209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737400" y="1990800"/>
              <a:ext cx="198360" cy="15408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34" y="36"/>
                    <a:pt x="88" y="34"/>
                    <a:pt x="134" y="48"/>
                  </a:cubicBezTo>
                  <a:cubicBezTo>
                    <a:pt x="163" y="77"/>
                    <a:pt x="191" y="107"/>
                    <a:pt x="221" y="135"/>
                  </a:cubicBezTo>
                  <a:cubicBezTo>
                    <a:pt x="244" y="157"/>
                    <a:pt x="256" y="189"/>
                    <a:pt x="278" y="212"/>
                  </a:cubicBezTo>
                  <a:cubicBezTo>
                    <a:pt x="281" y="221"/>
                    <a:pt x="288" y="240"/>
                    <a:pt x="288" y="2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7068960" y="1805040"/>
              <a:ext cx="5004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7068960" y="1898640"/>
              <a:ext cx="56520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68960" y="2021040"/>
              <a:ext cx="5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6703920" y="2854080"/>
              <a:ext cx="36504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6670800" y="2977920"/>
              <a:ext cx="498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9" name=""/>
            <p:cNvGraphicFramePr/>
            <p:nvPr/>
          </p:nvGraphicFramePr>
          <p:xfrm>
            <a:off x="5207040" y="1209600"/>
            <a:ext cx="3006720" cy="254808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1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07040" y="1209600"/>
                      <a:ext cx="3006720" cy="254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81" name=""/>
          <p:cNvSpPr/>
          <p:nvPr/>
        </p:nvSpPr>
        <p:spPr>
          <a:xfrm>
            <a:off x="5181480" y="4267080"/>
            <a:ext cx="350532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249880" y="4230720"/>
            <a:ext cx="3132000" cy="2212920"/>
            <a:chOff x="5249880" y="4230720"/>
            <a:chExt cx="3132000" cy="2212920"/>
          </a:xfrm>
        </p:grpSpPr>
        <p:sp>
          <p:nvSpPr>
            <p:cNvPr id="1183" name=""/>
            <p:cNvSpPr/>
            <p:nvPr/>
          </p:nvSpPr>
          <p:spPr>
            <a:xfrm rot="19366800">
              <a:off x="6146280" y="4816440"/>
              <a:ext cx="903600" cy="239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021440" y="4443480"/>
              <a:ext cx="776520" cy="536400"/>
            </a:xfrm>
            <a:custGeom>
              <a:avLst/>
              <a:gdLst/>
              <a:ahLst/>
              <a:rect l="l" t="t" r="r" b="b"/>
              <a:pathLst>
                <a:path w="1204" h="1074">
                  <a:moveTo>
                    <a:pt x="973" y="18"/>
                  </a:moveTo>
                  <a:cubicBezTo>
                    <a:pt x="784" y="0"/>
                    <a:pt x="577" y="31"/>
                    <a:pt x="388" y="37"/>
                  </a:cubicBezTo>
                  <a:cubicBezTo>
                    <a:pt x="344" y="51"/>
                    <a:pt x="332" y="82"/>
                    <a:pt x="301" y="114"/>
                  </a:cubicBezTo>
                  <a:cubicBezTo>
                    <a:pt x="279" y="182"/>
                    <a:pt x="301" y="101"/>
                    <a:pt x="301" y="238"/>
                  </a:cubicBezTo>
                  <a:cubicBezTo>
                    <a:pt x="301" y="318"/>
                    <a:pt x="266" y="367"/>
                    <a:pt x="196" y="392"/>
                  </a:cubicBezTo>
                  <a:cubicBezTo>
                    <a:pt x="153" y="435"/>
                    <a:pt x="112" y="483"/>
                    <a:pt x="61" y="517"/>
                  </a:cubicBezTo>
                  <a:cubicBezTo>
                    <a:pt x="0" y="610"/>
                    <a:pt x="39" y="665"/>
                    <a:pt x="109" y="728"/>
                  </a:cubicBezTo>
                  <a:cubicBezTo>
                    <a:pt x="200" y="810"/>
                    <a:pt x="134" y="764"/>
                    <a:pt x="196" y="805"/>
                  </a:cubicBezTo>
                  <a:cubicBezTo>
                    <a:pt x="201" y="803"/>
                    <a:pt x="248" y="786"/>
                    <a:pt x="253" y="786"/>
                  </a:cubicBezTo>
                  <a:cubicBezTo>
                    <a:pt x="323" y="786"/>
                    <a:pt x="408" y="811"/>
                    <a:pt x="474" y="834"/>
                  </a:cubicBezTo>
                  <a:cubicBezTo>
                    <a:pt x="454" y="891"/>
                    <a:pt x="419" y="935"/>
                    <a:pt x="378" y="978"/>
                  </a:cubicBezTo>
                  <a:cubicBezTo>
                    <a:pt x="371" y="998"/>
                    <a:pt x="358" y="1015"/>
                    <a:pt x="378" y="1035"/>
                  </a:cubicBezTo>
                  <a:cubicBezTo>
                    <a:pt x="394" y="1051"/>
                    <a:pt x="436" y="1074"/>
                    <a:pt x="436" y="1074"/>
                  </a:cubicBezTo>
                  <a:cubicBezTo>
                    <a:pt x="498" y="1061"/>
                    <a:pt x="530" y="1030"/>
                    <a:pt x="580" y="997"/>
                  </a:cubicBezTo>
                  <a:cubicBezTo>
                    <a:pt x="617" y="972"/>
                    <a:pt x="612" y="983"/>
                    <a:pt x="647" y="968"/>
                  </a:cubicBezTo>
                  <a:cubicBezTo>
                    <a:pt x="719" y="937"/>
                    <a:pt x="800" y="900"/>
                    <a:pt x="877" y="882"/>
                  </a:cubicBezTo>
                  <a:cubicBezTo>
                    <a:pt x="923" y="850"/>
                    <a:pt x="959" y="810"/>
                    <a:pt x="992" y="766"/>
                  </a:cubicBezTo>
                  <a:cubicBezTo>
                    <a:pt x="1013" y="738"/>
                    <a:pt x="1026" y="704"/>
                    <a:pt x="1050" y="680"/>
                  </a:cubicBezTo>
                  <a:cubicBezTo>
                    <a:pt x="1088" y="642"/>
                    <a:pt x="1110" y="597"/>
                    <a:pt x="1127" y="546"/>
                  </a:cubicBezTo>
                  <a:cubicBezTo>
                    <a:pt x="1161" y="443"/>
                    <a:pt x="1168" y="332"/>
                    <a:pt x="1204" y="229"/>
                  </a:cubicBezTo>
                  <a:cubicBezTo>
                    <a:pt x="1189" y="187"/>
                    <a:pt x="1150" y="162"/>
                    <a:pt x="1117" y="133"/>
                  </a:cubicBezTo>
                  <a:cubicBezTo>
                    <a:pt x="1040" y="64"/>
                    <a:pt x="1091" y="85"/>
                    <a:pt x="1031" y="66"/>
                  </a:cubicBezTo>
                  <a:cubicBezTo>
                    <a:pt x="998" y="44"/>
                    <a:pt x="973" y="37"/>
                    <a:pt x="935" y="27"/>
                  </a:cubicBezTo>
                  <a:cubicBezTo>
                    <a:pt x="925" y="21"/>
                    <a:pt x="906" y="8"/>
                    <a:pt x="906" y="8"/>
                  </a:cubicBez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1935600">
              <a:off x="5311800" y="5668920"/>
              <a:ext cx="403200" cy="120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7234200" y="4998960"/>
              <a:ext cx="279360" cy="35892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5900760" y="5789520"/>
              <a:ext cx="187200" cy="28728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026040" y="5334120"/>
              <a:ext cx="85680" cy="353880"/>
            </a:xfrm>
            <a:custGeom>
              <a:avLst/>
              <a:gdLst/>
              <a:ahLst/>
              <a:rect l="l" t="t" r="r" b="b"/>
              <a:pathLst>
                <a:path w="134" h="710">
                  <a:moveTo>
                    <a:pt x="124" y="710"/>
                  </a:moveTo>
                  <a:cubicBezTo>
                    <a:pt x="105" y="652"/>
                    <a:pt x="73" y="589"/>
                    <a:pt x="28" y="547"/>
                  </a:cubicBezTo>
                  <a:cubicBezTo>
                    <a:pt x="19" y="518"/>
                    <a:pt x="9" y="490"/>
                    <a:pt x="0" y="461"/>
                  </a:cubicBezTo>
                  <a:cubicBezTo>
                    <a:pt x="11" y="404"/>
                    <a:pt x="13" y="344"/>
                    <a:pt x="28" y="288"/>
                  </a:cubicBezTo>
                  <a:cubicBezTo>
                    <a:pt x="38" y="250"/>
                    <a:pt x="54" y="211"/>
                    <a:pt x="67" y="173"/>
                  </a:cubicBezTo>
                  <a:cubicBezTo>
                    <a:pt x="81" y="132"/>
                    <a:pt x="101" y="98"/>
                    <a:pt x="115" y="58"/>
                  </a:cubicBezTo>
                  <a:cubicBezTo>
                    <a:pt x="122" y="39"/>
                    <a:pt x="134" y="0"/>
                    <a:pt x="134" y="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56280" y="5141880"/>
              <a:ext cx="136440" cy="184320"/>
            </a:xfrm>
            <a:custGeom>
              <a:avLst/>
              <a:gdLst/>
              <a:ahLst/>
              <a:rect l="l" t="t" r="r" b="b"/>
              <a:pathLst>
                <a:path w="211" h="367">
                  <a:moveTo>
                    <a:pt x="38" y="367"/>
                  </a:moveTo>
                  <a:cubicBezTo>
                    <a:pt x="27" y="331"/>
                    <a:pt x="9" y="308"/>
                    <a:pt x="0" y="271"/>
                  </a:cubicBezTo>
                  <a:cubicBezTo>
                    <a:pt x="12" y="219"/>
                    <a:pt x="21" y="186"/>
                    <a:pt x="67" y="156"/>
                  </a:cubicBezTo>
                  <a:cubicBezTo>
                    <a:pt x="102" y="103"/>
                    <a:pt x="67" y="148"/>
                    <a:pt x="115" y="108"/>
                  </a:cubicBezTo>
                  <a:cubicBezTo>
                    <a:pt x="141" y="87"/>
                    <a:pt x="161" y="57"/>
                    <a:pt x="182" y="31"/>
                  </a:cubicBezTo>
                  <a:cubicBezTo>
                    <a:pt x="206" y="0"/>
                    <a:pt x="189" y="3"/>
                    <a:pt x="211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118200" y="5094360"/>
              <a:ext cx="490680" cy="263520"/>
            </a:xfrm>
            <a:custGeom>
              <a:avLst/>
              <a:gdLst/>
              <a:ahLst/>
              <a:rect l="l" t="t" r="r" b="b"/>
              <a:pathLst>
                <a:path w="759" h="528">
                  <a:moveTo>
                    <a:pt x="0" y="528"/>
                  </a:moveTo>
                  <a:cubicBezTo>
                    <a:pt x="3" y="518"/>
                    <a:pt x="1" y="504"/>
                    <a:pt x="10" y="499"/>
                  </a:cubicBezTo>
                  <a:cubicBezTo>
                    <a:pt x="19" y="494"/>
                    <a:pt x="29" y="508"/>
                    <a:pt x="39" y="508"/>
                  </a:cubicBezTo>
                  <a:cubicBezTo>
                    <a:pt x="68" y="508"/>
                    <a:pt x="96" y="502"/>
                    <a:pt x="125" y="499"/>
                  </a:cubicBezTo>
                  <a:cubicBezTo>
                    <a:pt x="168" y="484"/>
                    <a:pt x="202" y="448"/>
                    <a:pt x="240" y="422"/>
                  </a:cubicBezTo>
                  <a:cubicBezTo>
                    <a:pt x="271" y="401"/>
                    <a:pt x="319" y="387"/>
                    <a:pt x="355" y="374"/>
                  </a:cubicBezTo>
                  <a:cubicBezTo>
                    <a:pt x="397" y="385"/>
                    <a:pt x="438" y="399"/>
                    <a:pt x="480" y="412"/>
                  </a:cubicBezTo>
                  <a:cubicBezTo>
                    <a:pt x="504" y="405"/>
                    <a:pt x="519" y="403"/>
                    <a:pt x="538" y="384"/>
                  </a:cubicBezTo>
                  <a:cubicBezTo>
                    <a:pt x="575" y="347"/>
                    <a:pt x="563" y="323"/>
                    <a:pt x="615" y="307"/>
                  </a:cubicBezTo>
                  <a:cubicBezTo>
                    <a:pt x="700" y="222"/>
                    <a:pt x="759" y="124"/>
                    <a:pt x="759" y="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303960" y="4687920"/>
              <a:ext cx="784080" cy="498600"/>
            </a:xfrm>
            <a:custGeom>
              <a:avLst/>
              <a:gdLst/>
              <a:ahLst/>
              <a:rect l="l" t="t" r="r" b="b"/>
              <a:pathLst>
                <a:path w="1214" h="1001">
                  <a:moveTo>
                    <a:pt x="0" y="598"/>
                  </a:moveTo>
                  <a:cubicBezTo>
                    <a:pt x="10" y="595"/>
                    <a:pt x="19" y="588"/>
                    <a:pt x="29" y="588"/>
                  </a:cubicBezTo>
                  <a:cubicBezTo>
                    <a:pt x="50" y="588"/>
                    <a:pt x="124" y="633"/>
                    <a:pt x="144" y="646"/>
                  </a:cubicBezTo>
                  <a:cubicBezTo>
                    <a:pt x="150" y="665"/>
                    <a:pt x="163" y="683"/>
                    <a:pt x="163" y="703"/>
                  </a:cubicBezTo>
                  <a:cubicBezTo>
                    <a:pt x="163" y="759"/>
                    <a:pt x="141" y="814"/>
                    <a:pt x="125" y="867"/>
                  </a:cubicBezTo>
                  <a:cubicBezTo>
                    <a:pt x="133" y="936"/>
                    <a:pt x="127" y="955"/>
                    <a:pt x="173" y="1001"/>
                  </a:cubicBezTo>
                  <a:cubicBezTo>
                    <a:pt x="186" y="998"/>
                    <a:pt x="201" y="999"/>
                    <a:pt x="211" y="991"/>
                  </a:cubicBezTo>
                  <a:cubicBezTo>
                    <a:pt x="219" y="985"/>
                    <a:pt x="215" y="971"/>
                    <a:pt x="221" y="963"/>
                  </a:cubicBezTo>
                  <a:cubicBezTo>
                    <a:pt x="242" y="936"/>
                    <a:pt x="264" y="901"/>
                    <a:pt x="297" y="895"/>
                  </a:cubicBezTo>
                  <a:cubicBezTo>
                    <a:pt x="338" y="887"/>
                    <a:pt x="380" y="889"/>
                    <a:pt x="422" y="886"/>
                  </a:cubicBezTo>
                  <a:cubicBezTo>
                    <a:pt x="473" y="869"/>
                    <a:pt x="445" y="885"/>
                    <a:pt x="489" y="819"/>
                  </a:cubicBezTo>
                  <a:cubicBezTo>
                    <a:pt x="515" y="779"/>
                    <a:pt x="571" y="757"/>
                    <a:pt x="605" y="723"/>
                  </a:cubicBezTo>
                  <a:cubicBezTo>
                    <a:pt x="671" y="657"/>
                    <a:pt x="571" y="757"/>
                    <a:pt x="643" y="675"/>
                  </a:cubicBezTo>
                  <a:cubicBezTo>
                    <a:pt x="658" y="658"/>
                    <a:pt x="691" y="627"/>
                    <a:pt x="691" y="627"/>
                  </a:cubicBezTo>
                  <a:cubicBezTo>
                    <a:pt x="707" y="580"/>
                    <a:pt x="727" y="548"/>
                    <a:pt x="768" y="521"/>
                  </a:cubicBezTo>
                  <a:cubicBezTo>
                    <a:pt x="793" y="483"/>
                    <a:pt x="826" y="452"/>
                    <a:pt x="854" y="415"/>
                  </a:cubicBezTo>
                  <a:cubicBezTo>
                    <a:pt x="868" y="397"/>
                    <a:pt x="893" y="358"/>
                    <a:pt x="893" y="358"/>
                  </a:cubicBezTo>
                  <a:cubicBezTo>
                    <a:pt x="903" y="325"/>
                    <a:pt x="916" y="305"/>
                    <a:pt x="941" y="281"/>
                  </a:cubicBezTo>
                  <a:cubicBezTo>
                    <a:pt x="951" y="248"/>
                    <a:pt x="964" y="228"/>
                    <a:pt x="989" y="204"/>
                  </a:cubicBezTo>
                  <a:cubicBezTo>
                    <a:pt x="999" y="171"/>
                    <a:pt x="1012" y="152"/>
                    <a:pt x="1037" y="127"/>
                  </a:cubicBezTo>
                  <a:cubicBezTo>
                    <a:pt x="1058" y="61"/>
                    <a:pt x="1083" y="61"/>
                    <a:pt x="1142" y="41"/>
                  </a:cubicBezTo>
                  <a:cubicBezTo>
                    <a:pt x="1153" y="37"/>
                    <a:pt x="1161" y="27"/>
                    <a:pt x="1171" y="22"/>
                  </a:cubicBezTo>
                  <a:cubicBezTo>
                    <a:pt x="1214" y="0"/>
                    <a:pt x="1189" y="23"/>
                    <a:pt x="1209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675480" y="5070600"/>
              <a:ext cx="185760" cy="1188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34" y="36"/>
                    <a:pt x="88" y="34"/>
                    <a:pt x="134" y="48"/>
                  </a:cubicBezTo>
                  <a:cubicBezTo>
                    <a:pt x="163" y="77"/>
                    <a:pt x="191" y="107"/>
                    <a:pt x="221" y="135"/>
                  </a:cubicBezTo>
                  <a:cubicBezTo>
                    <a:pt x="244" y="157"/>
                    <a:pt x="256" y="189"/>
                    <a:pt x="278" y="212"/>
                  </a:cubicBezTo>
                  <a:cubicBezTo>
                    <a:pt x="281" y="221"/>
                    <a:pt x="288" y="240"/>
                    <a:pt x="288" y="2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986520" y="4927320"/>
              <a:ext cx="4651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986520" y="4998600"/>
              <a:ext cx="52704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986520" y="509436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6645240" y="5740200"/>
              <a:ext cx="34128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615000" y="5837400"/>
              <a:ext cx="46368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62680" y="6148440"/>
              <a:ext cx="63360" cy="47520"/>
            </a:xfrm>
            <a:prstGeom prst="hexagon">
              <a:avLst>
                <a:gd name="adj" fmla="val 33333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0920" y="5979960"/>
              <a:ext cx="61920" cy="47880"/>
            </a:xfrm>
            <a:prstGeom prst="hexagon">
              <a:avLst>
                <a:gd name="adj" fmla="val 32331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76920" y="5692680"/>
              <a:ext cx="61920" cy="47880"/>
            </a:xfrm>
            <a:prstGeom prst="hexagon">
              <a:avLst>
                <a:gd name="adj" fmla="val 32331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715000" y="5526000"/>
              <a:ext cx="61920" cy="47880"/>
            </a:xfrm>
            <a:prstGeom prst="hexagon">
              <a:avLst>
                <a:gd name="adj" fmla="val 32331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932440" y="5645160"/>
              <a:ext cx="61920" cy="47520"/>
            </a:xfrm>
            <a:prstGeom prst="hexagon">
              <a:avLst>
                <a:gd name="adj" fmla="val 32576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42040" y="5621400"/>
              <a:ext cx="61920" cy="47520"/>
            </a:xfrm>
            <a:prstGeom prst="hexagon">
              <a:avLst>
                <a:gd name="adj" fmla="val 32576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58040" y="4687920"/>
              <a:ext cx="61920" cy="47520"/>
            </a:xfrm>
            <a:prstGeom prst="hexagon">
              <a:avLst>
                <a:gd name="adj" fmla="val 32576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89720" y="5765760"/>
              <a:ext cx="217440" cy="142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56280" y="6005520"/>
              <a:ext cx="217440" cy="142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489720" y="6100920"/>
              <a:ext cx="63360" cy="71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737400" y="5908680"/>
              <a:ext cx="61920" cy="71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924600" y="597996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02520" y="597996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986520" y="624348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02520" y="6219720"/>
              <a:ext cx="61920" cy="71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707160" y="624348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4" name=""/>
            <p:cNvGraphicFramePr/>
            <p:nvPr/>
          </p:nvGraphicFramePr>
          <p:xfrm>
            <a:off x="5249880" y="4230720"/>
            <a:ext cx="3132000" cy="2212920"/>
          </p:xfrm>
          <a:graphic>
            <a:graphicData uri="http://schemas.openxmlformats.org/presentationml/2006/ole">
              <p:oleObj progId="Word.Document.12" r:id="rId10" spid="">
                <p:embed/>
                <p:pic>
                  <p:nvPicPr>
                    <p:cNvPr id="12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49880" y="4230720"/>
                      <a:ext cx="3132000" cy="22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5181480" y="3429000"/>
            <a:ext cx="35053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67352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/ permettant des relations avec le m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467352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uverture ancienne sur l’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467352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7352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28600" y="304920"/>
            <a:ext cx="38088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76212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uverture vers l’Amérique latine et les Caraï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rot="105000">
            <a:off x="228240" y="761760"/>
            <a:ext cx="38088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rot="21337200">
            <a:off x="228240" y="1295280"/>
            <a:ext cx="380880" cy="3812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838080" y="1295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rrière pays riche en res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28600" y="1828800"/>
            <a:ext cx="8763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I/ ….dynamique et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/ La métropolisation, une des conséquences de l’attractivité du litt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3520" y="26668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299520" y="2688120"/>
            <a:ext cx="238680" cy="33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14400" y="2895480"/>
            <a:ext cx="228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371240" y="2209320"/>
            <a:ext cx="708660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« Gate ways », portes d’entr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57200" y="3657600"/>
            <a:ext cx="304920" cy="228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5880" y="3657600"/>
            <a:ext cx="343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andes agglomérations, centres d’impul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7200" y="4648320"/>
            <a:ext cx="228600" cy="3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39760" y="467352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ôle poli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52880" y="304920"/>
            <a:ext cx="266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951440" y="380880"/>
            <a:ext cx="2741760" cy="1780920"/>
            <a:chOff x="4951440" y="380880"/>
            <a:chExt cx="2741760" cy="1780920"/>
          </a:xfrm>
        </p:grpSpPr>
        <p:sp>
          <p:nvSpPr>
            <p:cNvPr id="1234" name=""/>
            <p:cNvSpPr/>
            <p:nvPr/>
          </p:nvSpPr>
          <p:spPr>
            <a:xfrm>
              <a:off x="6683400" y="571320"/>
              <a:ext cx="762120" cy="426960"/>
            </a:xfrm>
            <a:custGeom>
              <a:avLst/>
              <a:gdLst/>
              <a:ahLst/>
              <a:rect l="l" t="t" r="r" b="b"/>
              <a:pathLst>
                <a:path w="1204" h="1074">
                  <a:moveTo>
                    <a:pt x="973" y="18"/>
                  </a:moveTo>
                  <a:cubicBezTo>
                    <a:pt x="784" y="0"/>
                    <a:pt x="577" y="31"/>
                    <a:pt x="388" y="37"/>
                  </a:cubicBezTo>
                  <a:cubicBezTo>
                    <a:pt x="344" y="51"/>
                    <a:pt x="332" y="82"/>
                    <a:pt x="301" y="114"/>
                  </a:cubicBezTo>
                  <a:cubicBezTo>
                    <a:pt x="279" y="182"/>
                    <a:pt x="301" y="101"/>
                    <a:pt x="301" y="238"/>
                  </a:cubicBezTo>
                  <a:cubicBezTo>
                    <a:pt x="301" y="318"/>
                    <a:pt x="266" y="367"/>
                    <a:pt x="196" y="392"/>
                  </a:cubicBezTo>
                  <a:cubicBezTo>
                    <a:pt x="153" y="435"/>
                    <a:pt x="112" y="483"/>
                    <a:pt x="61" y="517"/>
                  </a:cubicBezTo>
                  <a:cubicBezTo>
                    <a:pt x="0" y="610"/>
                    <a:pt x="39" y="665"/>
                    <a:pt x="109" y="728"/>
                  </a:cubicBezTo>
                  <a:cubicBezTo>
                    <a:pt x="200" y="810"/>
                    <a:pt x="134" y="764"/>
                    <a:pt x="196" y="805"/>
                  </a:cubicBezTo>
                  <a:cubicBezTo>
                    <a:pt x="201" y="803"/>
                    <a:pt x="248" y="786"/>
                    <a:pt x="253" y="786"/>
                  </a:cubicBezTo>
                  <a:cubicBezTo>
                    <a:pt x="323" y="786"/>
                    <a:pt x="408" y="811"/>
                    <a:pt x="474" y="834"/>
                  </a:cubicBezTo>
                  <a:cubicBezTo>
                    <a:pt x="454" y="891"/>
                    <a:pt x="419" y="935"/>
                    <a:pt x="378" y="978"/>
                  </a:cubicBezTo>
                  <a:cubicBezTo>
                    <a:pt x="371" y="998"/>
                    <a:pt x="358" y="1015"/>
                    <a:pt x="378" y="1035"/>
                  </a:cubicBezTo>
                  <a:cubicBezTo>
                    <a:pt x="394" y="1051"/>
                    <a:pt x="436" y="1074"/>
                    <a:pt x="436" y="1074"/>
                  </a:cubicBezTo>
                  <a:cubicBezTo>
                    <a:pt x="498" y="1061"/>
                    <a:pt x="530" y="1030"/>
                    <a:pt x="580" y="997"/>
                  </a:cubicBezTo>
                  <a:cubicBezTo>
                    <a:pt x="617" y="972"/>
                    <a:pt x="612" y="983"/>
                    <a:pt x="647" y="968"/>
                  </a:cubicBezTo>
                  <a:cubicBezTo>
                    <a:pt x="719" y="937"/>
                    <a:pt x="800" y="900"/>
                    <a:pt x="877" y="882"/>
                  </a:cubicBezTo>
                  <a:cubicBezTo>
                    <a:pt x="923" y="850"/>
                    <a:pt x="959" y="810"/>
                    <a:pt x="992" y="766"/>
                  </a:cubicBezTo>
                  <a:cubicBezTo>
                    <a:pt x="1013" y="738"/>
                    <a:pt x="1026" y="704"/>
                    <a:pt x="1050" y="680"/>
                  </a:cubicBezTo>
                  <a:cubicBezTo>
                    <a:pt x="1088" y="642"/>
                    <a:pt x="1110" y="597"/>
                    <a:pt x="1127" y="546"/>
                  </a:cubicBezTo>
                  <a:cubicBezTo>
                    <a:pt x="1161" y="443"/>
                    <a:pt x="1168" y="332"/>
                    <a:pt x="1204" y="229"/>
                  </a:cubicBezTo>
                  <a:cubicBezTo>
                    <a:pt x="1189" y="187"/>
                    <a:pt x="1150" y="162"/>
                    <a:pt x="1117" y="133"/>
                  </a:cubicBezTo>
                  <a:cubicBezTo>
                    <a:pt x="1040" y="64"/>
                    <a:pt x="1091" y="85"/>
                    <a:pt x="1031" y="66"/>
                  </a:cubicBezTo>
                  <a:cubicBezTo>
                    <a:pt x="998" y="44"/>
                    <a:pt x="973" y="37"/>
                    <a:pt x="935" y="27"/>
                  </a:cubicBezTo>
                  <a:cubicBezTo>
                    <a:pt x="925" y="21"/>
                    <a:pt x="906" y="8"/>
                    <a:pt x="906" y="8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9366800">
              <a:off x="5799240" y="834480"/>
              <a:ext cx="89676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2400000">
              <a:off x="5678280" y="1279440"/>
              <a:ext cx="152280" cy="95040"/>
            </a:xfrm>
            <a:prstGeom prst="leftRightArrow">
              <a:avLst>
                <a:gd name="adj1" fmla="val 50000"/>
                <a:gd name="adj2" fmla="val 3189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2400000">
              <a:off x="6499080" y="1660320"/>
              <a:ext cx="150840" cy="95040"/>
            </a:xfrm>
            <a:prstGeom prst="leftRightArrow">
              <a:avLst>
                <a:gd name="adj1" fmla="val 50000"/>
                <a:gd name="adj2" fmla="val 31595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1935600">
              <a:off x="5011200" y="1545480"/>
              <a:ext cx="393840" cy="95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6892920" y="1012680"/>
              <a:ext cx="272880" cy="28548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5587560" y="1641240"/>
              <a:ext cx="182520" cy="22860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10320" y="1279440"/>
              <a:ext cx="83880" cy="282600"/>
            </a:xfrm>
            <a:custGeom>
              <a:avLst/>
              <a:gdLst/>
              <a:ahLst/>
              <a:rect l="l" t="t" r="r" b="b"/>
              <a:pathLst>
                <a:path w="134" h="710">
                  <a:moveTo>
                    <a:pt x="124" y="710"/>
                  </a:moveTo>
                  <a:cubicBezTo>
                    <a:pt x="105" y="652"/>
                    <a:pt x="73" y="589"/>
                    <a:pt x="28" y="547"/>
                  </a:cubicBezTo>
                  <a:cubicBezTo>
                    <a:pt x="19" y="518"/>
                    <a:pt x="9" y="490"/>
                    <a:pt x="0" y="461"/>
                  </a:cubicBezTo>
                  <a:cubicBezTo>
                    <a:pt x="11" y="404"/>
                    <a:pt x="13" y="344"/>
                    <a:pt x="28" y="288"/>
                  </a:cubicBezTo>
                  <a:cubicBezTo>
                    <a:pt x="38" y="250"/>
                    <a:pt x="54" y="211"/>
                    <a:pt x="67" y="173"/>
                  </a:cubicBezTo>
                  <a:cubicBezTo>
                    <a:pt x="81" y="132"/>
                    <a:pt x="101" y="98"/>
                    <a:pt x="115" y="58"/>
                  </a:cubicBezTo>
                  <a:cubicBezTo>
                    <a:pt x="122" y="39"/>
                    <a:pt x="134" y="0"/>
                    <a:pt x="134" y="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40560" y="1126800"/>
              <a:ext cx="131760" cy="146160"/>
            </a:xfrm>
            <a:custGeom>
              <a:avLst/>
              <a:gdLst/>
              <a:ahLst/>
              <a:rect l="l" t="t" r="r" b="b"/>
              <a:pathLst>
                <a:path w="211" h="367">
                  <a:moveTo>
                    <a:pt x="38" y="367"/>
                  </a:moveTo>
                  <a:cubicBezTo>
                    <a:pt x="27" y="331"/>
                    <a:pt x="9" y="308"/>
                    <a:pt x="0" y="271"/>
                  </a:cubicBezTo>
                  <a:cubicBezTo>
                    <a:pt x="12" y="219"/>
                    <a:pt x="21" y="186"/>
                    <a:pt x="67" y="156"/>
                  </a:cubicBezTo>
                  <a:cubicBezTo>
                    <a:pt x="102" y="103"/>
                    <a:pt x="67" y="148"/>
                    <a:pt x="115" y="108"/>
                  </a:cubicBezTo>
                  <a:cubicBezTo>
                    <a:pt x="141" y="87"/>
                    <a:pt x="161" y="57"/>
                    <a:pt x="182" y="31"/>
                  </a:cubicBezTo>
                  <a:cubicBezTo>
                    <a:pt x="206" y="0"/>
                    <a:pt x="189" y="3"/>
                    <a:pt x="211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00680" y="1088640"/>
              <a:ext cx="479520" cy="209520"/>
            </a:xfrm>
            <a:custGeom>
              <a:avLst/>
              <a:gdLst/>
              <a:ahLst/>
              <a:rect l="l" t="t" r="r" b="b"/>
              <a:pathLst>
                <a:path w="759" h="528">
                  <a:moveTo>
                    <a:pt x="0" y="528"/>
                  </a:moveTo>
                  <a:cubicBezTo>
                    <a:pt x="3" y="518"/>
                    <a:pt x="1" y="504"/>
                    <a:pt x="10" y="499"/>
                  </a:cubicBezTo>
                  <a:cubicBezTo>
                    <a:pt x="19" y="494"/>
                    <a:pt x="29" y="508"/>
                    <a:pt x="39" y="508"/>
                  </a:cubicBezTo>
                  <a:cubicBezTo>
                    <a:pt x="68" y="508"/>
                    <a:pt x="96" y="502"/>
                    <a:pt x="125" y="499"/>
                  </a:cubicBezTo>
                  <a:cubicBezTo>
                    <a:pt x="168" y="484"/>
                    <a:pt x="202" y="448"/>
                    <a:pt x="240" y="422"/>
                  </a:cubicBezTo>
                  <a:cubicBezTo>
                    <a:pt x="271" y="401"/>
                    <a:pt x="319" y="387"/>
                    <a:pt x="355" y="374"/>
                  </a:cubicBezTo>
                  <a:cubicBezTo>
                    <a:pt x="397" y="385"/>
                    <a:pt x="438" y="399"/>
                    <a:pt x="480" y="412"/>
                  </a:cubicBezTo>
                  <a:cubicBezTo>
                    <a:pt x="504" y="405"/>
                    <a:pt x="519" y="403"/>
                    <a:pt x="538" y="384"/>
                  </a:cubicBezTo>
                  <a:cubicBezTo>
                    <a:pt x="575" y="347"/>
                    <a:pt x="563" y="323"/>
                    <a:pt x="615" y="307"/>
                  </a:cubicBezTo>
                  <a:cubicBezTo>
                    <a:pt x="700" y="222"/>
                    <a:pt x="759" y="124"/>
                    <a:pt x="759" y="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83200" y="765000"/>
              <a:ext cx="766800" cy="396720"/>
            </a:xfrm>
            <a:custGeom>
              <a:avLst/>
              <a:gdLst/>
              <a:ahLst/>
              <a:rect l="l" t="t" r="r" b="b"/>
              <a:pathLst>
                <a:path w="1214" h="1001">
                  <a:moveTo>
                    <a:pt x="0" y="598"/>
                  </a:moveTo>
                  <a:cubicBezTo>
                    <a:pt x="10" y="595"/>
                    <a:pt x="19" y="588"/>
                    <a:pt x="29" y="588"/>
                  </a:cubicBezTo>
                  <a:cubicBezTo>
                    <a:pt x="50" y="588"/>
                    <a:pt x="124" y="633"/>
                    <a:pt x="144" y="646"/>
                  </a:cubicBezTo>
                  <a:cubicBezTo>
                    <a:pt x="150" y="665"/>
                    <a:pt x="163" y="683"/>
                    <a:pt x="163" y="703"/>
                  </a:cubicBezTo>
                  <a:cubicBezTo>
                    <a:pt x="163" y="759"/>
                    <a:pt x="141" y="814"/>
                    <a:pt x="125" y="867"/>
                  </a:cubicBezTo>
                  <a:cubicBezTo>
                    <a:pt x="133" y="936"/>
                    <a:pt x="127" y="955"/>
                    <a:pt x="173" y="1001"/>
                  </a:cubicBezTo>
                  <a:cubicBezTo>
                    <a:pt x="186" y="998"/>
                    <a:pt x="201" y="999"/>
                    <a:pt x="211" y="991"/>
                  </a:cubicBezTo>
                  <a:cubicBezTo>
                    <a:pt x="219" y="985"/>
                    <a:pt x="215" y="971"/>
                    <a:pt x="221" y="963"/>
                  </a:cubicBezTo>
                  <a:cubicBezTo>
                    <a:pt x="242" y="936"/>
                    <a:pt x="264" y="901"/>
                    <a:pt x="297" y="895"/>
                  </a:cubicBezTo>
                  <a:cubicBezTo>
                    <a:pt x="338" y="887"/>
                    <a:pt x="380" y="889"/>
                    <a:pt x="422" y="886"/>
                  </a:cubicBezTo>
                  <a:cubicBezTo>
                    <a:pt x="473" y="869"/>
                    <a:pt x="445" y="885"/>
                    <a:pt x="489" y="819"/>
                  </a:cubicBezTo>
                  <a:cubicBezTo>
                    <a:pt x="515" y="779"/>
                    <a:pt x="571" y="757"/>
                    <a:pt x="605" y="723"/>
                  </a:cubicBezTo>
                  <a:cubicBezTo>
                    <a:pt x="671" y="657"/>
                    <a:pt x="571" y="757"/>
                    <a:pt x="643" y="675"/>
                  </a:cubicBezTo>
                  <a:cubicBezTo>
                    <a:pt x="658" y="658"/>
                    <a:pt x="691" y="627"/>
                    <a:pt x="691" y="627"/>
                  </a:cubicBezTo>
                  <a:cubicBezTo>
                    <a:pt x="707" y="580"/>
                    <a:pt x="727" y="548"/>
                    <a:pt x="768" y="521"/>
                  </a:cubicBezTo>
                  <a:cubicBezTo>
                    <a:pt x="793" y="483"/>
                    <a:pt x="826" y="452"/>
                    <a:pt x="854" y="415"/>
                  </a:cubicBezTo>
                  <a:cubicBezTo>
                    <a:pt x="868" y="397"/>
                    <a:pt x="893" y="358"/>
                    <a:pt x="893" y="358"/>
                  </a:cubicBezTo>
                  <a:cubicBezTo>
                    <a:pt x="903" y="325"/>
                    <a:pt x="916" y="305"/>
                    <a:pt x="941" y="281"/>
                  </a:cubicBezTo>
                  <a:cubicBezTo>
                    <a:pt x="951" y="248"/>
                    <a:pt x="964" y="228"/>
                    <a:pt x="989" y="204"/>
                  </a:cubicBezTo>
                  <a:cubicBezTo>
                    <a:pt x="999" y="171"/>
                    <a:pt x="1012" y="152"/>
                    <a:pt x="1037" y="127"/>
                  </a:cubicBezTo>
                  <a:cubicBezTo>
                    <a:pt x="1058" y="61"/>
                    <a:pt x="1083" y="61"/>
                    <a:pt x="1142" y="41"/>
                  </a:cubicBezTo>
                  <a:cubicBezTo>
                    <a:pt x="1153" y="37"/>
                    <a:pt x="1161" y="27"/>
                    <a:pt x="1171" y="22"/>
                  </a:cubicBezTo>
                  <a:cubicBezTo>
                    <a:pt x="1214" y="0"/>
                    <a:pt x="1189" y="23"/>
                    <a:pt x="1209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46800" y="1069560"/>
              <a:ext cx="181080" cy="954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34" y="36"/>
                    <a:pt x="88" y="34"/>
                    <a:pt x="134" y="48"/>
                  </a:cubicBezTo>
                  <a:cubicBezTo>
                    <a:pt x="163" y="77"/>
                    <a:pt x="191" y="107"/>
                    <a:pt x="221" y="135"/>
                  </a:cubicBezTo>
                  <a:cubicBezTo>
                    <a:pt x="244" y="157"/>
                    <a:pt x="256" y="189"/>
                    <a:pt x="278" y="212"/>
                  </a:cubicBezTo>
                  <a:cubicBezTo>
                    <a:pt x="281" y="221"/>
                    <a:pt x="288" y="240"/>
                    <a:pt x="288" y="2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6649920" y="955080"/>
              <a:ext cx="455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6649920" y="1012320"/>
              <a:ext cx="515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49920" y="1088640"/>
              <a:ext cx="5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6316560" y="1602720"/>
              <a:ext cx="33336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286680" y="1679400"/>
              <a:ext cx="4554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48400" y="1927080"/>
              <a:ext cx="61920" cy="38160"/>
            </a:xfrm>
            <a:prstGeom prst="hexagon">
              <a:avLst>
                <a:gd name="adj" fmla="val 40566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54560" y="1793520"/>
              <a:ext cx="60480" cy="38160"/>
            </a:xfrm>
            <a:prstGeom prst="hexagon">
              <a:avLst>
                <a:gd name="adj" fmla="val 39623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67320" y="1564920"/>
              <a:ext cx="60480" cy="38160"/>
            </a:xfrm>
            <a:prstGeom prst="hexagon">
              <a:avLst>
                <a:gd name="adj" fmla="val 39623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405400" y="1431720"/>
              <a:ext cx="61920" cy="38160"/>
            </a:xfrm>
            <a:prstGeom prst="hexagon">
              <a:avLst>
                <a:gd name="adj" fmla="val 40566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18160" y="1526760"/>
              <a:ext cx="60480" cy="38160"/>
            </a:xfrm>
            <a:prstGeom prst="hexagon">
              <a:avLst>
                <a:gd name="adj" fmla="val 39623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21280" y="1508040"/>
              <a:ext cx="61920" cy="37800"/>
            </a:xfrm>
            <a:prstGeom prst="hexagon">
              <a:avLst>
                <a:gd name="adj" fmla="val 40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015320" y="765000"/>
              <a:ext cx="60120" cy="38160"/>
            </a:xfrm>
            <a:prstGeom prst="hexagon">
              <a:avLst>
                <a:gd name="adj" fmla="val 39387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64280" y="1622160"/>
              <a:ext cx="212760" cy="11448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40560" y="1812600"/>
              <a:ext cx="210960" cy="11448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164280" y="1888920"/>
              <a:ext cx="61920" cy="57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407280" y="1736640"/>
              <a:ext cx="60120" cy="56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589800" y="1793520"/>
              <a:ext cx="60120" cy="572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862680" y="179352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649920" y="200304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862680" y="198396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77040" y="2003040"/>
              <a:ext cx="60120" cy="572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20140200">
              <a:off x="6770160" y="745560"/>
              <a:ext cx="152640" cy="95040"/>
            </a:xfrm>
            <a:prstGeom prst="leftRightArrow">
              <a:avLst>
                <a:gd name="adj1" fmla="val 50000"/>
                <a:gd name="adj2" fmla="val 31972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649920" y="1126800"/>
              <a:ext cx="152640" cy="95400"/>
            </a:xfrm>
            <a:prstGeom prst="leftRightArrow">
              <a:avLst>
                <a:gd name="adj1" fmla="val 50000"/>
                <a:gd name="adj2" fmla="val 31852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2400000">
              <a:off x="5740560" y="1717560"/>
              <a:ext cx="150480" cy="95040"/>
            </a:xfrm>
            <a:prstGeom prst="leftRightArrow">
              <a:avLst>
                <a:gd name="adj1" fmla="val 50000"/>
                <a:gd name="adj2" fmla="val 3152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3360600">
              <a:off x="5373360" y="1251000"/>
              <a:ext cx="95040" cy="1522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4951440" y="380880"/>
            <a:ext cx="2741760" cy="178092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1440" y="380880"/>
                      <a:ext cx="2741760" cy="17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3" name=""/>
          <p:cNvGrpSpPr/>
          <p:nvPr/>
        </p:nvGrpSpPr>
        <p:grpSpPr>
          <a:xfrm>
            <a:off x="5334120" y="3790440"/>
            <a:ext cx="2278080" cy="2420640"/>
            <a:chOff x="5334120" y="3790440"/>
            <a:chExt cx="2278080" cy="2420640"/>
          </a:xfrm>
        </p:grpSpPr>
        <p:sp>
          <p:nvSpPr>
            <p:cNvPr id="1274" name=""/>
            <p:cNvSpPr/>
            <p:nvPr/>
          </p:nvSpPr>
          <p:spPr>
            <a:xfrm rot="19366800">
              <a:off x="6211440" y="4046400"/>
              <a:ext cx="984240" cy="409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2400000">
              <a:off x="6080040" y="4843440"/>
              <a:ext cx="166680" cy="1699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935600">
              <a:off x="5346360" y="5320800"/>
              <a:ext cx="433440" cy="171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5979960" y="5492880"/>
              <a:ext cx="200160" cy="40932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13520" y="4843440"/>
              <a:ext cx="93600" cy="504720"/>
            </a:xfrm>
            <a:custGeom>
              <a:avLst/>
              <a:gdLst/>
              <a:ahLst/>
              <a:rect l="l" t="t" r="r" b="b"/>
              <a:pathLst>
                <a:path w="134" h="710">
                  <a:moveTo>
                    <a:pt x="124" y="710"/>
                  </a:moveTo>
                  <a:cubicBezTo>
                    <a:pt x="105" y="652"/>
                    <a:pt x="73" y="589"/>
                    <a:pt x="28" y="547"/>
                  </a:cubicBezTo>
                  <a:cubicBezTo>
                    <a:pt x="19" y="518"/>
                    <a:pt x="9" y="490"/>
                    <a:pt x="0" y="461"/>
                  </a:cubicBezTo>
                  <a:cubicBezTo>
                    <a:pt x="11" y="404"/>
                    <a:pt x="13" y="344"/>
                    <a:pt x="28" y="288"/>
                  </a:cubicBezTo>
                  <a:cubicBezTo>
                    <a:pt x="38" y="250"/>
                    <a:pt x="54" y="211"/>
                    <a:pt x="67" y="173"/>
                  </a:cubicBezTo>
                  <a:cubicBezTo>
                    <a:pt x="81" y="132"/>
                    <a:pt x="101" y="98"/>
                    <a:pt x="115" y="58"/>
                  </a:cubicBezTo>
                  <a:cubicBezTo>
                    <a:pt x="122" y="39"/>
                    <a:pt x="134" y="0"/>
                    <a:pt x="134" y="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146640" y="4570560"/>
              <a:ext cx="146160" cy="260280"/>
            </a:xfrm>
            <a:custGeom>
              <a:avLst/>
              <a:gdLst/>
              <a:ahLst/>
              <a:rect l="l" t="t" r="r" b="b"/>
              <a:pathLst>
                <a:path w="211" h="367">
                  <a:moveTo>
                    <a:pt x="38" y="367"/>
                  </a:moveTo>
                  <a:cubicBezTo>
                    <a:pt x="27" y="331"/>
                    <a:pt x="9" y="308"/>
                    <a:pt x="0" y="271"/>
                  </a:cubicBezTo>
                  <a:cubicBezTo>
                    <a:pt x="12" y="219"/>
                    <a:pt x="21" y="186"/>
                    <a:pt x="67" y="156"/>
                  </a:cubicBezTo>
                  <a:cubicBezTo>
                    <a:pt x="102" y="103"/>
                    <a:pt x="67" y="148"/>
                    <a:pt x="115" y="108"/>
                  </a:cubicBezTo>
                  <a:cubicBezTo>
                    <a:pt x="141" y="87"/>
                    <a:pt x="161" y="57"/>
                    <a:pt x="182" y="31"/>
                  </a:cubicBezTo>
                  <a:cubicBezTo>
                    <a:pt x="206" y="0"/>
                    <a:pt x="189" y="3"/>
                    <a:pt x="211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13600" y="4502160"/>
              <a:ext cx="527040" cy="376200"/>
            </a:xfrm>
            <a:custGeom>
              <a:avLst/>
              <a:gdLst/>
              <a:ahLst/>
              <a:rect l="l" t="t" r="r" b="b"/>
              <a:pathLst>
                <a:path w="759" h="528">
                  <a:moveTo>
                    <a:pt x="0" y="528"/>
                  </a:moveTo>
                  <a:cubicBezTo>
                    <a:pt x="3" y="518"/>
                    <a:pt x="1" y="504"/>
                    <a:pt x="10" y="499"/>
                  </a:cubicBezTo>
                  <a:cubicBezTo>
                    <a:pt x="19" y="494"/>
                    <a:pt x="29" y="508"/>
                    <a:pt x="39" y="508"/>
                  </a:cubicBezTo>
                  <a:cubicBezTo>
                    <a:pt x="68" y="508"/>
                    <a:pt x="96" y="502"/>
                    <a:pt x="125" y="499"/>
                  </a:cubicBezTo>
                  <a:cubicBezTo>
                    <a:pt x="168" y="484"/>
                    <a:pt x="202" y="448"/>
                    <a:pt x="240" y="422"/>
                  </a:cubicBezTo>
                  <a:cubicBezTo>
                    <a:pt x="271" y="401"/>
                    <a:pt x="319" y="387"/>
                    <a:pt x="355" y="374"/>
                  </a:cubicBezTo>
                  <a:cubicBezTo>
                    <a:pt x="397" y="385"/>
                    <a:pt x="438" y="399"/>
                    <a:pt x="480" y="412"/>
                  </a:cubicBezTo>
                  <a:cubicBezTo>
                    <a:pt x="504" y="405"/>
                    <a:pt x="519" y="403"/>
                    <a:pt x="538" y="384"/>
                  </a:cubicBezTo>
                  <a:cubicBezTo>
                    <a:pt x="575" y="347"/>
                    <a:pt x="563" y="323"/>
                    <a:pt x="615" y="307"/>
                  </a:cubicBezTo>
                  <a:cubicBezTo>
                    <a:pt x="700" y="222"/>
                    <a:pt x="759" y="124"/>
                    <a:pt x="759" y="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413400" y="3921120"/>
              <a:ext cx="843120" cy="712800"/>
            </a:xfrm>
            <a:custGeom>
              <a:avLst/>
              <a:gdLst/>
              <a:ahLst/>
              <a:rect l="l" t="t" r="r" b="b"/>
              <a:pathLst>
                <a:path w="1214" h="1001">
                  <a:moveTo>
                    <a:pt x="0" y="598"/>
                  </a:moveTo>
                  <a:cubicBezTo>
                    <a:pt x="10" y="595"/>
                    <a:pt x="19" y="588"/>
                    <a:pt x="29" y="588"/>
                  </a:cubicBezTo>
                  <a:cubicBezTo>
                    <a:pt x="50" y="588"/>
                    <a:pt x="124" y="633"/>
                    <a:pt x="144" y="646"/>
                  </a:cubicBezTo>
                  <a:cubicBezTo>
                    <a:pt x="150" y="665"/>
                    <a:pt x="163" y="683"/>
                    <a:pt x="163" y="703"/>
                  </a:cubicBezTo>
                  <a:cubicBezTo>
                    <a:pt x="163" y="759"/>
                    <a:pt x="141" y="814"/>
                    <a:pt x="125" y="867"/>
                  </a:cubicBezTo>
                  <a:cubicBezTo>
                    <a:pt x="133" y="936"/>
                    <a:pt x="127" y="955"/>
                    <a:pt x="173" y="1001"/>
                  </a:cubicBezTo>
                  <a:cubicBezTo>
                    <a:pt x="186" y="998"/>
                    <a:pt x="201" y="999"/>
                    <a:pt x="211" y="991"/>
                  </a:cubicBezTo>
                  <a:cubicBezTo>
                    <a:pt x="219" y="985"/>
                    <a:pt x="215" y="971"/>
                    <a:pt x="221" y="963"/>
                  </a:cubicBezTo>
                  <a:cubicBezTo>
                    <a:pt x="242" y="936"/>
                    <a:pt x="264" y="901"/>
                    <a:pt x="297" y="895"/>
                  </a:cubicBezTo>
                  <a:cubicBezTo>
                    <a:pt x="338" y="887"/>
                    <a:pt x="380" y="889"/>
                    <a:pt x="422" y="886"/>
                  </a:cubicBezTo>
                  <a:cubicBezTo>
                    <a:pt x="473" y="869"/>
                    <a:pt x="445" y="885"/>
                    <a:pt x="489" y="819"/>
                  </a:cubicBezTo>
                  <a:cubicBezTo>
                    <a:pt x="515" y="779"/>
                    <a:pt x="571" y="757"/>
                    <a:pt x="605" y="723"/>
                  </a:cubicBezTo>
                  <a:cubicBezTo>
                    <a:pt x="671" y="657"/>
                    <a:pt x="571" y="757"/>
                    <a:pt x="643" y="675"/>
                  </a:cubicBezTo>
                  <a:cubicBezTo>
                    <a:pt x="658" y="658"/>
                    <a:pt x="691" y="627"/>
                    <a:pt x="691" y="627"/>
                  </a:cubicBezTo>
                  <a:cubicBezTo>
                    <a:pt x="707" y="580"/>
                    <a:pt x="727" y="548"/>
                    <a:pt x="768" y="521"/>
                  </a:cubicBezTo>
                  <a:cubicBezTo>
                    <a:pt x="793" y="483"/>
                    <a:pt x="826" y="452"/>
                    <a:pt x="854" y="415"/>
                  </a:cubicBezTo>
                  <a:cubicBezTo>
                    <a:pt x="868" y="397"/>
                    <a:pt x="893" y="358"/>
                    <a:pt x="893" y="358"/>
                  </a:cubicBezTo>
                  <a:cubicBezTo>
                    <a:pt x="903" y="325"/>
                    <a:pt x="916" y="305"/>
                    <a:pt x="941" y="281"/>
                  </a:cubicBezTo>
                  <a:cubicBezTo>
                    <a:pt x="951" y="248"/>
                    <a:pt x="964" y="228"/>
                    <a:pt x="989" y="204"/>
                  </a:cubicBezTo>
                  <a:cubicBezTo>
                    <a:pt x="999" y="171"/>
                    <a:pt x="1012" y="152"/>
                    <a:pt x="1037" y="127"/>
                  </a:cubicBezTo>
                  <a:cubicBezTo>
                    <a:pt x="1058" y="61"/>
                    <a:pt x="1083" y="61"/>
                    <a:pt x="1142" y="41"/>
                  </a:cubicBezTo>
                  <a:cubicBezTo>
                    <a:pt x="1153" y="37"/>
                    <a:pt x="1161" y="27"/>
                    <a:pt x="1171" y="22"/>
                  </a:cubicBezTo>
                  <a:cubicBezTo>
                    <a:pt x="1214" y="0"/>
                    <a:pt x="1189" y="23"/>
                    <a:pt x="1209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11920" y="4467240"/>
              <a:ext cx="201600" cy="17136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34" y="36"/>
                    <a:pt x="88" y="34"/>
                    <a:pt x="134" y="48"/>
                  </a:cubicBezTo>
                  <a:cubicBezTo>
                    <a:pt x="163" y="77"/>
                    <a:pt x="191" y="107"/>
                    <a:pt x="221" y="135"/>
                  </a:cubicBezTo>
                  <a:cubicBezTo>
                    <a:pt x="244" y="157"/>
                    <a:pt x="256" y="189"/>
                    <a:pt x="278" y="212"/>
                  </a:cubicBezTo>
                  <a:cubicBezTo>
                    <a:pt x="281" y="221"/>
                    <a:pt x="288" y="240"/>
                    <a:pt x="288" y="2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613480" y="5765760"/>
              <a:ext cx="66600" cy="68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46760" y="5356080"/>
              <a:ext cx="66600" cy="68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80160" y="5116680"/>
              <a:ext cx="66600" cy="680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013440" y="5286240"/>
              <a:ext cx="66600" cy="698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545240" y="3921120"/>
              <a:ext cx="66960" cy="68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5400" y="4535640"/>
              <a:ext cx="168120" cy="136440"/>
            </a:xfrm>
            <a:prstGeom prst="ellipse">
              <a:avLst/>
            </a:prstGeom>
            <a:solidFill>
              <a:srgbClr val="ff505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546960" y="4398840"/>
              <a:ext cx="166680" cy="136800"/>
            </a:xfrm>
            <a:prstGeom prst="ellipse">
              <a:avLst/>
            </a:prstGeom>
            <a:solidFill>
              <a:srgbClr val="ff505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flipV="1">
              <a:off x="6743160" y="4581000"/>
              <a:ext cx="104400" cy="1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45200" y="4603680"/>
              <a:ext cx="100080" cy="3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6713640" y="4365720"/>
              <a:ext cx="31680" cy="10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514920" y="4563720"/>
              <a:ext cx="65520" cy="2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 flipV="1">
              <a:off x="6742080" y="5034600"/>
              <a:ext cx="84240" cy="114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 flipV="1">
              <a:off x="6148800" y="5218920"/>
              <a:ext cx="29160" cy="10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5424480"/>
              <a:ext cx="100080" cy="33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146640" y="5321160"/>
              <a:ext cx="133560" cy="1033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045200" y="4467240"/>
              <a:ext cx="66960" cy="1033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845400" y="4672080"/>
              <a:ext cx="66600" cy="1029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780240" y="4740120"/>
              <a:ext cx="131760" cy="138240"/>
            </a:xfrm>
            <a:prstGeom prst="rect">
              <a:avLst/>
            </a:prstGeom>
            <a:solidFill>
              <a:srgbClr val="ff505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513480" y="4262400"/>
              <a:ext cx="66600" cy="684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480000" y="4570560"/>
              <a:ext cx="66960" cy="680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46720" y="4570560"/>
              <a:ext cx="100080" cy="1364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513480" y="5116680"/>
              <a:ext cx="66600" cy="680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46760" y="5151600"/>
              <a:ext cx="66600" cy="680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79960" y="5389560"/>
              <a:ext cx="100080" cy="3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844240" y="5331240"/>
              <a:ext cx="105120" cy="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913360" y="5321160"/>
              <a:ext cx="100080" cy="1033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5877360" y="5936400"/>
              <a:ext cx="39240" cy="10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25160" y="6104520"/>
              <a:ext cx="9360" cy="106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813280" y="6004080"/>
              <a:ext cx="100080" cy="1029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546880" y="5867280"/>
              <a:ext cx="133200" cy="103320"/>
            </a:xfrm>
            <a:prstGeom prst="rect">
              <a:avLst/>
            </a:prstGeom>
            <a:solidFill>
              <a:srgbClr val="ff505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334120" y="3602160"/>
            <a:ext cx="2906640" cy="2822400"/>
            <a:chOff x="5334120" y="3602160"/>
            <a:chExt cx="2906640" cy="2822400"/>
          </a:xfrm>
        </p:grpSpPr>
        <p:sp>
          <p:nvSpPr>
            <p:cNvPr id="1314" name=""/>
            <p:cNvSpPr/>
            <p:nvPr/>
          </p:nvSpPr>
          <p:spPr>
            <a:xfrm>
              <a:off x="5649840" y="4008600"/>
              <a:ext cx="1828800" cy="2211480"/>
            </a:xfrm>
            <a:custGeom>
              <a:avLst/>
              <a:gdLst/>
              <a:ahLst/>
              <a:rect l="l" t="t" r="r" b="b"/>
              <a:pathLst>
                <a:path w="1152" h="1393">
                  <a:moveTo>
                    <a:pt x="365" y="1393"/>
                  </a:moveTo>
                  <a:lnTo>
                    <a:pt x="365" y="1385"/>
                  </a:lnTo>
                  <a:lnTo>
                    <a:pt x="362" y="1377"/>
                  </a:lnTo>
                  <a:lnTo>
                    <a:pt x="365" y="1366"/>
                  </a:lnTo>
                  <a:lnTo>
                    <a:pt x="373" y="1355"/>
                  </a:lnTo>
                  <a:lnTo>
                    <a:pt x="375" y="1350"/>
                  </a:lnTo>
                  <a:lnTo>
                    <a:pt x="375" y="1342"/>
                  </a:lnTo>
                  <a:lnTo>
                    <a:pt x="378" y="1336"/>
                  </a:lnTo>
                  <a:lnTo>
                    <a:pt x="378" y="1334"/>
                  </a:lnTo>
                  <a:lnTo>
                    <a:pt x="378" y="1323"/>
                  </a:lnTo>
                  <a:lnTo>
                    <a:pt x="375" y="1312"/>
                  </a:lnTo>
                  <a:lnTo>
                    <a:pt x="375" y="1307"/>
                  </a:lnTo>
                  <a:lnTo>
                    <a:pt x="378" y="1301"/>
                  </a:lnTo>
                  <a:lnTo>
                    <a:pt x="391" y="1299"/>
                  </a:lnTo>
                  <a:lnTo>
                    <a:pt x="404" y="1299"/>
                  </a:lnTo>
                  <a:lnTo>
                    <a:pt x="407" y="1293"/>
                  </a:lnTo>
                  <a:lnTo>
                    <a:pt x="409" y="1288"/>
                  </a:lnTo>
                  <a:lnTo>
                    <a:pt x="409" y="1277"/>
                  </a:lnTo>
                  <a:lnTo>
                    <a:pt x="409" y="1266"/>
                  </a:lnTo>
                  <a:lnTo>
                    <a:pt x="404" y="1245"/>
                  </a:lnTo>
                  <a:lnTo>
                    <a:pt x="407" y="1237"/>
                  </a:lnTo>
                  <a:lnTo>
                    <a:pt x="407" y="1234"/>
                  </a:lnTo>
                  <a:lnTo>
                    <a:pt x="407" y="1234"/>
                  </a:lnTo>
                  <a:lnTo>
                    <a:pt x="409" y="1237"/>
                  </a:lnTo>
                  <a:lnTo>
                    <a:pt x="412" y="1234"/>
                  </a:lnTo>
                  <a:lnTo>
                    <a:pt x="417" y="1231"/>
                  </a:lnTo>
                  <a:lnTo>
                    <a:pt x="423" y="1226"/>
                  </a:lnTo>
                  <a:lnTo>
                    <a:pt x="425" y="1221"/>
                  </a:lnTo>
                  <a:lnTo>
                    <a:pt x="428" y="1210"/>
                  </a:lnTo>
                  <a:lnTo>
                    <a:pt x="430" y="1197"/>
                  </a:lnTo>
                  <a:lnTo>
                    <a:pt x="428" y="1186"/>
                  </a:lnTo>
                  <a:lnTo>
                    <a:pt x="425" y="1178"/>
                  </a:lnTo>
                  <a:lnTo>
                    <a:pt x="420" y="1175"/>
                  </a:lnTo>
                  <a:lnTo>
                    <a:pt x="415" y="1175"/>
                  </a:lnTo>
                  <a:lnTo>
                    <a:pt x="404" y="1180"/>
                  </a:lnTo>
                  <a:lnTo>
                    <a:pt x="391" y="1186"/>
                  </a:lnTo>
                  <a:lnTo>
                    <a:pt x="375" y="1188"/>
                  </a:lnTo>
                  <a:lnTo>
                    <a:pt x="341" y="1191"/>
                  </a:lnTo>
                  <a:lnTo>
                    <a:pt x="305" y="1191"/>
                  </a:lnTo>
                  <a:lnTo>
                    <a:pt x="297" y="1194"/>
                  </a:lnTo>
                  <a:lnTo>
                    <a:pt x="291" y="1199"/>
                  </a:lnTo>
                  <a:lnTo>
                    <a:pt x="286" y="1210"/>
                  </a:lnTo>
                  <a:lnTo>
                    <a:pt x="286" y="1226"/>
                  </a:lnTo>
                  <a:lnTo>
                    <a:pt x="284" y="1245"/>
                  </a:lnTo>
                  <a:lnTo>
                    <a:pt x="281" y="1256"/>
                  </a:lnTo>
                  <a:lnTo>
                    <a:pt x="278" y="1266"/>
                  </a:lnTo>
                  <a:lnTo>
                    <a:pt x="273" y="1272"/>
                  </a:lnTo>
                  <a:lnTo>
                    <a:pt x="268" y="1275"/>
                  </a:lnTo>
                  <a:lnTo>
                    <a:pt x="255" y="1288"/>
                  </a:lnTo>
                  <a:lnTo>
                    <a:pt x="239" y="1301"/>
                  </a:lnTo>
                  <a:lnTo>
                    <a:pt x="234" y="1299"/>
                  </a:lnTo>
                  <a:lnTo>
                    <a:pt x="229" y="1293"/>
                  </a:lnTo>
                  <a:lnTo>
                    <a:pt x="223" y="1288"/>
                  </a:lnTo>
                  <a:lnTo>
                    <a:pt x="218" y="1288"/>
                  </a:lnTo>
                  <a:lnTo>
                    <a:pt x="181" y="1296"/>
                  </a:lnTo>
                  <a:lnTo>
                    <a:pt x="142" y="1301"/>
                  </a:lnTo>
                  <a:lnTo>
                    <a:pt x="126" y="1301"/>
                  </a:lnTo>
                  <a:lnTo>
                    <a:pt x="111" y="1299"/>
                  </a:lnTo>
                  <a:lnTo>
                    <a:pt x="97" y="1293"/>
                  </a:lnTo>
                  <a:lnTo>
                    <a:pt x="92" y="1291"/>
                  </a:lnTo>
                  <a:lnTo>
                    <a:pt x="90" y="1291"/>
                  </a:lnTo>
                  <a:lnTo>
                    <a:pt x="84" y="1275"/>
                  </a:lnTo>
                  <a:lnTo>
                    <a:pt x="79" y="1256"/>
                  </a:lnTo>
                  <a:lnTo>
                    <a:pt x="50" y="1199"/>
                  </a:lnTo>
                  <a:lnTo>
                    <a:pt x="19" y="1145"/>
                  </a:lnTo>
                  <a:lnTo>
                    <a:pt x="16" y="1140"/>
                  </a:lnTo>
                  <a:lnTo>
                    <a:pt x="16" y="1135"/>
                  </a:lnTo>
                  <a:lnTo>
                    <a:pt x="14" y="1129"/>
                  </a:lnTo>
                  <a:lnTo>
                    <a:pt x="8" y="1124"/>
                  </a:lnTo>
                  <a:lnTo>
                    <a:pt x="6" y="1113"/>
                  </a:lnTo>
                  <a:lnTo>
                    <a:pt x="3" y="1102"/>
                  </a:lnTo>
                  <a:lnTo>
                    <a:pt x="0" y="1089"/>
                  </a:lnTo>
                  <a:lnTo>
                    <a:pt x="0" y="1081"/>
                  </a:lnTo>
                  <a:lnTo>
                    <a:pt x="3" y="1065"/>
                  </a:lnTo>
                  <a:lnTo>
                    <a:pt x="6" y="1049"/>
                  </a:lnTo>
                  <a:lnTo>
                    <a:pt x="16" y="1019"/>
                  </a:lnTo>
                  <a:lnTo>
                    <a:pt x="19" y="1016"/>
                  </a:lnTo>
                  <a:lnTo>
                    <a:pt x="21" y="1014"/>
                  </a:lnTo>
                  <a:lnTo>
                    <a:pt x="27" y="1008"/>
                  </a:lnTo>
                  <a:lnTo>
                    <a:pt x="37" y="992"/>
                  </a:lnTo>
                  <a:lnTo>
                    <a:pt x="48" y="976"/>
                  </a:lnTo>
                  <a:lnTo>
                    <a:pt x="53" y="963"/>
                  </a:lnTo>
                  <a:lnTo>
                    <a:pt x="58" y="944"/>
                  </a:lnTo>
                  <a:lnTo>
                    <a:pt x="63" y="925"/>
                  </a:lnTo>
                  <a:lnTo>
                    <a:pt x="69" y="911"/>
                  </a:lnTo>
                  <a:lnTo>
                    <a:pt x="79" y="895"/>
                  </a:lnTo>
                  <a:lnTo>
                    <a:pt x="84" y="890"/>
                  </a:lnTo>
                  <a:lnTo>
                    <a:pt x="84" y="887"/>
                  </a:lnTo>
                  <a:lnTo>
                    <a:pt x="84" y="887"/>
                  </a:lnTo>
                  <a:lnTo>
                    <a:pt x="82" y="890"/>
                  </a:lnTo>
                  <a:lnTo>
                    <a:pt x="82" y="893"/>
                  </a:lnTo>
                  <a:lnTo>
                    <a:pt x="84" y="887"/>
                  </a:lnTo>
                  <a:lnTo>
                    <a:pt x="92" y="879"/>
                  </a:lnTo>
                  <a:lnTo>
                    <a:pt x="95" y="874"/>
                  </a:lnTo>
                  <a:lnTo>
                    <a:pt x="100" y="868"/>
                  </a:lnTo>
                  <a:lnTo>
                    <a:pt x="111" y="866"/>
                  </a:lnTo>
                  <a:lnTo>
                    <a:pt x="121" y="860"/>
                  </a:lnTo>
                  <a:lnTo>
                    <a:pt x="147" y="852"/>
                  </a:lnTo>
                  <a:lnTo>
                    <a:pt x="173" y="847"/>
                  </a:lnTo>
                  <a:lnTo>
                    <a:pt x="194" y="847"/>
                  </a:lnTo>
                  <a:lnTo>
                    <a:pt x="210" y="850"/>
                  </a:lnTo>
                  <a:lnTo>
                    <a:pt x="223" y="850"/>
                  </a:lnTo>
                  <a:lnTo>
                    <a:pt x="231" y="850"/>
                  </a:lnTo>
                  <a:lnTo>
                    <a:pt x="247" y="850"/>
                  </a:lnTo>
                  <a:lnTo>
                    <a:pt x="257" y="852"/>
                  </a:lnTo>
                  <a:lnTo>
                    <a:pt x="273" y="855"/>
                  </a:lnTo>
                  <a:lnTo>
                    <a:pt x="286" y="855"/>
                  </a:lnTo>
                  <a:lnTo>
                    <a:pt x="299" y="858"/>
                  </a:lnTo>
                  <a:lnTo>
                    <a:pt x="315" y="860"/>
                  </a:lnTo>
                  <a:lnTo>
                    <a:pt x="326" y="866"/>
                  </a:lnTo>
                  <a:lnTo>
                    <a:pt x="352" y="882"/>
                  </a:lnTo>
                  <a:lnTo>
                    <a:pt x="378" y="898"/>
                  </a:lnTo>
                  <a:lnTo>
                    <a:pt x="378" y="890"/>
                  </a:lnTo>
                  <a:lnTo>
                    <a:pt x="375" y="882"/>
                  </a:lnTo>
                  <a:lnTo>
                    <a:pt x="370" y="879"/>
                  </a:lnTo>
                  <a:lnTo>
                    <a:pt x="365" y="876"/>
                  </a:lnTo>
                  <a:lnTo>
                    <a:pt x="360" y="868"/>
                  </a:lnTo>
                  <a:lnTo>
                    <a:pt x="357" y="866"/>
                  </a:lnTo>
                  <a:lnTo>
                    <a:pt x="357" y="866"/>
                  </a:lnTo>
                  <a:lnTo>
                    <a:pt x="360" y="866"/>
                  </a:lnTo>
                  <a:lnTo>
                    <a:pt x="360" y="866"/>
                  </a:lnTo>
                  <a:lnTo>
                    <a:pt x="354" y="863"/>
                  </a:lnTo>
                  <a:lnTo>
                    <a:pt x="347" y="858"/>
                  </a:lnTo>
                  <a:lnTo>
                    <a:pt x="344" y="852"/>
                  </a:lnTo>
                  <a:lnTo>
                    <a:pt x="344" y="850"/>
                  </a:lnTo>
                  <a:lnTo>
                    <a:pt x="344" y="847"/>
                  </a:lnTo>
                  <a:lnTo>
                    <a:pt x="349" y="844"/>
                  </a:lnTo>
                  <a:lnTo>
                    <a:pt x="354" y="844"/>
                  </a:lnTo>
                  <a:lnTo>
                    <a:pt x="360" y="841"/>
                  </a:lnTo>
                  <a:lnTo>
                    <a:pt x="365" y="839"/>
                  </a:lnTo>
                  <a:lnTo>
                    <a:pt x="373" y="833"/>
                  </a:lnTo>
                  <a:lnTo>
                    <a:pt x="375" y="831"/>
                  </a:lnTo>
                  <a:lnTo>
                    <a:pt x="375" y="831"/>
                  </a:lnTo>
                  <a:lnTo>
                    <a:pt x="375" y="833"/>
                  </a:lnTo>
                  <a:lnTo>
                    <a:pt x="375" y="833"/>
                  </a:lnTo>
                  <a:lnTo>
                    <a:pt x="375" y="833"/>
                  </a:lnTo>
                  <a:lnTo>
                    <a:pt x="378" y="833"/>
                  </a:lnTo>
                  <a:lnTo>
                    <a:pt x="386" y="828"/>
                  </a:lnTo>
                  <a:lnTo>
                    <a:pt x="391" y="825"/>
                  </a:lnTo>
                  <a:lnTo>
                    <a:pt x="396" y="823"/>
                  </a:lnTo>
                  <a:lnTo>
                    <a:pt x="409" y="817"/>
                  </a:lnTo>
                  <a:lnTo>
                    <a:pt x="420" y="815"/>
                  </a:lnTo>
                  <a:lnTo>
                    <a:pt x="457" y="817"/>
                  </a:lnTo>
                  <a:lnTo>
                    <a:pt x="491" y="823"/>
                  </a:lnTo>
                  <a:lnTo>
                    <a:pt x="525" y="833"/>
                  </a:lnTo>
                  <a:lnTo>
                    <a:pt x="556" y="847"/>
                  </a:lnTo>
                  <a:lnTo>
                    <a:pt x="564" y="858"/>
                  </a:lnTo>
                  <a:lnTo>
                    <a:pt x="567" y="868"/>
                  </a:lnTo>
                  <a:lnTo>
                    <a:pt x="575" y="890"/>
                  </a:lnTo>
                  <a:lnTo>
                    <a:pt x="580" y="895"/>
                  </a:lnTo>
                  <a:lnTo>
                    <a:pt x="583" y="901"/>
                  </a:lnTo>
                  <a:lnTo>
                    <a:pt x="585" y="911"/>
                  </a:lnTo>
                  <a:lnTo>
                    <a:pt x="588" y="922"/>
                  </a:lnTo>
                  <a:lnTo>
                    <a:pt x="593" y="930"/>
                  </a:lnTo>
                  <a:lnTo>
                    <a:pt x="598" y="933"/>
                  </a:lnTo>
                  <a:lnTo>
                    <a:pt x="606" y="944"/>
                  </a:lnTo>
                  <a:lnTo>
                    <a:pt x="617" y="960"/>
                  </a:lnTo>
                  <a:lnTo>
                    <a:pt x="627" y="976"/>
                  </a:lnTo>
                  <a:lnTo>
                    <a:pt x="635" y="987"/>
                  </a:lnTo>
                  <a:lnTo>
                    <a:pt x="640" y="997"/>
                  </a:lnTo>
                  <a:lnTo>
                    <a:pt x="643" y="1003"/>
                  </a:lnTo>
                  <a:lnTo>
                    <a:pt x="646" y="1006"/>
                  </a:lnTo>
                  <a:lnTo>
                    <a:pt x="646" y="1008"/>
                  </a:lnTo>
                  <a:lnTo>
                    <a:pt x="646" y="1011"/>
                  </a:lnTo>
                  <a:lnTo>
                    <a:pt x="646" y="1014"/>
                  </a:lnTo>
                  <a:lnTo>
                    <a:pt x="651" y="1019"/>
                  </a:lnTo>
                  <a:lnTo>
                    <a:pt x="656" y="1024"/>
                  </a:lnTo>
                  <a:lnTo>
                    <a:pt x="661" y="1027"/>
                  </a:lnTo>
                  <a:lnTo>
                    <a:pt x="669" y="1024"/>
                  </a:lnTo>
                  <a:lnTo>
                    <a:pt x="674" y="1024"/>
                  </a:lnTo>
                  <a:lnTo>
                    <a:pt x="677" y="1022"/>
                  </a:lnTo>
                  <a:lnTo>
                    <a:pt x="680" y="1016"/>
                  </a:lnTo>
                  <a:lnTo>
                    <a:pt x="680" y="1008"/>
                  </a:lnTo>
                  <a:lnTo>
                    <a:pt x="682" y="1003"/>
                  </a:lnTo>
                  <a:lnTo>
                    <a:pt x="682" y="1000"/>
                  </a:lnTo>
                  <a:lnTo>
                    <a:pt x="677" y="979"/>
                  </a:lnTo>
                  <a:lnTo>
                    <a:pt x="669" y="957"/>
                  </a:lnTo>
                  <a:lnTo>
                    <a:pt x="666" y="946"/>
                  </a:lnTo>
                  <a:lnTo>
                    <a:pt x="661" y="936"/>
                  </a:lnTo>
                  <a:lnTo>
                    <a:pt x="659" y="930"/>
                  </a:lnTo>
                  <a:lnTo>
                    <a:pt x="656" y="925"/>
                  </a:lnTo>
                  <a:lnTo>
                    <a:pt x="653" y="919"/>
                  </a:lnTo>
                  <a:lnTo>
                    <a:pt x="651" y="911"/>
                  </a:lnTo>
                  <a:lnTo>
                    <a:pt x="648" y="901"/>
                  </a:lnTo>
                  <a:lnTo>
                    <a:pt x="646" y="893"/>
                  </a:lnTo>
                  <a:lnTo>
                    <a:pt x="643" y="887"/>
                  </a:lnTo>
                  <a:lnTo>
                    <a:pt x="640" y="882"/>
                  </a:lnTo>
                  <a:lnTo>
                    <a:pt x="640" y="876"/>
                  </a:lnTo>
                  <a:lnTo>
                    <a:pt x="638" y="874"/>
                  </a:lnTo>
                  <a:lnTo>
                    <a:pt x="638" y="871"/>
                  </a:lnTo>
                  <a:lnTo>
                    <a:pt x="638" y="847"/>
                  </a:lnTo>
                  <a:lnTo>
                    <a:pt x="635" y="825"/>
                  </a:lnTo>
                  <a:lnTo>
                    <a:pt x="630" y="804"/>
                  </a:lnTo>
                  <a:lnTo>
                    <a:pt x="619" y="782"/>
                  </a:lnTo>
                  <a:lnTo>
                    <a:pt x="640" y="772"/>
                  </a:lnTo>
                  <a:lnTo>
                    <a:pt x="661" y="761"/>
                  </a:lnTo>
                  <a:lnTo>
                    <a:pt x="669" y="750"/>
                  </a:lnTo>
                  <a:lnTo>
                    <a:pt x="677" y="739"/>
                  </a:lnTo>
                  <a:lnTo>
                    <a:pt x="680" y="731"/>
                  </a:lnTo>
                  <a:lnTo>
                    <a:pt x="680" y="720"/>
                  </a:lnTo>
                  <a:lnTo>
                    <a:pt x="682" y="710"/>
                  </a:lnTo>
                  <a:lnTo>
                    <a:pt x="687" y="704"/>
                  </a:lnTo>
                  <a:lnTo>
                    <a:pt x="716" y="683"/>
                  </a:lnTo>
                  <a:lnTo>
                    <a:pt x="732" y="672"/>
                  </a:lnTo>
                  <a:lnTo>
                    <a:pt x="750" y="664"/>
                  </a:lnTo>
                  <a:lnTo>
                    <a:pt x="756" y="653"/>
                  </a:lnTo>
                  <a:lnTo>
                    <a:pt x="764" y="642"/>
                  </a:lnTo>
                  <a:lnTo>
                    <a:pt x="766" y="637"/>
                  </a:lnTo>
                  <a:lnTo>
                    <a:pt x="766" y="632"/>
                  </a:lnTo>
                  <a:lnTo>
                    <a:pt x="777" y="624"/>
                  </a:lnTo>
                  <a:lnTo>
                    <a:pt x="787" y="618"/>
                  </a:lnTo>
                  <a:lnTo>
                    <a:pt x="792" y="616"/>
                  </a:lnTo>
                  <a:lnTo>
                    <a:pt x="798" y="610"/>
                  </a:lnTo>
                  <a:lnTo>
                    <a:pt x="805" y="605"/>
                  </a:lnTo>
                  <a:lnTo>
                    <a:pt x="808" y="602"/>
                  </a:lnTo>
                  <a:lnTo>
                    <a:pt x="805" y="597"/>
                  </a:lnTo>
                  <a:lnTo>
                    <a:pt x="805" y="594"/>
                  </a:lnTo>
                  <a:lnTo>
                    <a:pt x="805" y="591"/>
                  </a:lnTo>
                  <a:lnTo>
                    <a:pt x="803" y="589"/>
                  </a:lnTo>
                  <a:lnTo>
                    <a:pt x="800" y="586"/>
                  </a:lnTo>
                  <a:lnTo>
                    <a:pt x="795" y="581"/>
                  </a:lnTo>
                  <a:lnTo>
                    <a:pt x="792" y="575"/>
                  </a:lnTo>
                  <a:lnTo>
                    <a:pt x="787" y="570"/>
                  </a:lnTo>
                  <a:lnTo>
                    <a:pt x="782" y="567"/>
                  </a:lnTo>
                  <a:lnTo>
                    <a:pt x="777" y="567"/>
                  </a:lnTo>
                  <a:lnTo>
                    <a:pt x="774" y="562"/>
                  </a:lnTo>
                  <a:lnTo>
                    <a:pt x="771" y="556"/>
                  </a:lnTo>
                  <a:lnTo>
                    <a:pt x="771" y="551"/>
                  </a:lnTo>
                  <a:lnTo>
                    <a:pt x="774" y="546"/>
                  </a:lnTo>
                  <a:lnTo>
                    <a:pt x="784" y="538"/>
                  </a:lnTo>
                  <a:lnTo>
                    <a:pt x="782" y="527"/>
                  </a:lnTo>
                  <a:lnTo>
                    <a:pt x="777" y="516"/>
                  </a:lnTo>
                  <a:lnTo>
                    <a:pt x="777" y="511"/>
                  </a:lnTo>
                  <a:lnTo>
                    <a:pt x="774" y="505"/>
                  </a:lnTo>
                  <a:lnTo>
                    <a:pt x="769" y="494"/>
                  </a:lnTo>
                  <a:lnTo>
                    <a:pt x="761" y="484"/>
                  </a:lnTo>
                  <a:lnTo>
                    <a:pt x="756" y="478"/>
                  </a:lnTo>
                  <a:lnTo>
                    <a:pt x="756" y="476"/>
                  </a:lnTo>
                  <a:lnTo>
                    <a:pt x="756" y="473"/>
                  </a:lnTo>
                  <a:lnTo>
                    <a:pt x="761" y="473"/>
                  </a:lnTo>
                  <a:lnTo>
                    <a:pt x="766" y="478"/>
                  </a:lnTo>
                  <a:lnTo>
                    <a:pt x="774" y="481"/>
                  </a:lnTo>
                  <a:lnTo>
                    <a:pt x="777" y="484"/>
                  </a:lnTo>
                  <a:lnTo>
                    <a:pt x="784" y="494"/>
                  </a:lnTo>
                  <a:lnTo>
                    <a:pt x="792" y="505"/>
                  </a:lnTo>
                  <a:lnTo>
                    <a:pt x="795" y="513"/>
                  </a:lnTo>
                  <a:lnTo>
                    <a:pt x="798" y="516"/>
                  </a:lnTo>
                  <a:lnTo>
                    <a:pt x="805" y="481"/>
                  </a:lnTo>
                  <a:lnTo>
                    <a:pt x="813" y="446"/>
                  </a:lnTo>
                  <a:lnTo>
                    <a:pt x="821" y="430"/>
                  </a:lnTo>
                  <a:lnTo>
                    <a:pt x="826" y="414"/>
                  </a:lnTo>
                  <a:lnTo>
                    <a:pt x="829" y="400"/>
                  </a:lnTo>
                  <a:lnTo>
                    <a:pt x="829" y="384"/>
                  </a:lnTo>
                  <a:lnTo>
                    <a:pt x="832" y="379"/>
                  </a:lnTo>
                  <a:lnTo>
                    <a:pt x="832" y="376"/>
                  </a:lnTo>
                  <a:lnTo>
                    <a:pt x="834" y="373"/>
                  </a:lnTo>
                  <a:lnTo>
                    <a:pt x="840" y="376"/>
                  </a:lnTo>
                  <a:lnTo>
                    <a:pt x="845" y="379"/>
                  </a:lnTo>
                  <a:lnTo>
                    <a:pt x="850" y="384"/>
                  </a:lnTo>
                  <a:lnTo>
                    <a:pt x="855" y="387"/>
                  </a:lnTo>
                  <a:lnTo>
                    <a:pt x="861" y="390"/>
                  </a:lnTo>
                  <a:lnTo>
                    <a:pt x="868" y="392"/>
                  </a:lnTo>
                  <a:lnTo>
                    <a:pt x="874" y="395"/>
                  </a:lnTo>
                  <a:lnTo>
                    <a:pt x="876" y="395"/>
                  </a:lnTo>
                  <a:lnTo>
                    <a:pt x="882" y="392"/>
                  </a:lnTo>
                  <a:lnTo>
                    <a:pt x="887" y="387"/>
                  </a:lnTo>
                  <a:lnTo>
                    <a:pt x="892" y="376"/>
                  </a:lnTo>
                  <a:lnTo>
                    <a:pt x="895" y="363"/>
                  </a:lnTo>
                  <a:lnTo>
                    <a:pt x="897" y="349"/>
                  </a:lnTo>
                  <a:lnTo>
                    <a:pt x="900" y="338"/>
                  </a:lnTo>
                  <a:lnTo>
                    <a:pt x="905" y="325"/>
                  </a:lnTo>
                  <a:lnTo>
                    <a:pt x="908" y="320"/>
                  </a:lnTo>
                  <a:lnTo>
                    <a:pt x="910" y="317"/>
                  </a:lnTo>
                  <a:lnTo>
                    <a:pt x="916" y="314"/>
                  </a:lnTo>
                  <a:lnTo>
                    <a:pt x="921" y="312"/>
                  </a:lnTo>
                  <a:lnTo>
                    <a:pt x="931" y="301"/>
                  </a:lnTo>
                  <a:lnTo>
                    <a:pt x="934" y="295"/>
                  </a:lnTo>
                  <a:lnTo>
                    <a:pt x="934" y="290"/>
                  </a:lnTo>
                  <a:lnTo>
                    <a:pt x="931" y="282"/>
                  </a:lnTo>
                  <a:lnTo>
                    <a:pt x="931" y="274"/>
                  </a:lnTo>
                  <a:lnTo>
                    <a:pt x="931" y="269"/>
                  </a:lnTo>
                  <a:lnTo>
                    <a:pt x="929" y="260"/>
                  </a:lnTo>
                  <a:lnTo>
                    <a:pt x="929" y="255"/>
                  </a:lnTo>
                  <a:lnTo>
                    <a:pt x="929" y="244"/>
                  </a:lnTo>
                  <a:lnTo>
                    <a:pt x="929" y="231"/>
                  </a:lnTo>
                  <a:lnTo>
                    <a:pt x="931" y="215"/>
                  </a:lnTo>
                  <a:lnTo>
                    <a:pt x="931" y="209"/>
                  </a:lnTo>
                  <a:lnTo>
                    <a:pt x="934" y="204"/>
                  </a:lnTo>
                  <a:lnTo>
                    <a:pt x="942" y="201"/>
                  </a:lnTo>
                  <a:lnTo>
                    <a:pt x="952" y="201"/>
                  </a:lnTo>
                  <a:lnTo>
                    <a:pt x="960" y="199"/>
                  </a:lnTo>
                  <a:lnTo>
                    <a:pt x="965" y="199"/>
                  </a:lnTo>
                  <a:lnTo>
                    <a:pt x="992" y="191"/>
                  </a:lnTo>
                  <a:lnTo>
                    <a:pt x="1005" y="188"/>
                  </a:lnTo>
                  <a:lnTo>
                    <a:pt x="1015" y="180"/>
                  </a:lnTo>
                  <a:lnTo>
                    <a:pt x="1023" y="166"/>
                  </a:lnTo>
                  <a:lnTo>
                    <a:pt x="1028" y="158"/>
                  </a:lnTo>
                  <a:lnTo>
                    <a:pt x="1039" y="153"/>
                  </a:lnTo>
                  <a:lnTo>
                    <a:pt x="1049" y="147"/>
                  </a:lnTo>
                  <a:lnTo>
                    <a:pt x="1060" y="145"/>
                  </a:lnTo>
                  <a:lnTo>
                    <a:pt x="1068" y="145"/>
                  </a:lnTo>
                  <a:lnTo>
                    <a:pt x="1060" y="150"/>
                  </a:lnTo>
                  <a:lnTo>
                    <a:pt x="1055" y="153"/>
                  </a:lnTo>
                  <a:lnTo>
                    <a:pt x="1049" y="156"/>
                  </a:lnTo>
                  <a:lnTo>
                    <a:pt x="1047" y="161"/>
                  </a:lnTo>
                  <a:lnTo>
                    <a:pt x="1044" y="164"/>
                  </a:lnTo>
                  <a:lnTo>
                    <a:pt x="1039" y="169"/>
                  </a:lnTo>
                  <a:lnTo>
                    <a:pt x="1041" y="180"/>
                  </a:lnTo>
                  <a:lnTo>
                    <a:pt x="1041" y="188"/>
                  </a:lnTo>
                  <a:lnTo>
                    <a:pt x="1044" y="199"/>
                  </a:lnTo>
                  <a:lnTo>
                    <a:pt x="1041" y="207"/>
                  </a:lnTo>
                  <a:lnTo>
                    <a:pt x="1039" y="215"/>
                  </a:lnTo>
                  <a:lnTo>
                    <a:pt x="1036" y="225"/>
                  </a:lnTo>
                  <a:lnTo>
                    <a:pt x="1036" y="228"/>
                  </a:lnTo>
                  <a:lnTo>
                    <a:pt x="1044" y="228"/>
                  </a:lnTo>
                  <a:lnTo>
                    <a:pt x="1049" y="223"/>
                  </a:lnTo>
                  <a:lnTo>
                    <a:pt x="1057" y="220"/>
                  </a:lnTo>
                  <a:lnTo>
                    <a:pt x="1065" y="217"/>
                  </a:lnTo>
                  <a:lnTo>
                    <a:pt x="1070" y="212"/>
                  </a:lnTo>
                  <a:lnTo>
                    <a:pt x="1076" y="207"/>
                  </a:lnTo>
                  <a:lnTo>
                    <a:pt x="1078" y="204"/>
                  </a:lnTo>
                  <a:lnTo>
                    <a:pt x="1097" y="185"/>
                  </a:lnTo>
                  <a:lnTo>
                    <a:pt x="1118" y="169"/>
                  </a:lnTo>
                  <a:lnTo>
                    <a:pt x="1120" y="164"/>
                  </a:lnTo>
                  <a:lnTo>
                    <a:pt x="1123" y="158"/>
                  </a:lnTo>
                  <a:lnTo>
                    <a:pt x="1131" y="153"/>
                  </a:lnTo>
                  <a:lnTo>
                    <a:pt x="1133" y="150"/>
                  </a:lnTo>
                  <a:lnTo>
                    <a:pt x="1136" y="147"/>
                  </a:lnTo>
                  <a:lnTo>
                    <a:pt x="1139" y="145"/>
                  </a:lnTo>
                  <a:lnTo>
                    <a:pt x="1141" y="139"/>
                  </a:lnTo>
                  <a:lnTo>
                    <a:pt x="1146" y="129"/>
                  </a:lnTo>
                  <a:lnTo>
                    <a:pt x="1149" y="118"/>
                  </a:lnTo>
                  <a:lnTo>
                    <a:pt x="1152" y="113"/>
                  </a:lnTo>
                  <a:lnTo>
                    <a:pt x="1152" y="110"/>
                  </a:lnTo>
                  <a:lnTo>
                    <a:pt x="1152" y="107"/>
                  </a:lnTo>
                  <a:lnTo>
                    <a:pt x="1149" y="104"/>
                  </a:lnTo>
                  <a:lnTo>
                    <a:pt x="1141" y="102"/>
                  </a:lnTo>
                  <a:lnTo>
                    <a:pt x="1136" y="99"/>
                  </a:lnTo>
                  <a:lnTo>
                    <a:pt x="1131" y="96"/>
                  </a:lnTo>
                  <a:lnTo>
                    <a:pt x="1120" y="104"/>
                  </a:lnTo>
                  <a:lnTo>
                    <a:pt x="1110" y="113"/>
                  </a:lnTo>
                  <a:lnTo>
                    <a:pt x="1104" y="115"/>
                  </a:lnTo>
                  <a:lnTo>
                    <a:pt x="1094" y="118"/>
                  </a:lnTo>
                  <a:lnTo>
                    <a:pt x="1083" y="121"/>
                  </a:lnTo>
                  <a:lnTo>
                    <a:pt x="1076" y="123"/>
                  </a:lnTo>
                  <a:lnTo>
                    <a:pt x="1047" y="118"/>
                  </a:lnTo>
                  <a:lnTo>
                    <a:pt x="1023" y="113"/>
                  </a:lnTo>
                  <a:lnTo>
                    <a:pt x="1023" y="104"/>
                  </a:lnTo>
                  <a:lnTo>
                    <a:pt x="1026" y="94"/>
                  </a:lnTo>
                  <a:lnTo>
                    <a:pt x="1026" y="80"/>
                  </a:lnTo>
                  <a:lnTo>
                    <a:pt x="1023" y="72"/>
                  </a:lnTo>
                  <a:lnTo>
                    <a:pt x="1013" y="67"/>
                  </a:lnTo>
                  <a:lnTo>
                    <a:pt x="1002" y="64"/>
                  </a:lnTo>
                  <a:lnTo>
                    <a:pt x="997" y="61"/>
                  </a:lnTo>
                  <a:lnTo>
                    <a:pt x="992" y="61"/>
                  </a:lnTo>
                  <a:lnTo>
                    <a:pt x="989" y="61"/>
                  </a:lnTo>
                  <a:lnTo>
                    <a:pt x="984" y="56"/>
                  </a:lnTo>
                  <a:lnTo>
                    <a:pt x="979" y="53"/>
                  </a:lnTo>
                  <a:lnTo>
                    <a:pt x="971" y="48"/>
                  </a:lnTo>
                  <a:lnTo>
                    <a:pt x="971" y="48"/>
                  </a:lnTo>
                  <a:lnTo>
                    <a:pt x="973" y="51"/>
                  </a:lnTo>
                  <a:lnTo>
                    <a:pt x="979" y="53"/>
                  </a:lnTo>
                  <a:lnTo>
                    <a:pt x="981" y="53"/>
                  </a:lnTo>
                  <a:lnTo>
                    <a:pt x="997" y="45"/>
                  </a:lnTo>
                  <a:lnTo>
                    <a:pt x="1013" y="32"/>
                  </a:lnTo>
                  <a:lnTo>
                    <a:pt x="1010" y="26"/>
                  </a:lnTo>
                  <a:lnTo>
                    <a:pt x="1007" y="21"/>
                  </a:lnTo>
                  <a:lnTo>
                    <a:pt x="1005" y="13"/>
                  </a:lnTo>
                  <a:lnTo>
                    <a:pt x="1002" y="8"/>
                  </a:lnTo>
                  <a:lnTo>
                    <a:pt x="989" y="2"/>
                  </a:lnTo>
                  <a:lnTo>
                    <a:pt x="984" y="0"/>
                  </a:lnTo>
                  <a:lnTo>
                    <a:pt x="981" y="0"/>
                  </a:lnTo>
                  <a:lnTo>
                    <a:pt x="968" y="2"/>
                  </a:lnTo>
                  <a:lnTo>
                    <a:pt x="963" y="5"/>
                  </a:lnTo>
                  <a:lnTo>
                    <a:pt x="960" y="8"/>
                  </a:lnTo>
                  <a:lnTo>
                    <a:pt x="958" y="13"/>
                  </a:lnTo>
                  <a:lnTo>
                    <a:pt x="952" y="18"/>
                  </a:lnTo>
                  <a:lnTo>
                    <a:pt x="947" y="21"/>
                  </a:lnTo>
                  <a:lnTo>
                    <a:pt x="942" y="21"/>
                  </a:lnTo>
                  <a:lnTo>
                    <a:pt x="931" y="29"/>
                  </a:lnTo>
                  <a:lnTo>
                    <a:pt x="921" y="37"/>
                  </a:lnTo>
                  <a:lnTo>
                    <a:pt x="916" y="40"/>
                  </a:lnTo>
                  <a:lnTo>
                    <a:pt x="913" y="43"/>
                  </a:lnTo>
                  <a:lnTo>
                    <a:pt x="910" y="43"/>
                  </a:lnTo>
                  <a:lnTo>
                    <a:pt x="903" y="56"/>
                  </a:lnTo>
                  <a:lnTo>
                    <a:pt x="897" y="67"/>
                  </a:lnTo>
                  <a:lnTo>
                    <a:pt x="892" y="78"/>
                  </a:lnTo>
                  <a:lnTo>
                    <a:pt x="889" y="91"/>
                  </a:lnTo>
                  <a:lnTo>
                    <a:pt x="887" y="104"/>
                  </a:lnTo>
                  <a:lnTo>
                    <a:pt x="887" y="118"/>
                  </a:lnTo>
                  <a:lnTo>
                    <a:pt x="884" y="126"/>
                  </a:lnTo>
                  <a:lnTo>
                    <a:pt x="882" y="129"/>
                  </a:lnTo>
                  <a:lnTo>
                    <a:pt x="874" y="134"/>
                  </a:lnTo>
                  <a:lnTo>
                    <a:pt x="866" y="137"/>
                  </a:lnTo>
                  <a:lnTo>
                    <a:pt x="850" y="139"/>
                  </a:lnTo>
                  <a:lnTo>
                    <a:pt x="845" y="142"/>
                  </a:lnTo>
                  <a:lnTo>
                    <a:pt x="842" y="145"/>
                  </a:lnTo>
                  <a:lnTo>
                    <a:pt x="840" y="145"/>
                  </a:lnTo>
                  <a:lnTo>
                    <a:pt x="834" y="150"/>
                  </a:lnTo>
                  <a:lnTo>
                    <a:pt x="829" y="156"/>
                  </a:lnTo>
                  <a:lnTo>
                    <a:pt x="824" y="158"/>
                  </a:lnTo>
                  <a:lnTo>
                    <a:pt x="819" y="161"/>
                  </a:lnTo>
                  <a:lnTo>
                    <a:pt x="819" y="166"/>
                  </a:lnTo>
                  <a:lnTo>
                    <a:pt x="816" y="172"/>
                  </a:lnTo>
                  <a:lnTo>
                    <a:pt x="805" y="188"/>
                  </a:lnTo>
                  <a:lnTo>
                    <a:pt x="795" y="204"/>
                  </a:lnTo>
                  <a:lnTo>
                    <a:pt x="792" y="215"/>
                  </a:lnTo>
                  <a:lnTo>
                    <a:pt x="787" y="225"/>
                  </a:lnTo>
                  <a:lnTo>
                    <a:pt x="787" y="234"/>
                  </a:lnTo>
                  <a:lnTo>
                    <a:pt x="784" y="242"/>
                  </a:lnTo>
                  <a:lnTo>
                    <a:pt x="784" y="247"/>
                  </a:lnTo>
                  <a:lnTo>
                    <a:pt x="782" y="255"/>
                  </a:lnTo>
                  <a:lnTo>
                    <a:pt x="774" y="266"/>
                  </a:lnTo>
                  <a:lnTo>
                    <a:pt x="764" y="271"/>
                  </a:lnTo>
                  <a:lnTo>
                    <a:pt x="743" y="279"/>
                  </a:lnTo>
                  <a:lnTo>
                    <a:pt x="737" y="282"/>
                  </a:lnTo>
                  <a:lnTo>
                    <a:pt x="735" y="285"/>
                  </a:lnTo>
                  <a:lnTo>
                    <a:pt x="732" y="285"/>
                  </a:lnTo>
                  <a:lnTo>
                    <a:pt x="727" y="282"/>
                  </a:lnTo>
                  <a:lnTo>
                    <a:pt x="722" y="279"/>
                  </a:lnTo>
                  <a:lnTo>
                    <a:pt x="716" y="282"/>
                  </a:lnTo>
                  <a:lnTo>
                    <a:pt x="714" y="285"/>
                  </a:lnTo>
                  <a:lnTo>
                    <a:pt x="711" y="28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353920" y="3649680"/>
              <a:ext cx="1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478640" y="3751560"/>
              <a:ext cx="298440" cy="30312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31" y="62"/>
                  </a:moveTo>
                  <a:lnTo>
                    <a:pt x="34" y="57"/>
                  </a:lnTo>
                  <a:lnTo>
                    <a:pt x="34" y="51"/>
                  </a:lnTo>
                  <a:lnTo>
                    <a:pt x="31" y="38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26" y="16"/>
                  </a:lnTo>
                  <a:lnTo>
                    <a:pt x="26" y="11"/>
                  </a:lnTo>
                  <a:lnTo>
                    <a:pt x="23" y="6"/>
                  </a:ln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7" y="14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10" y="30"/>
                  </a:lnTo>
                  <a:lnTo>
                    <a:pt x="13" y="38"/>
                  </a:lnTo>
                  <a:lnTo>
                    <a:pt x="13" y="46"/>
                  </a:lnTo>
                  <a:lnTo>
                    <a:pt x="10" y="54"/>
                  </a:lnTo>
                  <a:lnTo>
                    <a:pt x="15" y="81"/>
                  </a:lnTo>
                  <a:lnTo>
                    <a:pt x="21" y="108"/>
                  </a:lnTo>
                  <a:lnTo>
                    <a:pt x="13" y="137"/>
                  </a:lnTo>
                  <a:lnTo>
                    <a:pt x="0" y="167"/>
                  </a:lnTo>
                  <a:lnTo>
                    <a:pt x="0" y="172"/>
                  </a:lnTo>
                  <a:lnTo>
                    <a:pt x="2" y="180"/>
                  </a:lnTo>
                  <a:lnTo>
                    <a:pt x="5" y="186"/>
                  </a:lnTo>
                  <a:lnTo>
                    <a:pt x="10" y="191"/>
                  </a:lnTo>
                  <a:lnTo>
                    <a:pt x="13" y="191"/>
                  </a:lnTo>
                  <a:lnTo>
                    <a:pt x="15" y="191"/>
                  </a:lnTo>
                  <a:lnTo>
                    <a:pt x="21" y="188"/>
                  </a:lnTo>
                  <a:lnTo>
                    <a:pt x="23" y="183"/>
                  </a:lnTo>
                  <a:lnTo>
                    <a:pt x="26" y="180"/>
                  </a:lnTo>
                  <a:lnTo>
                    <a:pt x="28" y="175"/>
                  </a:lnTo>
                  <a:lnTo>
                    <a:pt x="36" y="172"/>
                  </a:lnTo>
                  <a:lnTo>
                    <a:pt x="42" y="167"/>
                  </a:lnTo>
                  <a:lnTo>
                    <a:pt x="49" y="162"/>
                  </a:lnTo>
                  <a:lnTo>
                    <a:pt x="55" y="159"/>
                  </a:lnTo>
                  <a:lnTo>
                    <a:pt x="60" y="156"/>
                  </a:lnTo>
                  <a:lnTo>
                    <a:pt x="65" y="153"/>
                  </a:lnTo>
                  <a:lnTo>
                    <a:pt x="73" y="151"/>
                  </a:lnTo>
                  <a:lnTo>
                    <a:pt x="78" y="148"/>
                  </a:lnTo>
                  <a:lnTo>
                    <a:pt x="81" y="148"/>
                  </a:lnTo>
                  <a:lnTo>
                    <a:pt x="94" y="151"/>
                  </a:lnTo>
                  <a:lnTo>
                    <a:pt x="105" y="151"/>
                  </a:lnTo>
                  <a:lnTo>
                    <a:pt x="110" y="153"/>
                  </a:lnTo>
                  <a:lnTo>
                    <a:pt x="115" y="156"/>
                  </a:lnTo>
                  <a:lnTo>
                    <a:pt x="120" y="151"/>
                  </a:lnTo>
                  <a:lnTo>
                    <a:pt x="123" y="145"/>
                  </a:lnTo>
                  <a:lnTo>
                    <a:pt x="123" y="140"/>
                  </a:lnTo>
                  <a:lnTo>
                    <a:pt x="126" y="135"/>
                  </a:lnTo>
                  <a:lnTo>
                    <a:pt x="131" y="132"/>
                  </a:lnTo>
                  <a:lnTo>
                    <a:pt x="136" y="129"/>
                  </a:lnTo>
                  <a:lnTo>
                    <a:pt x="144" y="143"/>
                  </a:lnTo>
                  <a:lnTo>
                    <a:pt x="149" y="151"/>
                  </a:lnTo>
                  <a:lnTo>
                    <a:pt x="157" y="156"/>
                  </a:lnTo>
                  <a:lnTo>
                    <a:pt x="170" y="162"/>
                  </a:lnTo>
                  <a:lnTo>
                    <a:pt x="175" y="162"/>
                  </a:lnTo>
                  <a:lnTo>
                    <a:pt x="181" y="159"/>
                  </a:lnTo>
                  <a:lnTo>
                    <a:pt x="186" y="153"/>
                  </a:lnTo>
                  <a:lnTo>
                    <a:pt x="188" y="151"/>
                  </a:lnTo>
                  <a:lnTo>
                    <a:pt x="186" y="143"/>
                  </a:lnTo>
                  <a:lnTo>
                    <a:pt x="178" y="135"/>
                  </a:lnTo>
                  <a:lnTo>
                    <a:pt x="170" y="129"/>
                  </a:lnTo>
                  <a:lnTo>
                    <a:pt x="165" y="121"/>
                  </a:lnTo>
                  <a:lnTo>
                    <a:pt x="162" y="116"/>
                  </a:lnTo>
                  <a:lnTo>
                    <a:pt x="160" y="110"/>
                  </a:lnTo>
                  <a:lnTo>
                    <a:pt x="157" y="105"/>
                  </a:lnTo>
                  <a:lnTo>
                    <a:pt x="157" y="100"/>
                  </a:lnTo>
                  <a:lnTo>
                    <a:pt x="154" y="92"/>
                  </a:lnTo>
                  <a:lnTo>
                    <a:pt x="149" y="94"/>
                  </a:lnTo>
                  <a:lnTo>
                    <a:pt x="146" y="94"/>
                  </a:lnTo>
                  <a:lnTo>
                    <a:pt x="144" y="94"/>
                  </a:lnTo>
                  <a:lnTo>
                    <a:pt x="141" y="92"/>
                  </a:lnTo>
                  <a:lnTo>
                    <a:pt x="141" y="89"/>
                  </a:lnTo>
                  <a:lnTo>
                    <a:pt x="139" y="81"/>
                  </a:lnTo>
                  <a:lnTo>
                    <a:pt x="136" y="75"/>
                  </a:lnTo>
                  <a:lnTo>
                    <a:pt x="133" y="70"/>
                  </a:lnTo>
                  <a:lnTo>
                    <a:pt x="131" y="65"/>
                  </a:lnTo>
                  <a:lnTo>
                    <a:pt x="128" y="59"/>
                  </a:lnTo>
                  <a:lnTo>
                    <a:pt x="123" y="54"/>
                  </a:lnTo>
                  <a:lnTo>
                    <a:pt x="118" y="51"/>
                  </a:lnTo>
                  <a:lnTo>
                    <a:pt x="107" y="49"/>
                  </a:lnTo>
                  <a:lnTo>
                    <a:pt x="102" y="51"/>
                  </a:lnTo>
                  <a:lnTo>
                    <a:pt x="97" y="54"/>
                  </a:lnTo>
                  <a:lnTo>
                    <a:pt x="94" y="59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78" y="70"/>
                  </a:lnTo>
                  <a:lnTo>
                    <a:pt x="70" y="73"/>
                  </a:lnTo>
                  <a:lnTo>
                    <a:pt x="65" y="73"/>
                  </a:lnTo>
                  <a:lnTo>
                    <a:pt x="60" y="73"/>
                  </a:lnTo>
                  <a:lnTo>
                    <a:pt x="55" y="70"/>
                  </a:lnTo>
                  <a:lnTo>
                    <a:pt x="52" y="65"/>
                  </a:lnTo>
                  <a:lnTo>
                    <a:pt x="52" y="62"/>
                  </a:lnTo>
                  <a:lnTo>
                    <a:pt x="49" y="59"/>
                  </a:lnTo>
                  <a:lnTo>
                    <a:pt x="42" y="57"/>
                  </a:lnTo>
                  <a:lnTo>
                    <a:pt x="31" y="54"/>
                  </a:lnTo>
                  <a:lnTo>
                    <a:pt x="28" y="46"/>
                  </a:lnTo>
                  <a:lnTo>
                    <a:pt x="28" y="43"/>
                  </a:lnTo>
                  <a:lnTo>
                    <a:pt x="26" y="43"/>
                  </a:lnTo>
                  <a:lnTo>
                    <a:pt x="21" y="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178680" y="6220080"/>
              <a:ext cx="379440" cy="93600"/>
            </a:xfrm>
            <a:custGeom>
              <a:avLst/>
              <a:gdLst/>
              <a:ahLst/>
              <a:rect l="l" t="t" r="r" b="b"/>
              <a:pathLst>
                <a:path w="239" h="59">
                  <a:moveTo>
                    <a:pt x="158" y="59"/>
                  </a:moveTo>
                  <a:lnTo>
                    <a:pt x="160" y="48"/>
                  </a:lnTo>
                  <a:lnTo>
                    <a:pt x="166" y="46"/>
                  </a:lnTo>
                  <a:lnTo>
                    <a:pt x="171" y="43"/>
                  </a:lnTo>
                  <a:lnTo>
                    <a:pt x="174" y="43"/>
                  </a:lnTo>
                  <a:lnTo>
                    <a:pt x="176" y="43"/>
                  </a:lnTo>
                  <a:lnTo>
                    <a:pt x="181" y="46"/>
                  </a:lnTo>
                  <a:lnTo>
                    <a:pt x="184" y="51"/>
                  </a:lnTo>
                  <a:lnTo>
                    <a:pt x="187" y="56"/>
                  </a:lnTo>
                  <a:lnTo>
                    <a:pt x="197" y="59"/>
                  </a:lnTo>
                  <a:lnTo>
                    <a:pt x="213" y="56"/>
                  </a:lnTo>
                  <a:lnTo>
                    <a:pt x="226" y="51"/>
                  </a:lnTo>
                  <a:lnTo>
                    <a:pt x="239" y="43"/>
                  </a:lnTo>
                  <a:lnTo>
                    <a:pt x="236" y="38"/>
                  </a:lnTo>
                  <a:lnTo>
                    <a:pt x="236" y="32"/>
                  </a:lnTo>
                  <a:lnTo>
                    <a:pt x="234" y="32"/>
                  </a:lnTo>
                  <a:lnTo>
                    <a:pt x="231" y="35"/>
                  </a:lnTo>
                  <a:lnTo>
                    <a:pt x="223" y="35"/>
                  </a:lnTo>
                  <a:lnTo>
                    <a:pt x="218" y="35"/>
                  </a:lnTo>
                  <a:lnTo>
                    <a:pt x="210" y="32"/>
                  </a:lnTo>
                  <a:lnTo>
                    <a:pt x="205" y="29"/>
                  </a:lnTo>
                  <a:lnTo>
                    <a:pt x="202" y="27"/>
                  </a:lnTo>
                  <a:lnTo>
                    <a:pt x="205" y="21"/>
                  </a:lnTo>
                  <a:lnTo>
                    <a:pt x="208" y="16"/>
                  </a:lnTo>
                  <a:lnTo>
                    <a:pt x="205" y="13"/>
                  </a:lnTo>
                  <a:lnTo>
                    <a:pt x="197" y="13"/>
                  </a:lnTo>
                  <a:lnTo>
                    <a:pt x="192" y="16"/>
                  </a:lnTo>
                  <a:lnTo>
                    <a:pt x="184" y="19"/>
                  </a:lnTo>
                  <a:lnTo>
                    <a:pt x="179" y="21"/>
                  </a:lnTo>
                  <a:lnTo>
                    <a:pt x="176" y="21"/>
                  </a:lnTo>
                  <a:lnTo>
                    <a:pt x="132" y="11"/>
                  </a:lnTo>
                  <a:lnTo>
                    <a:pt x="87" y="3"/>
                  </a:lnTo>
                  <a:lnTo>
                    <a:pt x="58" y="0"/>
                  </a:lnTo>
                  <a:lnTo>
                    <a:pt x="45" y="3"/>
                  </a:lnTo>
                  <a:lnTo>
                    <a:pt x="32" y="5"/>
                  </a:lnTo>
                  <a:lnTo>
                    <a:pt x="29" y="11"/>
                  </a:lnTo>
                  <a:lnTo>
                    <a:pt x="32" y="19"/>
                  </a:lnTo>
                  <a:lnTo>
                    <a:pt x="37" y="24"/>
                  </a:lnTo>
                  <a:lnTo>
                    <a:pt x="40" y="27"/>
                  </a:lnTo>
                  <a:lnTo>
                    <a:pt x="35" y="29"/>
                  </a:lnTo>
                  <a:lnTo>
                    <a:pt x="29" y="32"/>
                  </a:lnTo>
                  <a:lnTo>
                    <a:pt x="24" y="35"/>
                  </a:lnTo>
                  <a:lnTo>
                    <a:pt x="16" y="40"/>
                  </a:lnTo>
                  <a:lnTo>
                    <a:pt x="11" y="43"/>
                  </a:lnTo>
                  <a:lnTo>
                    <a:pt x="8" y="46"/>
                  </a:lnTo>
                  <a:lnTo>
                    <a:pt x="3" y="51"/>
                  </a:lnTo>
                  <a:lnTo>
                    <a:pt x="0" y="56"/>
                  </a:lnTo>
                  <a:lnTo>
                    <a:pt x="6" y="59"/>
                  </a:lnTo>
                  <a:lnTo>
                    <a:pt x="11" y="59"/>
                  </a:lnTo>
                  <a:lnTo>
                    <a:pt x="19" y="56"/>
                  </a:lnTo>
                  <a:lnTo>
                    <a:pt x="21" y="56"/>
                  </a:lnTo>
                  <a:lnTo>
                    <a:pt x="45" y="54"/>
                  </a:lnTo>
                  <a:lnTo>
                    <a:pt x="71" y="54"/>
                  </a:lnTo>
                  <a:lnTo>
                    <a:pt x="92" y="54"/>
                  </a:lnTo>
                  <a:lnTo>
                    <a:pt x="108" y="54"/>
                  </a:lnTo>
                  <a:lnTo>
                    <a:pt x="116" y="56"/>
                  </a:lnTo>
                  <a:lnTo>
                    <a:pt x="124" y="56"/>
                  </a:lnTo>
                  <a:lnTo>
                    <a:pt x="129" y="56"/>
                  </a:lnTo>
                  <a:lnTo>
                    <a:pt x="134" y="56"/>
                  </a:lnTo>
                  <a:lnTo>
                    <a:pt x="145" y="56"/>
                  </a:lnTo>
                  <a:lnTo>
                    <a:pt x="158" y="5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58080" y="3645000"/>
              <a:ext cx="541440" cy="631800"/>
            </a:xfrm>
            <a:custGeom>
              <a:avLst/>
              <a:gdLst/>
              <a:ahLst/>
              <a:rect l="l" t="t" r="r" b="b"/>
              <a:pathLst>
                <a:path w="341" h="398">
                  <a:moveTo>
                    <a:pt x="254" y="8"/>
                  </a:moveTo>
                  <a:lnTo>
                    <a:pt x="267" y="3"/>
                  </a:lnTo>
                  <a:lnTo>
                    <a:pt x="275" y="0"/>
                  </a:lnTo>
                  <a:lnTo>
                    <a:pt x="283" y="0"/>
                  </a:lnTo>
                  <a:lnTo>
                    <a:pt x="288" y="0"/>
                  </a:lnTo>
                  <a:lnTo>
                    <a:pt x="296" y="0"/>
                  </a:lnTo>
                  <a:lnTo>
                    <a:pt x="312" y="3"/>
                  </a:lnTo>
                  <a:lnTo>
                    <a:pt x="330" y="3"/>
                  </a:lnTo>
                  <a:lnTo>
                    <a:pt x="335" y="13"/>
                  </a:lnTo>
                  <a:lnTo>
                    <a:pt x="338" y="24"/>
                  </a:lnTo>
                  <a:lnTo>
                    <a:pt x="341" y="32"/>
                  </a:lnTo>
                  <a:lnTo>
                    <a:pt x="341" y="35"/>
                  </a:lnTo>
                  <a:lnTo>
                    <a:pt x="338" y="48"/>
                  </a:lnTo>
                  <a:lnTo>
                    <a:pt x="338" y="54"/>
                  </a:lnTo>
                  <a:lnTo>
                    <a:pt x="335" y="56"/>
                  </a:lnTo>
                  <a:lnTo>
                    <a:pt x="325" y="64"/>
                  </a:lnTo>
                  <a:lnTo>
                    <a:pt x="317" y="70"/>
                  </a:lnTo>
                  <a:lnTo>
                    <a:pt x="312" y="75"/>
                  </a:lnTo>
                  <a:lnTo>
                    <a:pt x="304" y="83"/>
                  </a:lnTo>
                  <a:lnTo>
                    <a:pt x="299" y="91"/>
                  </a:lnTo>
                  <a:lnTo>
                    <a:pt x="294" y="102"/>
                  </a:lnTo>
                  <a:lnTo>
                    <a:pt x="286" y="126"/>
                  </a:lnTo>
                  <a:lnTo>
                    <a:pt x="280" y="137"/>
                  </a:lnTo>
                  <a:lnTo>
                    <a:pt x="275" y="148"/>
                  </a:lnTo>
                  <a:lnTo>
                    <a:pt x="270" y="151"/>
                  </a:lnTo>
                  <a:lnTo>
                    <a:pt x="262" y="153"/>
                  </a:lnTo>
                  <a:lnTo>
                    <a:pt x="252" y="156"/>
                  </a:lnTo>
                  <a:lnTo>
                    <a:pt x="244" y="159"/>
                  </a:lnTo>
                  <a:lnTo>
                    <a:pt x="228" y="164"/>
                  </a:lnTo>
                  <a:lnTo>
                    <a:pt x="212" y="169"/>
                  </a:lnTo>
                  <a:lnTo>
                    <a:pt x="207" y="172"/>
                  </a:lnTo>
                  <a:lnTo>
                    <a:pt x="202" y="175"/>
                  </a:lnTo>
                  <a:lnTo>
                    <a:pt x="191" y="180"/>
                  </a:lnTo>
                  <a:lnTo>
                    <a:pt x="181" y="183"/>
                  </a:lnTo>
                  <a:lnTo>
                    <a:pt x="176" y="188"/>
                  </a:lnTo>
                  <a:lnTo>
                    <a:pt x="170" y="191"/>
                  </a:lnTo>
                  <a:lnTo>
                    <a:pt x="160" y="194"/>
                  </a:lnTo>
                  <a:lnTo>
                    <a:pt x="149" y="196"/>
                  </a:lnTo>
                  <a:lnTo>
                    <a:pt x="144" y="202"/>
                  </a:lnTo>
                  <a:lnTo>
                    <a:pt x="139" y="204"/>
                  </a:lnTo>
                  <a:lnTo>
                    <a:pt x="126" y="210"/>
                  </a:lnTo>
                  <a:lnTo>
                    <a:pt x="120" y="212"/>
                  </a:lnTo>
                  <a:lnTo>
                    <a:pt x="118" y="212"/>
                  </a:lnTo>
                  <a:lnTo>
                    <a:pt x="113" y="220"/>
                  </a:lnTo>
                  <a:lnTo>
                    <a:pt x="110" y="223"/>
                  </a:lnTo>
                  <a:lnTo>
                    <a:pt x="113" y="220"/>
                  </a:lnTo>
                  <a:lnTo>
                    <a:pt x="115" y="223"/>
                  </a:lnTo>
                  <a:lnTo>
                    <a:pt x="115" y="229"/>
                  </a:lnTo>
                  <a:lnTo>
                    <a:pt x="113" y="239"/>
                  </a:lnTo>
                  <a:lnTo>
                    <a:pt x="107" y="258"/>
                  </a:lnTo>
                  <a:lnTo>
                    <a:pt x="102" y="264"/>
                  </a:lnTo>
                  <a:lnTo>
                    <a:pt x="97" y="269"/>
                  </a:lnTo>
                  <a:lnTo>
                    <a:pt x="89" y="274"/>
                  </a:lnTo>
                  <a:lnTo>
                    <a:pt x="84" y="277"/>
                  </a:lnTo>
                  <a:lnTo>
                    <a:pt x="58" y="315"/>
                  </a:lnTo>
                  <a:lnTo>
                    <a:pt x="34" y="352"/>
                  </a:lnTo>
                  <a:lnTo>
                    <a:pt x="29" y="358"/>
                  </a:lnTo>
                  <a:lnTo>
                    <a:pt x="23" y="363"/>
                  </a:lnTo>
                  <a:lnTo>
                    <a:pt x="13" y="382"/>
                  </a:lnTo>
                  <a:lnTo>
                    <a:pt x="0" y="398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108840" y="4448160"/>
              <a:ext cx="874440" cy="925560"/>
            </a:xfrm>
            <a:custGeom>
              <a:avLst/>
              <a:gdLst/>
              <a:ahLst/>
              <a:rect l="l" t="t" r="r" b="b"/>
              <a:pathLst>
                <a:path w="551" h="583">
                  <a:moveTo>
                    <a:pt x="58" y="583"/>
                  </a:moveTo>
                  <a:lnTo>
                    <a:pt x="52" y="573"/>
                  </a:lnTo>
                  <a:lnTo>
                    <a:pt x="50" y="570"/>
                  </a:lnTo>
                  <a:lnTo>
                    <a:pt x="50" y="573"/>
                  </a:lnTo>
                  <a:lnTo>
                    <a:pt x="52" y="575"/>
                  </a:lnTo>
                  <a:lnTo>
                    <a:pt x="55" y="578"/>
                  </a:lnTo>
                  <a:lnTo>
                    <a:pt x="55" y="578"/>
                  </a:lnTo>
                  <a:lnTo>
                    <a:pt x="50" y="573"/>
                  </a:lnTo>
                  <a:lnTo>
                    <a:pt x="42" y="562"/>
                  </a:lnTo>
                  <a:lnTo>
                    <a:pt x="29" y="540"/>
                  </a:lnTo>
                  <a:lnTo>
                    <a:pt x="13" y="519"/>
                  </a:lnTo>
                  <a:lnTo>
                    <a:pt x="10" y="513"/>
                  </a:lnTo>
                  <a:lnTo>
                    <a:pt x="10" y="508"/>
                  </a:lnTo>
                  <a:lnTo>
                    <a:pt x="5" y="500"/>
                  </a:lnTo>
                  <a:lnTo>
                    <a:pt x="2" y="497"/>
                  </a:lnTo>
                  <a:lnTo>
                    <a:pt x="2" y="497"/>
                  </a:lnTo>
                  <a:lnTo>
                    <a:pt x="2" y="497"/>
                  </a:lnTo>
                  <a:lnTo>
                    <a:pt x="2" y="497"/>
                  </a:lnTo>
                  <a:lnTo>
                    <a:pt x="2" y="497"/>
                  </a:lnTo>
                  <a:lnTo>
                    <a:pt x="2" y="495"/>
                  </a:lnTo>
                  <a:lnTo>
                    <a:pt x="0" y="486"/>
                  </a:lnTo>
                  <a:lnTo>
                    <a:pt x="0" y="460"/>
                  </a:lnTo>
                  <a:lnTo>
                    <a:pt x="2" y="433"/>
                  </a:lnTo>
                  <a:lnTo>
                    <a:pt x="5" y="422"/>
                  </a:lnTo>
                  <a:lnTo>
                    <a:pt x="10" y="411"/>
                  </a:lnTo>
                  <a:lnTo>
                    <a:pt x="26" y="365"/>
                  </a:lnTo>
                  <a:lnTo>
                    <a:pt x="42" y="320"/>
                  </a:lnTo>
                  <a:lnTo>
                    <a:pt x="44" y="314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8" y="274"/>
                  </a:lnTo>
                  <a:lnTo>
                    <a:pt x="60" y="269"/>
                  </a:lnTo>
                  <a:lnTo>
                    <a:pt x="65" y="266"/>
                  </a:lnTo>
                  <a:lnTo>
                    <a:pt x="76" y="263"/>
                  </a:lnTo>
                  <a:lnTo>
                    <a:pt x="86" y="263"/>
                  </a:lnTo>
                  <a:lnTo>
                    <a:pt x="105" y="261"/>
                  </a:lnTo>
                  <a:lnTo>
                    <a:pt x="113" y="255"/>
                  </a:lnTo>
                  <a:lnTo>
                    <a:pt x="115" y="255"/>
                  </a:lnTo>
                  <a:lnTo>
                    <a:pt x="115" y="255"/>
                  </a:lnTo>
                  <a:lnTo>
                    <a:pt x="115" y="255"/>
                  </a:lnTo>
                  <a:lnTo>
                    <a:pt x="115" y="258"/>
                  </a:lnTo>
                  <a:lnTo>
                    <a:pt x="118" y="258"/>
                  </a:lnTo>
                  <a:lnTo>
                    <a:pt x="128" y="255"/>
                  </a:lnTo>
                  <a:lnTo>
                    <a:pt x="147" y="250"/>
                  </a:lnTo>
                  <a:lnTo>
                    <a:pt x="152" y="247"/>
                  </a:lnTo>
                  <a:lnTo>
                    <a:pt x="157" y="239"/>
                  </a:lnTo>
                  <a:lnTo>
                    <a:pt x="162" y="226"/>
                  </a:lnTo>
                  <a:lnTo>
                    <a:pt x="168" y="220"/>
                  </a:lnTo>
                  <a:lnTo>
                    <a:pt x="178" y="215"/>
                  </a:lnTo>
                  <a:lnTo>
                    <a:pt x="191" y="212"/>
                  </a:lnTo>
                  <a:lnTo>
                    <a:pt x="197" y="209"/>
                  </a:lnTo>
                  <a:lnTo>
                    <a:pt x="202" y="204"/>
                  </a:lnTo>
                  <a:lnTo>
                    <a:pt x="207" y="201"/>
                  </a:lnTo>
                  <a:lnTo>
                    <a:pt x="212" y="201"/>
                  </a:lnTo>
                  <a:lnTo>
                    <a:pt x="246" y="212"/>
                  </a:lnTo>
                  <a:lnTo>
                    <a:pt x="278" y="217"/>
                  </a:lnTo>
                  <a:lnTo>
                    <a:pt x="288" y="217"/>
                  </a:lnTo>
                  <a:lnTo>
                    <a:pt x="299" y="215"/>
                  </a:lnTo>
                  <a:lnTo>
                    <a:pt x="307" y="212"/>
                  </a:lnTo>
                  <a:lnTo>
                    <a:pt x="309" y="207"/>
                  </a:lnTo>
                  <a:lnTo>
                    <a:pt x="312" y="204"/>
                  </a:lnTo>
                  <a:lnTo>
                    <a:pt x="317" y="196"/>
                  </a:lnTo>
                  <a:lnTo>
                    <a:pt x="322" y="193"/>
                  </a:lnTo>
                  <a:lnTo>
                    <a:pt x="328" y="191"/>
                  </a:lnTo>
                  <a:lnTo>
                    <a:pt x="336" y="180"/>
                  </a:lnTo>
                  <a:lnTo>
                    <a:pt x="346" y="172"/>
                  </a:lnTo>
                  <a:lnTo>
                    <a:pt x="357" y="161"/>
                  </a:lnTo>
                  <a:lnTo>
                    <a:pt x="367" y="150"/>
                  </a:lnTo>
                  <a:lnTo>
                    <a:pt x="370" y="145"/>
                  </a:lnTo>
                  <a:lnTo>
                    <a:pt x="375" y="137"/>
                  </a:lnTo>
                  <a:lnTo>
                    <a:pt x="377" y="131"/>
                  </a:lnTo>
                  <a:lnTo>
                    <a:pt x="380" y="129"/>
                  </a:lnTo>
                  <a:lnTo>
                    <a:pt x="377" y="115"/>
                  </a:lnTo>
                  <a:lnTo>
                    <a:pt x="380" y="107"/>
                  </a:lnTo>
                  <a:lnTo>
                    <a:pt x="383" y="96"/>
                  </a:lnTo>
                  <a:lnTo>
                    <a:pt x="391" y="86"/>
                  </a:lnTo>
                  <a:lnTo>
                    <a:pt x="391" y="59"/>
                  </a:lnTo>
                  <a:lnTo>
                    <a:pt x="388" y="29"/>
                  </a:lnTo>
                  <a:lnTo>
                    <a:pt x="385" y="18"/>
                  </a:lnTo>
                  <a:lnTo>
                    <a:pt x="383" y="10"/>
                  </a:lnTo>
                  <a:lnTo>
                    <a:pt x="380" y="5"/>
                  </a:lnTo>
                  <a:lnTo>
                    <a:pt x="380" y="2"/>
                  </a:lnTo>
                  <a:lnTo>
                    <a:pt x="380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91" y="2"/>
                  </a:lnTo>
                  <a:lnTo>
                    <a:pt x="396" y="8"/>
                  </a:lnTo>
                  <a:lnTo>
                    <a:pt x="398" y="13"/>
                  </a:lnTo>
                  <a:lnTo>
                    <a:pt x="401" y="26"/>
                  </a:lnTo>
                  <a:lnTo>
                    <a:pt x="404" y="32"/>
                  </a:lnTo>
                  <a:lnTo>
                    <a:pt x="409" y="35"/>
                  </a:lnTo>
                  <a:lnTo>
                    <a:pt x="414" y="37"/>
                  </a:lnTo>
                  <a:lnTo>
                    <a:pt x="419" y="40"/>
                  </a:lnTo>
                  <a:lnTo>
                    <a:pt x="430" y="35"/>
                  </a:lnTo>
                  <a:lnTo>
                    <a:pt x="438" y="32"/>
                  </a:lnTo>
                  <a:lnTo>
                    <a:pt x="446" y="32"/>
                  </a:lnTo>
                  <a:lnTo>
                    <a:pt x="451" y="32"/>
                  </a:lnTo>
                  <a:lnTo>
                    <a:pt x="459" y="32"/>
                  </a:lnTo>
                  <a:lnTo>
                    <a:pt x="469" y="35"/>
                  </a:lnTo>
                  <a:lnTo>
                    <a:pt x="488" y="35"/>
                  </a:lnTo>
                  <a:lnTo>
                    <a:pt x="519" y="37"/>
                  </a:lnTo>
                  <a:lnTo>
                    <a:pt x="548" y="40"/>
                  </a:lnTo>
                  <a:lnTo>
                    <a:pt x="543" y="48"/>
                  </a:lnTo>
                  <a:lnTo>
                    <a:pt x="540" y="53"/>
                  </a:lnTo>
                  <a:lnTo>
                    <a:pt x="540" y="59"/>
                  </a:lnTo>
                  <a:lnTo>
                    <a:pt x="537" y="64"/>
                  </a:lnTo>
                  <a:lnTo>
                    <a:pt x="535" y="72"/>
                  </a:lnTo>
                  <a:lnTo>
                    <a:pt x="532" y="78"/>
                  </a:lnTo>
                  <a:lnTo>
                    <a:pt x="530" y="83"/>
                  </a:lnTo>
                  <a:lnTo>
                    <a:pt x="530" y="83"/>
                  </a:lnTo>
                  <a:lnTo>
                    <a:pt x="537" y="129"/>
                  </a:lnTo>
                  <a:lnTo>
                    <a:pt x="543" y="153"/>
                  </a:lnTo>
                  <a:lnTo>
                    <a:pt x="551" y="174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00800" y="4956120"/>
              <a:ext cx="707760" cy="465480"/>
            </a:xfrm>
            <a:custGeom>
              <a:avLst/>
              <a:gdLst/>
              <a:ahLst/>
              <a:rect l="l" t="t" r="r" b="b"/>
              <a:pathLst>
                <a:path w="446" h="293">
                  <a:moveTo>
                    <a:pt x="446" y="293"/>
                  </a:moveTo>
                  <a:lnTo>
                    <a:pt x="438" y="282"/>
                  </a:lnTo>
                  <a:lnTo>
                    <a:pt x="430" y="271"/>
                  </a:lnTo>
                  <a:lnTo>
                    <a:pt x="427" y="261"/>
                  </a:lnTo>
                  <a:lnTo>
                    <a:pt x="425" y="255"/>
                  </a:lnTo>
                  <a:lnTo>
                    <a:pt x="420" y="250"/>
                  </a:lnTo>
                  <a:lnTo>
                    <a:pt x="414" y="247"/>
                  </a:lnTo>
                  <a:lnTo>
                    <a:pt x="409" y="242"/>
                  </a:lnTo>
                  <a:lnTo>
                    <a:pt x="404" y="234"/>
                  </a:lnTo>
                  <a:lnTo>
                    <a:pt x="401" y="231"/>
                  </a:lnTo>
                  <a:lnTo>
                    <a:pt x="396" y="226"/>
                  </a:lnTo>
                  <a:lnTo>
                    <a:pt x="391" y="223"/>
                  </a:lnTo>
                  <a:lnTo>
                    <a:pt x="383" y="218"/>
                  </a:lnTo>
                  <a:lnTo>
                    <a:pt x="378" y="215"/>
                  </a:lnTo>
                  <a:lnTo>
                    <a:pt x="372" y="209"/>
                  </a:lnTo>
                  <a:lnTo>
                    <a:pt x="365" y="207"/>
                  </a:lnTo>
                  <a:lnTo>
                    <a:pt x="362" y="204"/>
                  </a:lnTo>
                  <a:lnTo>
                    <a:pt x="357" y="199"/>
                  </a:lnTo>
                  <a:lnTo>
                    <a:pt x="354" y="196"/>
                  </a:lnTo>
                  <a:lnTo>
                    <a:pt x="351" y="191"/>
                  </a:lnTo>
                  <a:lnTo>
                    <a:pt x="346" y="188"/>
                  </a:lnTo>
                  <a:lnTo>
                    <a:pt x="341" y="183"/>
                  </a:lnTo>
                  <a:lnTo>
                    <a:pt x="333" y="177"/>
                  </a:lnTo>
                  <a:lnTo>
                    <a:pt x="328" y="172"/>
                  </a:lnTo>
                  <a:lnTo>
                    <a:pt x="323" y="166"/>
                  </a:lnTo>
                  <a:lnTo>
                    <a:pt x="320" y="164"/>
                  </a:lnTo>
                  <a:lnTo>
                    <a:pt x="315" y="156"/>
                  </a:lnTo>
                  <a:lnTo>
                    <a:pt x="307" y="148"/>
                  </a:lnTo>
                  <a:lnTo>
                    <a:pt x="304" y="145"/>
                  </a:lnTo>
                  <a:lnTo>
                    <a:pt x="304" y="145"/>
                  </a:lnTo>
                  <a:lnTo>
                    <a:pt x="307" y="148"/>
                  </a:lnTo>
                  <a:lnTo>
                    <a:pt x="307" y="150"/>
                  </a:lnTo>
                  <a:lnTo>
                    <a:pt x="307" y="148"/>
                  </a:lnTo>
                  <a:lnTo>
                    <a:pt x="302" y="140"/>
                  </a:lnTo>
                  <a:lnTo>
                    <a:pt x="291" y="123"/>
                  </a:lnTo>
                  <a:lnTo>
                    <a:pt x="286" y="113"/>
                  </a:lnTo>
                  <a:lnTo>
                    <a:pt x="283" y="102"/>
                  </a:lnTo>
                  <a:lnTo>
                    <a:pt x="283" y="97"/>
                  </a:lnTo>
                  <a:lnTo>
                    <a:pt x="281" y="91"/>
                  </a:lnTo>
                  <a:lnTo>
                    <a:pt x="275" y="91"/>
                  </a:lnTo>
                  <a:lnTo>
                    <a:pt x="270" y="88"/>
                  </a:lnTo>
                  <a:lnTo>
                    <a:pt x="260" y="91"/>
                  </a:lnTo>
                  <a:lnTo>
                    <a:pt x="249" y="91"/>
                  </a:lnTo>
                  <a:lnTo>
                    <a:pt x="228" y="86"/>
                  </a:lnTo>
                  <a:lnTo>
                    <a:pt x="223" y="83"/>
                  </a:lnTo>
                  <a:lnTo>
                    <a:pt x="218" y="78"/>
                  </a:lnTo>
                  <a:lnTo>
                    <a:pt x="205" y="75"/>
                  </a:lnTo>
                  <a:lnTo>
                    <a:pt x="189" y="70"/>
                  </a:lnTo>
                  <a:lnTo>
                    <a:pt x="152" y="59"/>
                  </a:lnTo>
                  <a:lnTo>
                    <a:pt x="115" y="48"/>
                  </a:lnTo>
                  <a:lnTo>
                    <a:pt x="110" y="45"/>
                  </a:lnTo>
                  <a:lnTo>
                    <a:pt x="102" y="43"/>
                  </a:lnTo>
                  <a:lnTo>
                    <a:pt x="97" y="40"/>
                  </a:lnTo>
                  <a:lnTo>
                    <a:pt x="89" y="37"/>
                  </a:lnTo>
                  <a:lnTo>
                    <a:pt x="79" y="35"/>
                  </a:lnTo>
                  <a:lnTo>
                    <a:pt x="71" y="32"/>
                  </a:lnTo>
                  <a:lnTo>
                    <a:pt x="55" y="27"/>
                  </a:lnTo>
                  <a:lnTo>
                    <a:pt x="37" y="21"/>
                  </a:lnTo>
                  <a:lnTo>
                    <a:pt x="31" y="19"/>
                  </a:lnTo>
                  <a:lnTo>
                    <a:pt x="26" y="13"/>
                  </a:lnTo>
                  <a:lnTo>
                    <a:pt x="13" y="8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334120" y="5229360"/>
              <a:ext cx="415800" cy="315720"/>
            </a:xfrm>
            <a:custGeom>
              <a:avLst/>
              <a:gdLst/>
              <a:ahLst/>
              <a:rect l="l" t="t" r="r" b="b"/>
              <a:pathLst>
                <a:path w="262" h="199">
                  <a:moveTo>
                    <a:pt x="262" y="199"/>
                  </a:moveTo>
                  <a:lnTo>
                    <a:pt x="252" y="199"/>
                  </a:lnTo>
                  <a:lnTo>
                    <a:pt x="244" y="199"/>
                  </a:lnTo>
                  <a:lnTo>
                    <a:pt x="233" y="196"/>
                  </a:lnTo>
                  <a:lnTo>
                    <a:pt x="226" y="194"/>
                  </a:lnTo>
                  <a:lnTo>
                    <a:pt x="220" y="191"/>
                  </a:lnTo>
                  <a:lnTo>
                    <a:pt x="210" y="188"/>
                  </a:lnTo>
                  <a:lnTo>
                    <a:pt x="205" y="185"/>
                  </a:lnTo>
                  <a:lnTo>
                    <a:pt x="197" y="180"/>
                  </a:lnTo>
                  <a:lnTo>
                    <a:pt x="192" y="177"/>
                  </a:lnTo>
                  <a:lnTo>
                    <a:pt x="189" y="175"/>
                  </a:lnTo>
                  <a:lnTo>
                    <a:pt x="184" y="164"/>
                  </a:lnTo>
                  <a:lnTo>
                    <a:pt x="176" y="153"/>
                  </a:lnTo>
                  <a:lnTo>
                    <a:pt x="165" y="121"/>
                  </a:lnTo>
                  <a:lnTo>
                    <a:pt x="152" y="89"/>
                  </a:lnTo>
                  <a:lnTo>
                    <a:pt x="144" y="78"/>
                  </a:lnTo>
                  <a:lnTo>
                    <a:pt x="136" y="67"/>
                  </a:lnTo>
                  <a:lnTo>
                    <a:pt x="131" y="64"/>
                  </a:lnTo>
                  <a:lnTo>
                    <a:pt x="126" y="59"/>
                  </a:lnTo>
                  <a:lnTo>
                    <a:pt x="113" y="48"/>
                  </a:lnTo>
                  <a:lnTo>
                    <a:pt x="105" y="43"/>
                  </a:lnTo>
                  <a:lnTo>
                    <a:pt x="94" y="37"/>
                  </a:lnTo>
                  <a:lnTo>
                    <a:pt x="84" y="40"/>
                  </a:lnTo>
                  <a:lnTo>
                    <a:pt x="74" y="46"/>
                  </a:lnTo>
                  <a:lnTo>
                    <a:pt x="68" y="51"/>
                  </a:lnTo>
                  <a:lnTo>
                    <a:pt x="63" y="54"/>
                  </a:lnTo>
                  <a:lnTo>
                    <a:pt x="55" y="56"/>
                  </a:lnTo>
                  <a:lnTo>
                    <a:pt x="53" y="59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50" y="59"/>
                  </a:lnTo>
                  <a:lnTo>
                    <a:pt x="42" y="64"/>
                  </a:lnTo>
                  <a:lnTo>
                    <a:pt x="37" y="62"/>
                  </a:lnTo>
                  <a:lnTo>
                    <a:pt x="32" y="59"/>
                  </a:lnTo>
                  <a:lnTo>
                    <a:pt x="29" y="54"/>
                  </a:lnTo>
                  <a:lnTo>
                    <a:pt x="29" y="48"/>
                  </a:lnTo>
                  <a:lnTo>
                    <a:pt x="26" y="35"/>
                  </a:lnTo>
                  <a:lnTo>
                    <a:pt x="13" y="16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46720" y="4118040"/>
              <a:ext cx="878040" cy="773280"/>
            </a:xfrm>
            <a:custGeom>
              <a:avLst/>
              <a:gdLst/>
              <a:ahLst/>
              <a:rect l="l" t="t" r="r" b="b"/>
              <a:pathLst>
                <a:path w="553" h="487">
                  <a:moveTo>
                    <a:pt x="0" y="0"/>
                  </a:moveTo>
                  <a:lnTo>
                    <a:pt x="10" y="3"/>
                  </a:lnTo>
                  <a:lnTo>
                    <a:pt x="21" y="6"/>
                  </a:lnTo>
                  <a:lnTo>
                    <a:pt x="29" y="11"/>
                  </a:lnTo>
                  <a:lnTo>
                    <a:pt x="34" y="14"/>
                  </a:lnTo>
                  <a:lnTo>
                    <a:pt x="39" y="19"/>
                  </a:lnTo>
                  <a:lnTo>
                    <a:pt x="42" y="22"/>
                  </a:lnTo>
                  <a:lnTo>
                    <a:pt x="47" y="22"/>
                  </a:lnTo>
                  <a:lnTo>
                    <a:pt x="52" y="25"/>
                  </a:lnTo>
                  <a:lnTo>
                    <a:pt x="73" y="25"/>
                  </a:lnTo>
                  <a:lnTo>
                    <a:pt x="94" y="22"/>
                  </a:lnTo>
                  <a:lnTo>
                    <a:pt x="113" y="17"/>
                  </a:lnTo>
                  <a:lnTo>
                    <a:pt x="128" y="11"/>
                  </a:lnTo>
                  <a:lnTo>
                    <a:pt x="155" y="17"/>
                  </a:lnTo>
                  <a:lnTo>
                    <a:pt x="168" y="22"/>
                  </a:lnTo>
                  <a:lnTo>
                    <a:pt x="178" y="27"/>
                  </a:lnTo>
                  <a:lnTo>
                    <a:pt x="191" y="44"/>
                  </a:lnTo>
                  <a:lnTo>
                    <a:pt x="207" y="57"/>
                  </a:lnTo>
                  <a:lnTo>
                    <a:pt x="212" y="62"/>
                  </a:lnTo>
                  <a:lnTo>
                    <a:pt x="220" y="65"/>
                  </a:lnTo>
                  <a:lnTo>
                    <a:pt x="225" y="70"/>
                  </a:lnTo>
                  <a:lnTo>
                    <a:pt x="228" y="70"/>
                  </a:lnTo>
                  <a:lnTo>
                    <a:pt x="223" y="113"/>
                  </a:lnTo>
                  <a:lnTo>
                    <a:pt x="218" y="154"/>
                  </a:lnTo>
                  <a:lnTo>
                    <a:pt x="215" y="165"/>
                  </a:lnTo>
                  <a:lnTo>
                    <a:pt x="210" y="175"/>
                  </a:lnTo>
                  <a:lnTo>
                    <a:pt x="210" y="181"/>
                  </a:lnTo>
                  <a:lnTo>
                    <a:pt x="207" y="186"/>
                  </a:lnTo>
                  <a:lnTo>
                    <a:pt x="207" y="186"/>
                  </a:lnTo>
                  <a:lnTo>
                    <a:pt x="212" y="189"/>
                  </a:lnTo>
                  <a:lnTo>
                    <a:pt x="218" y="189"/>
                  </a:lnTo>
                  <a:lnTo>
                    <a:pt x="223" y="194"/>
                  </a:lnTo>
                  <a:lnTo>
                    <a:pt x="231" y="200"/>
                  </a:lnTo>
                  <a:lnTo>
                    <a:pt x="236" y="202"/>
                  </a:lnTo>
                  <a:lnTo>
                    <a:pt x="239" y="205"/>
                  </a:lnTo>
                  <a:lnTo>
                    <a:pt x="239" y="210"/>
                  </a:lnTo>
                  <a:lnTo>
                    <a:pt x="241" y="216"/>
                  </a:lnTo>
                  <a:lnTo>
                    <a:pt x="249" y="226"/>
                  </a:lnTo>
                  <a:lnTo>
                    <a:pt x="254" y="237"/>
                  </a:lnTo>
                  <a:lnTo>
                    <a:pt x="257" y="243"/>
                  </a:lnTo>
                  <a:lnTo>
                    <a:pt x="260" y="248"/>
                  </a:lnTo>
                  <a:lnTo>
                    <a:pt x="265" y="251"/>
                  </a:lnTo>
                  <a:lnTo>
                    <a:pt x="270" y="253"/>
                  </a:lnTo>
                  <a:lnTo>
                    <a:pt x="291" y="256"/>
                  </a:lnTo>
                  <a:lnTo>
                    <a:pt x="312" y="259"/>
                  </a:lnTo>
                  <a:lnTo>
                    <a:pt x="315" y="264"/>
                  </a:lnTo>
                  <a:lnTo>
                    <a:pt x="317" y="269"/>
                  </a:lnTo>
                  <a:lnTo>
                    <a:pt x="320" y="280"/>
                  </a:lnTo>
                  <a:lnTo>
                    <a:pt x="325" y="291"/>
                  </a:lnTo>
                  <a:lnTo>
                    <a:pt x="333" y="302"/>
                  </a:lnTo>
                  <a:lnTo>
                    <a:pt x="338" y="312"/>
                  </a:lnTo>
                  <a:lnTo>
                    <a:pt x="343" y="321"/>
                  </a:lnTo>
                  <a:lnTo>
                    <a:pt x="346" y="329"/>
                  </a:lnTo>
                  <a:lnTo>
                    <a:pt x="349" y="345"/>
                  </a:lnTo>
                  <a:lnTo>
                    <a:pt x="351" y="350"/>
                  </a:lnTo>
                  <a:lnTo>
                    <a:pt x="354" y="356"/>
                  </a:lnTo>
                  <a:lnTo>
                    <a:pt x="354" y="356"/>
                  </a:lnTo>
                  <a:lnTo>
                    <a:pt x="357" y="374"/>
                  </a:lnTo>
                  <a:lnTo>
                    <a:pt x="359" y="393"/>
                  </a:lnTo>
                  <a:lnTo>
                    <a:pt x="370" y="407"/>
                  </a:lnTo>
                  <a:lnTo>
                    <a:pt x="375" y="412"/>
                  </a:lnTo>
                  <a:lnTo>
                    <a:pt x="385" y="415"/>
                  </a:lnTo>
                  <a:lnTo>
                    <a:pt x="396" y="409"/>
                  </a:lnTo>
                  <a:lnTo>
                    <a:pt x="406" y="401"/>
                  </a:lnTo>
                  <a:lnTo>
                    <a:pt x="409" y="401"/>
                  </a:lnTo>
                  <a:lnTo>
                    <a:pt x="412" y="401"/>
                  </a:lnTo>
                  <a:lnTo>
                    <a:pt x="417" y="404"/>
                  </a:lnTo>
                  <a:lnTo>
                    <a:pt x="422" y="409"/>
                  </a:lnTo>
                  <a:lnTo>
                    <a:pt x="427" y="412"/>
                  </a:lnTo>
                  <a:lnTo>
                    <a:pt x="430" y="415"/>
                  </a:lnTo>
                  <a:lnTo>
                    <a:pt x="438" y="415"/>
                  </a:lnTo>
                  <a:lnTo>
                    <a:pt x="459" y="417"/>
                  </a:lnTo>
                  <a:lnTo>
                    <a:pt x="482" y="420"/>
                  </a:lnTo>
                  <a:lnTo>
                    <a:pt x="496" y="420"/>
                  </a:lnTo>
                  <a:lnTo>
                    <a:pt x="503" y="423"/>
                  </a:lnTo>
                  <a:lnTo>
                    <a:pt x="509" y="423"/>
                  </a:lnTo>
                  <a:lnTo>
                    <a:pt x="511" y="423"/>
                  </a:lnTo>
                  <a:lnTo>
                    <a:pt x="524" y="444"/>
                  </a:lnTo>
                  <a:lnTo>
                    <a:pt x="538" y="466"/>
                  </a:lnTo>
                  <a:lnTo>
                    <a:pt x="543" y="471"/>
                  </a:lnTo>
                  <a:lnTo>
                    <a:pt x="545" y="477"/>
                  </a:lnTo>
                  <a:lnTo>
                    <a:pt x="548" y="479"/>
                  </a:lnTo>
                  <a:lnTo>
                    <a:pt x="551" y="485"/>
                  </a:lnTo>
                  <a:lnTo>
                    <a:pt x="553" y="487"/>
                  </a:lnTo>
                  <a:lnTo>
                    <a:pt x="553" y="487"/>
                  </a:lnTo>
                  <a:lnTo>
                    <a:pt x="551" y="487"/>
                  </a:lnTo>
                  <a:lnTo>
                    <a:pt x="548" y="485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946840" y="4213440"/>
              <a:ext cx="236520" cy="593640"/>
            </a:xfrm>
            <a:custGeom>
              <a:avLst/>
              <a:gdLst/>
              <a:ahLst/>
              <a:rect l="l" t="t" r="r" b="b"/>
              <a:pathLst>
                <a:path w="149" h="374">
                  <a:moveTo>
                    <a:pt x="0" y="0"/>
                  </a:moveTo>
                  <a:lnTo>
                    <a:pt x="21" y="5"/>
                  </a:lnTo>
                  <a:lnTo>
                    <a:pt x="28" y="10"/>
                  </a:lnTo>
                  <a:lnTo>
                    <a:pt x="39" y="16"/>
                  </a:lnTo>
                  <a:lnTo>
                    <a:pt x="44" y="27"/>
                  </a:lnTo>
                  <a:lnTo>
                    <a:pt x="47" y="32"/>
                  </a:lnTo>
                  <a:lnTo>
                    <a:pt x="44" y="37"/>
                  </a:lnTo>
                  <a:lnTo>
                    <a:pt x="39" y="48"/>
                  </a:lnTo>
                  <a:lnTo>
                    <a:pt x="31" y="59"/>
                  </a:lnTo>
                  <a:lnTo>
                    <a:pt x="28" y="67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1" y="80"/>
                  </a:lnTo>
                  <a:lnTo>
                    <a:pt x="26" y="91"/>
                  </a:lnTo>
                  <a:lnTo>
                    <a:pt x="28" y="96"/>
                  </a:lnTo>
                  <a:lnTo>
                    <a:pt x="36" y="99"/>
                  </a:lnTo>
                  <a:lnTo>
                    <a:pt x="44" y="102"/>
                  </a:lnTo>
                  <a:lnTo>
                    <a:pt x="84" y="126"/>
                  </a:lnTo>
                  <a:lnTo>
                    <a:pt x="102" y="142"/>
                  </a:lnTo>
                  <a:lnTo>
                    <a:pt x="115" y="158"/>
                  </a:lnTo>
                  <a:lnTo>
                    <a:pt x="112" y="174"/>
                  </a:lnTo>
                  <a:lnTo>
                    <a:pt x="110" y="191"/>
                  </a:lnTo>
                  <a:lnTo>
                    <a:pt x="110" y="207"/>
                  </a:lnTo>
                  <a:lnTo>
                    <a:pt x="112" y="223"/>
                  </a:lnTo>
                  <a:lnTo>
                    <a:pt x="120" y="239"/>
                  </a:lnTo>
                  <a:lnTo>
                    <a:pt x="125" y="255"/>
                  </a:lnTo>
                  <a:lnTo>
                    <a:pt x="125" y="261"/>
                  </a:lnTo>
                  <a:lnTo>
                    <a:pt x="123" y="266"/>
                  </a:lnTo>
                  <a:lnTo>
                    <a:pt x="120" y="271"/>
                  </a:lnTo>
                  <a:lnTo>
                    <a:pt x="115" y="277"/>
                  </a:lnTo>
                  <a:lnTo>
                    <a:pt x="110" y="290"/>
                  </a:lnTo>
                  <a:lnTo>
                    <a:pt x="107" y="296"/>
                  </a:lnTo>
                  <a:lnTo>
                    <a:pt x="107" y="298"/>
                  </a:lnTo>
                  <a:lnTo>
                    <a:pt x="112" y="304"/>
                  </a:lnTo>
                  <a:lnTo>
                    <a:pt x="115" y="309"/>
                  </a:lnTo>
                  <a:lnTo>
                    <a:pt x="118" y="312"/>
                  </a:lnTo>
                  <a:lnTo>
                    <a:pt x="123" y="317"/>
                  </a:lnTo>
                  <a:lnTo>
                    <a:pt x="128" y="322"/>
                  </a:lnTo>
                  <a:lnTo>
                    <a:pt x="136" y="331"/>
                  </a:lnTo>
                  <a:lnTo>
                    <a:pt x="141" y="336"/>
                  </a:lnTo>
                  <a:lnTo>
                    <a:pt x="144" y="344"/>
                  </a:lnTo>
                  <a:lnTo>
                    <a:pt x="149" y="349"/>
                  </a:lnTo>
                  <a:lnTo>
                    <a:pt x="149" y="352"/>
                  </a:lnTo>
                  <a:lnTo>
                    <a:pt x="149" y="360"/>
                  </a:lnTo>
                  <a:lnTo>
                    <a:pt x="146" y="365"/>
                  </a:lnTo>
                  <a:lnTo>
                    <a:pt x="141" y="371"/>
                  </a:lnTo>
                  <a:lnTo>
                    <a:pt x="139" y="374"/>
                  </a:lnTo>
                  <a:lnTo>
                    <a:pt x="136" y="374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346720" y="3998880"/>
              <a:ext cx="1095480" cy="785880"/>
            </a:xfrm>
            <a:custGeom>
              <a:avLst/>
              <a:gdLst/>
              <a:ahLst/>
              <a:rect l="l" t="t" r="r" b="b"/>
              <a:pathLst>
                <a:path w="690" h="495">
                  <a:moveTo>
                    <a:pt x="0" y="0"/>
                  </a:moveTo>
                  <a:lnTo>
                    <a:pt x="8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29" y="24"/>
                  </a:lnTo>
                  <a:lnTo>
                    <a:pt x="34" y="30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39" y="27"/>
                  </a:lnTo>
                  <a:lnTo>
                    <a:pt x="42" y="30"/>
                  </a:lnTo>
                  <a:lnTo>
                    <a:pt x="50" y="32"/>
                  </a:lnTo>
                  <a:lnTo>
                    <a:pt x="60" y="38"/>
                  </a:lnTo>
                  <a:lnTo>
                    <a:pt x="66" y="43"/>
                  </a:lnTo>
                  <a:lnTo>
                    <a:pt x="68" y="43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73" y="46"/>
                  </a:lnTo>
                  <a:lnTo>
                    <a:pt x="81" y="49"/>
                  </a:lnTo>
                  <a:lnTo>
                    <a:pt x="100" y="46"/>
                  </a:lnTo>
                  <a:lnTo>
                    <a:pt x="118" y="43"/>
                  </a:lnTo>
                  <a:lnTo>
                    <a:pt x="128" y="46"/>
                  </a:lnTo>
                  <a:lnTo>
                    <a:pt x="136" y="46"/>
                  </a:lnTo>
                  <a:lnTo>
                    <a:pt x="157" y="51"/>
                  </a:lnTo>
                  <a:lnTo>
                    <a:pt x="178" y="54"/>
                  </a:lnTo>
                  <a:lnTo>
                    <a:pt x="236" y="65"/>
                  </a:lnTo>
                  <a:lnTo>
                    <a:pt x="294" y="78"/>
                  </a:lnTo>
                  <a:lnTo>
                    <a:pt x="323" y="84"/>
                  </a:lnTo>
                  <a:lnTo>
                    <a:pt x="349" y="89"/>
                  </a:lnTo>
                  <a:lnTo>
                    <a:pt x="362" y="92"/>
                  </a:lnTo>
                  <a:lnTo>
                    <a:pt x="375" y="94"/>
                  </a:lnTo>
                  <a:lnTo>
                    <a:pt x="385" y="97"/>
                  </a:lnTo>
                  <a:lnTo>
                    <a:pt x="391" y="97"/>
                  </a:lnTo>
                  <a:lnTo>
                    <a:pt x="399" y="94"/>
                  </a:lnTo>
                  <a:lnTo>
                    <a:pt x="406" y="92"/>
                  </a:lnTo>
                  <a:lnTo>
                    <a:pt x="412" y="92"/>
                  </a:lnTo>
                  <a:lnTo>
                    <a:pt x="417" y="89"/>
                  </a:lnTo>
                  <a:lnTo>
                    <a:pt x="422" y="97"/>
                  </a:lnTo>
                  <a:lnTo>
                    <a:pt x="427" y="105"/>
                  </a:lnTo>
                  <a:lnTo>
                    <a:pt x="433" y="116"/>
                  </a:lnTo>
                  <a:lnTo>
                    <a:pt x="441" y="121"/>
                  </a:lnTo>
                  <a:lnTo>
                    <a:pt x="456" y="124"/>
                  </a:lnTo>
                  <a:lnTo>
                    <a:pt x="469" y="129"/>
                  </a:lnTo>
                  <a:lnTo>
                    <a:pt x="475" y="132"/>
                  </a:lnTo>
                  <a:lnTo>
                    <a:pt x="480" y="135"/>
                  </a:lnTo>
                  <a:lnTo>
                    <a:pt x="482" y="137"/>
                  </a:lnTo>
                  <a:lnTo>
                    <a:pt x="490" y="140"/>
                  </a:lnTo>
                  <a:lnTo>
                    <a:pt x="514" y="143"/>
                  </a:lnTo>
                  <a:lnTo>
                    <a:pt x="538" y="143"/>
                  </a:lnTo>
                  <a:lnTo>
                    <a:pt x="543" y="143"/>
                  </a:lnTo>
                  <a:lnTo>
                    <a:pt x="548" y="145"/>
                  </a:lnTo>
                  <a:lnTo>
                    <a:pt x="553" y="153"/>
                  </a:lnTo>
                  <a:lnTo>
                    <a:pt x="553" y="159"/>
                  </a:lnTo>
                  <a:lnTo>
                    <a:pt x="548" y="159"/>
                  </a:lnTo>
                  <a:lnTo>
                    <a:pt x="543" y="162"/>
                  </a:lnTo>
                  <a:lnTo>
                    <a:pt x="532" y="164"/>
                  </a:lnTo>
                  <a:lnTo>
                    <a:pt x="527" y="164"/>
                  </a:lnTo>
                  <a:lnTo>
                    <a:pt x="524" y="164"/>
                  </a:lnTo>
                  <a:lnTo>
                    <a:pt x="524" y="164"/>
                  </a:lnTo>
                  <a:lnTo>
                    <a:pt x="524" y="164"/>
                  </a:lnTo>
                  <a:lnTo>
                    <a:pt x="522" y="164"/>
                  </a:lnTo>
                  <a:lnTo>
                    <a:pt x="514" y="167"/>
                  </a:lnTo>
                  <a:lnTo>
                    <a:pt x="511" y="172"/>
                  </a:lnTo>
                  <a:lnTo>
                    <a:pt x="511" y="175"/>
                  </a:lnTo>
                  <a:lnTo>
                    <a:pt x="511" y="178"/>
                  </a:lnTo>
                  <a:lnTo>
                    <a:pt x="514" y="186"/>
                  </a:lnTo>
                  <a:lnTo>
                    <a:pt x="522" y="194"/>
                  </a:lnTo>
                  <a:lnTo>
                    <a:pt x="530" y="197"/>
                  </a:lnTo>
                  <a:lnTo>
                    <a:pt x="538" y="199"/>
                  </a:lnTo>
                  <a:lnTo>
                    <a:pt x="551" y="197"/>
                  </a:lnTo>
                  <a:lnTo>
                    <a:pt x="564" y="194"/>
                  </a:lnTo>
                  <a:lnTo>
                    <a:pt x="574" y="197"/>
                  </a:lnTo>
                  <a:lnTo>
                    <a:pt x="582" y="199"/>
                  </a:lnTo>
                  <a:lnTo>
                    <a:pt x="600" y="205"/>
                  </a:lnTo>
                  <a:lnTo>
                    <a:pt x="632" y="207"/>
                  </a:lnTo>
                  <a:lnTo>
                    <a:pt x="661" y="207"/>
                  </a:lnTo>
                  <a:lnTo>
                    <a:pt x="666" y="210"/>
                  </a:lnTo>
                  <a:lnTo>
                    <a:pt x="671" y="210"/>
                  </a:lnTo>
                  <a:lnTo>
                    <a:pt x="671" y="210"/>
                  </a:lnTo>
                  <a:lnTo>
                    <a:pt x="674" y="213"/>
                  </a:lnTo>
                  <a:lnTo>
                    <a:pt x="674" y="215"/>
                  </a:lnTo>
                  <a:lnTo>
                    <a:pt x="679" y="221"/>
                  </a:lnTo>
                  <a:lnTo>
                    <a:pt x="684" y="226"/>
                  </a:lnTo>
                  <a:lnTo>
                    <a:pt x="690" y="229"/>
                  </a:lnTo>
                  <a:lnTo>
                    <a:pt x="682" y="234"/>
                  </a:lnTo>
                  <a:lnTo>
                    <a:pt x="677" y="240"/>
                  </a:lnTo>
                  <a:lnTo>
                    <a:pt x="671" y="240"/>
                  </a:lnTo>
                  <a:lnTo>
                    <a:pt x="666" y="240"/>
                  </a:lnTo>
                  <a:lnTo>
                    <a:pt x="661" y="240"/>
                  </a:lnTo>
                  <a:lnTo>
                    <a:pt x="650" y="240"/>
                  </a:lnTo>
                  <a:lnTo>
                    <a:pt x="632" y="242"/>
                  </a:lnTo>
                  <a:lnTo>
                    <a:pt x="614" y="248"/>
                  </a:lnTo>
                  <a:lnTo>
                    <a:pt x="598" y="256"/>
                  </a:lnTo>
                  <a:lnTo>
                    <a:pt x="585" y="269"/>
                  </a:lnTo>
                  <a:lnTo>
                    <a:pt x="574" y="283"/>
                  </a:lnTo>
                  <a:lnTo>
                    <a:pt x="595" y="285"/>
                  </a:lnTo>
                  <a:lnTo>
                    <a:pt x="611" y="285"/>
                  </a:lnTo>
                  <a:lnTo>
                    <a:pt x="616" y="291"/>
                  </a:lnTo>
                  <a:lnTo>
                    <a:pt x="614" y="299"/>
                  </a:lnTo>
                  <a:lnTo>
                    <a:pt x="611" y="307"/>
                  </a:lnTo>
                  <a:lnTo>
                    <a:pt x="608" y="312"/>
                  </a:lnTo>
                  <a:lnTo>
                    <a:pt x="606" y="318"/>
                  </a:lnTo>
                  <a:lnTo>
                    <a:pt x="603" y="323"/>
                  </a:lnTo>
                  <a:lnTo>
                    <a:pt x="600" y="328"/>
                  </a:lnTo>
                  <a:lnTo>
                    <a:pt x="603" y="336"/>
                  </a:lnTo>
                  <a:lnTo>
                    <a:pt x="603" y="342"/>
                  </a:lnTo>
                  <a:lnTo>
                    <a:pt x="606" y="350"/>
                  </a:lnTo>
                  <a:lnTo>
                    <a:pt x="603" y="358"/>
                  </a:lnTo>
                  <a:lnTo>
                    <a:pt x="603" y="363"/>
                  </a:lnTo>
                  <a:lnTo>
                    <a:pt x="600" y="371"/>
                  </a:lnTo>
                  <a:lnTo>
                    <a:pt x="600" y="377"/>
                  </a:lnTo>
                  <a:lnTo>
                    <a:pt x="598" y="382"/>
                  </a:lnTo>
                  <a:lnTo>
                    <a:pt x="593" y="387"/>
                  </a:lnTo>
                  <a:lnTo>
                    <a:pt x="587" y="390"/>
                  </a:lnTo>
                  <a:lnTo>
                    <a:pt x="582" y="393"/>
                  </a:lnTo>
                  <a:lnTo>
                    <a:pt x="577" y="398"/>
                  </a:lnTo>
                  <a:lnTo>
                    <a:pt x="572" y="404"/>
                  </a:lnTo>
                  <a:lnTo>
                    <a:pt x="566" y="409"/>
                  </a:lnTo>
                  <a:lnTo>
                    <a:pt x="561" y="412"/>
                  </a:lnTo>
                  <a:lnTo>
                    <a:pt x="556" y="414"/>
                  </a:lnTo>
                  <a:lnTo>
                    <a:pt x="527" y="447"/>
                  </a:lnTo>
                  <a:lnTo>
                    <a:pt x="496" y="479"/>
                  </a:lnTo>
                  <a:lnTo>
                    <a:pt x="493" y="487"/>
                  </a:lnTo>
                  <a:lnTo>
                    <a:pt x="493" y="490"/>
                  </a:lnTo>
                  <a:lnTo>
                    <a:pt x="496" y="492"/>
                  </a:lnTo>
                  <a:lnTo>
                    <a:pt x="501" y="495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224760" y="4170600"/>
              <a:ext cx="450720" cy="44748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42" y="269"/>
                  </a:moveTo>
                  <a:lnTo>
                    <a:pt x="61" y="266"/>
                  </a:lnTo>
                  <a:lnTo>
                    <a:pt x="76" y="263"/>
                  </a:lnTo>
                  <a:lnTo>
                    <a:pt x="89" y="266"/>
                  </a:lnTo>
                  <a:lnTo>
                    <a:pt x="95" y="263"/>
                  </a:lnTo>
                  <a:lnTo>
                    <a:pt x="97" y="261"/>
                  </a:lnTo>
                  <a:lnTo>
                    <a:pt x="97" y="255"/>
                  </a:lnTo>
                  <a:lnTo>
                    <a:pt x="92" y="250"/>
                  </a:lnTo>
                  <a:lnTo>
                    <a:pt x="87" y="245"/>
                  </a:lnTo>
                  <a:lnTo>
                    <a:pt x="84" y="239"/>
                  </a:lnTo>
                  <a:lnTo>
                    <a:pt x="79" y="234"/>
                  </a:lnTo>
                  <a:lnTo>
                    <a:pt x="76" y="228"/>
                  </a:lnTo>
                  <a:lnTo>
                    <a:pt x="76" y="226"/>
                  </a:lnTo>
                  <a:lnTo>
                    <a:pt x="74" y="218"/>
                  </a:lnTo>
                  <a:lnTo>
                    <a:pt x="82" y="193"/>
                  </a:lnTo>
                  <a:lnTo>
                    <a:pt x="92" y="177"/>
                  </a:lnTo>
                  <a:lnTo>
                    <a:pt x="108" y="164"/>
                  </a:lnTo>
                  <a:lnTo>
                    <a:pt x="129" y="153"/>
                  </a:lnTo>
                  <a:lnTo>
                    <a:pt x="134" y="148"/>
                  </a:lnTo>
                  <a:lnTo>
                    <a:pt x="137" y="142"/>
                  </a:lnTo>
                  <a:lnTo>
                    <a:pt x="134" y="132"/>
                  </a:lnTo>
                  <a:lnTo>
                    <a:pt x="131" y="118"/>
                  </a:lnTo>
                  <a:lnTo>
                    <a:pt x="134" y="110"/>
                  </a:lnTo>
                  <a:lnTo>
                    <a:pt x="137" y="102"/>
                  </a:lnTo>
                  <a:lnTo>
                    <a:pt x="155" y="113"/>
                  </a:lnTo>
                  <a:lnTo>
                    <a:pt x="168" y="126"/>
                  </a:lnTo>
                  <a:lnTo>
                    <a:pt x="192" y="156"/>
                  </a:lnTo>
                  <a:lnTo>
                    <a:pt x="197" y="169"/>
                  </a:lnTo>
                  <a:lnTo>
                    <a:pt x="200" y="175"/>
                  </a:lnTo>
                  <a:lnTo>
                    <a:pt x="200" y="177"/>
                  </a:lnTo>
                  <a:lnTo>
                    <a:pt x="197" y="183"/>
                  </a:lnTo>
                  <a:lnTo>
                    <a:pt x="197" y="191"/>
                  </a:lnTo>
                  <a:lnTo>
                    <a:pt x="194" y="199"/>
                  </a:lnTo>
                  <a:lnTo>
                    <a:pt x="192" y="204"/>
                  </a:lnTo>
                  <a:lnTo>
                    <a:pt x="189" y="212"/>
                  </a:lnTo>
                  <a:lnTo>
                    <a:pt x="186" y="215"/>
                  </a:lnTo>
                  <a:lnTo>
                    <a:pt x="184" y="215"/>
                  </a:lnTo>
                  <a:lnTo>
                    <a:pt x="184" y="215"/>
                  </a:lnTo>
                  <a:lnTo>
                    <a:pt x="184" y="215"/>
                  </a:lnTo>
                  <a:lnTo>
                    <a:pt x="184" y="215"/>
                  </a:lnTo>
                  <a:lnTo>
                    <a:pt x="184" y="218"/>
                  </a:lnTo>
                  <a:lnTo>
                    <a:pt x="181" y="226"/>
                  </a:lnTo>
                  <a:lnTo>
                    <a:pt x="181" y="236"/>
                  </a:lnTo>
                  <a:lnTo>
                    <a:pt x="179" y="247"/>
                  </a:lnTo>
                  <a:lnTo>
                    <a:pt x="179" y="258"/>
                  </a:lnTo>
                  <a:lnTo>
                    <a:pt x="181" y="269"/>
                  </a:lnTo>
                  <a:lnTo>
                    <a:pt x="186" y="274"/>
                  </a:lnTo>
                  <a:lnTo>
                    <a:pt x="192" y="282"/>
                  </a:lnTo>
                  <a:lnTo>
                    <a:pt x="200" y="250"/>
                  </a:lnTo>
                  <a:lnTo>
                    <a:pt x="205" y="215"/>
                  </a:lnTo>
                  <a:lnTo>
                    <a:pt x="207" y="207"/>
                  </a:lnTo>
                  <a:lnTo>
                    <a:pt x="210" y="196"/>
                  </a:lnTo>
                  <a:lnTo>
                    <a:pt x="215" y="185"/>
                  </a:lnTo>
                  <a:lnTo>
                    <a:pt x="221" y="177"/>
                  </a:lnTo>
                  <a:lnTo>
                    <a:pt x="231" y="172"/>
                  </a:lnTo>
                  <a:lnTo>
                    <a:pt x="242" y="164"/>
                  </a:lnTo>
                  <a:lnTo>
                    <a:pt x="249" y="161"/>
                  </a:lnTo>
                  <a:lnTo>
                    <a:pt x="260" y="158"/>
                  </a:lnTo>
                  <a:lnTo>
                    <a:pt x="284" y="161"/>
                  </a:lnTo>
                  <a:lnTo>
                    <a:pt x="281" y="156"/>
                  </a:lnTo>
                  <a:lnTo>
                    <a:pt x="278" y="150"/>
                  </a:lnTo>
                  <a:lnTo>
                    <a:pt x="273" y="142"/>
                  </a:lnTo>
                  <a:lnTo>
                    <a:pt x="270" y="140"/>
                  </a:lnTo>
                  <a:lnTo>
                    <a:pt x="268" y="140"/>
                  </a:lnTo>
                  <a:lnTo>
                    <a:pt x="268" y="137"/>
                  </a:lnTo>
                  <a:lnTo>
                    <a:pt x="265" y="134"/>
                  </a:lnTo>
                  <a:lnTo>
                    <a:pt x="263" y="129"/>
                  </a:lnTo>
                  <a:lnTo>
                    <a:pt x="260" y="123"/>
                  </a:lnTo>
                  <a:lnTo>
                    <a:pt x="257" y="118"/>
                  </a:lnTo>
                  <a:lnTo>
                    <a:pt x="252" y="115"/>
                  </a:lnTo>
                  <a:lnTo>
                    <a:pt x="247" y="113"/>
                  </a:lnTo>
                  <a:lnTo>
                    <a:pt x="242" y="110"/>
                  </a:lnTo>
                  <a:lnTo>
                    <a:pt x="236" y="107"/>
                  </a:lnTo>
                  <a:lnTo>
                    <a:pt x="223" y="110"/>
                  </a:lnTo>
                  <a:lnTo>
                    <a:pt x="207" y="107"/>
                  </a:lnTo>
                  <a:lnTo>
                    <a:pt x="179" y="102"/>
                  </a:lnTo>
                  <a:lnTo>
                    <a:pt x="158" y="107"/>
                  </a:lnTo>
                  <a:lnTo>
                    <a:pt x="147" y="107"/>
                  </a:lnTo>
                  <a:lnTo>
                    <a:pt x="137" y="107"/>
                  </a:lnTo>
                  <a:lnTo>
                    <a:pt x="134" y="105"/>
                  </a:lnTo>
                  <a:lnTo>
                    <a:pt x="134" y="99"/>
                  </a:lnTo>
                  <a:lnTo>
                    <a:pt x="131" y="89"/>
                  </a:lnTo>
                  <a:lnTo>
                    <a:pt x="129" y="83"/>
                  </a:lnTo>
                  <a:lnTo>
                    <a:pt x="129" y="80"/>
                  </a:lnTo>
                  <a:lnTo>
                    <a:pt x="129" y="78"/>
                  </a:lnTo>
                  <a:lnTo>
                    <a:pt x="126" y="78"/>
                  </a:lnTo>
                  <a:lnTo>
                    <a:pt x="124" y="72"/>
                  </a:lnTo>
                  <a:lnTo>
                    <a:pt x="121" y="67"/>
                  </a:lnTo>
                  <a:lnTo>
                    <a:pt x="118" y="56"/>
                  </a:lnTo>
                  <a:lnTo>
                    <a:pt x="116" y="45"/>
                  </a:lnTo>
                  <a:lnTo>
                    <a:pt x="113" y="40"/>
                  </a:lnTo>
                  <a:lnTo>
                    <a:pt x="108" y="35"/>
                  </a:lnTo>
                  <a:lnTo>
                    <a:pt x="103" y="29"/>
                  </a:lnTo>
                  <a:lnTo>
                    <a:pt x="95" y="27"/>
                  </a:lnTo>
                  <a:lnTo>
                    <a:pt x="89" y="24"/>
                  </a:lnTo>
                  <a:lnTo>
                    <a:pt x="87" y="21"/>
                  </a:lnTo>
                  <a:lnTo>
                    <a:pt x="82" y="11"/>
                  </a:lnTo>
                  <a:lnTo>
                    <a:pt x="79" y="8"/>
                  </a:lnTo>
                  <a:lnTo>
                    <a:pt x="71" y="5"/>
                  </a:lnTo>
                  <a:lnTo>
                    <a:pt x="66" y="5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8" y="8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3" y="29"/>
                  </a:lnTo>
                  <a:lnTo>
                    <a:pt x="3" y="35"/>
                  </a:lnTo>
                  <a:lnTo>
                    <a:pt x="3" y="43"/>
                  </a:lnTo>
                  <a:lnTo>
                    <a:pt x="0" y="48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12040" y="4418280"/>
              <a:ext cx="353880" cy="230040"/>
            </a:xfrm>
            <a:custGeom>
              <a:avLst/>
              <a:gdLst/>
              <a:ahLst/>
              <a:rect l="l" t="t" r="r" b="b"/>
              <a:pathLst>
                <a:path w="223" h="145">
                  <a:moveTo>
                    <a:pt x="0" y="113"/>
                  </a:moveTo>
                  <a:lnTo>
                    <a:pt x="11" y="107"/>
                  </a:lnTo>
                  <a:lnTo>
                    <a:pt x="21" y="102"/>
                  </a:lnTo>
                  <a:lnTo>
                    <a:pt x="24" y="97"/>
                  </a:lnTo>
                  <a:lnTo>
                    <a:pt x="29" y="91"/>
                  </a:lnTo>
                  <a:lnTo>
                    <a:pt x="40" y="83"/>
                  </a:lnTo>
                  <a:lnTo>
                    <a:pt x="50" y="75"/>
                  </a:lnTo>
                  <a:lnTo>
                    <a:pt x="61" y="70"/>
                  </a:lnTo>
                  <a:lnTo>
                    <a:pt x="74" y="70"/>
                  </a:lnTo>
                  <a:lnTo>
                    <a:pt x="97" y="70"/>
                  </a:lnTo>
                  <a:lnTo>
                    <a:pt x="103" y="67"/>
                  </a:lnTo>
                  <a:lnTo>
                    <a:pt x="108" y="62"/>
                  </a:lnTo>
                  <a:lnTo>
                    <a:pt x="113" y="51"/>
                  </a:lnTo>
                  <a:lnTo>
                    <a:pt x="116" y="43"/>
                  </a:lnTo>
                  <a:lnTo>
                    <a:pt x="118" y="37"/>
                  </a:lnTo>
                  <a:lnTo>
                    <a:pt x="123" y="29"/>
                  </a:lnTo>
                  <a:lnTo>
                    <a:pt x="129" y="24"/>
                  </a:lnTo>
                  <a:lnTo>
                    <a:pt x="131" y="21"/>
                  </a:lnTo>
                  <a:lnTo>
                    <a:pt x="144" y="19"/>
                  </a:lnTo>
                  <a:lnTo>
                    <a:pt x="150" y="8"/>
                  </a:lnTo>
                  <a:lnTo>
                    <a:pt x="158" y="2"/>
                  </a:lnTo>
                  <a:lnTo>
                    <a:pt x="168" y="0"/>
                  </a:lnTo>
                  <a:lnTo>
                    <a:pt x="179" y="0"/>
                  </a:lnTo>
                  <a:lnTo>
                    <a:pt x="202" y="8"/>
                  </a:lnTo>
                  <a:lnTo>
                    <a:pt x="223" y="16"/>
                  </a:lnTo>
                  <a:lnTo>
                    <a:pt x="223" y="21"/>
                  </a:lnTo>
                  <a:lnTo>
                    <a:pt x="221" y="27"/>
                  </a:lnTo>
                  <a:lnTo>
                    <a:pt x="213" y="35"/>
                  </a:lnTo>
                  <a:lnTo>
                    <a:pt x="202" y="37"/>
                  </a:lnTo>
                  <a:lnTo>
                    <a:pt x="189" y="40"/>
                  </a:lnTo>
                  <a:lnTo>
                    <a:pt x="179" y="43"/>
                  </a:lnTo>
                  <a:lnTo>
                    <a:pt x="173" y="45"/>
                  </a:lnTo>
                  <a:lnTo>
                    <a:pt x="168" y="48"/>
                  </a:lnTo>
                  <a:lnTo>
                    <a:pt x="163" y="51"/>
                  </a:lnTo>
                  <a:lnTo>
                    <a:pt x="160" y="51"/>
                  </a:lnTo>
                  <a:lnTo>
                    <a:pt x="158" y="51"/>
                  </a:lnTo>
                  <a:lnTo>
                    <a:pt x="150" y="51"/>
                  </a:lnTo>
                  <a:lnTo>
                    <a:pt x="144" y="48"/>
                  </a:lnTo>
                  <a:lnTo>
                    <a:pt x="137" y="43"/>
                  </a:lnTo>
                  <a:lnTo>
                    <a:pt x="134" y="40"/>
                  </a:lnTo>
                  <a:lnTo>
                    <a:pt x="134" y="43"/>
                  </a:lnTo>
                  <a:lnTo>
                    <a:pt x="134" y="45"/>
                  </a:lnTo>
                  <a:lnTo>
                    <a:pt x="137" y="51"/>
                  </a:lnTo>
                  <a:lnTo>
                    <a:pt x="131" y="54"/>
                  </a:lnTo>
                  <a:lnTo>
                    <a:pt x="126" y="54"/>
                  </a:lnTo>
                  <a:lnTo>
                    <a:pt x="113" y="64"/>
                  </a:lnTo>
                  <a:lnTo>
                    <a:pt x="108" y="67"/>
                  </a:lnTo>
                  <a:lnTo>
                    <a:pt x="105" y="70"/>
                  </a:lnTo>
                  <a:lnTo>
                    <a:pt x="100" y="78"/>
                  </a:lnTo>
                  <a:lnTo>
                    <a:pt x="97" y="80"/>
                  </a:lnTo>
                  <a:lnTo>
                    <a:pt x="100" y="80"/>
                  </a:lnTo>
                  <a:lnTo>
                    <a:pt x="100" y="78"/>
                  </a:lnTo>
                  <a:lnTo>
                    <a:pt x="103" y="78"/>
                  </a:lnTo>
                  <a:lnTo>
                    <a:pt x="103" y="80"/>
                  </a:lnTo>
                  <a:lnTo>
                    <a:pt x="100" y="89"/>
                  </a:lnTo>
                  <a:lnTo>
                    <a:pt x="95" y="105"/>
                  </a:lnTo>
                  <a:lnTo>
                    <a:pt x="89" y="113"/>
                  </a:lnTo>
                  <a:lnTo>
                    <a:pt x="84" y="115"/>
                  </a:lnTo>
                  <a:lnTo>
                    <a:pt x="74" y="118"/>
                  </a:lnTo>
                  <a:lnTo>
                    <a:pt x="68" y="123"/>
                  </a:lnTo>
                  <a:lnTo>
                    <a:pt x="63" y="126"/>
                  </a:lnTo>
                  <a:lnTo>
                    <a:pt x="58" y="129"/>
                  </a:lnTo>
                  <a:lnTo>
                    <a:pt x="50" y="132"/>
                  </a:lnTo>
                  <a:lnTo>
                    <a:pt x="40" y="134"/>
                  </a:lnTo>
                  <a:lnTo>
                    <a:pt x="32" y="137"/>
                  </a:lnTo>
                  <a:lnTo>
                    <a:pt x="26" y="140"/>
                  </a:lnTo>
                  <a:lnTo>
                    <a:pt x="21" y="140"/>
                  </a:lnTo>
                  <a:lnTo>
                    <a:pt x="16" y="142"/>
                  </a:lnTo>
                  <a:lnTo>
                    <a:pt x="13" y="145"/>
                  </a:lnTo>
                  <a:lnTo>
                    <a:pt x="11" y="145"/>
                  </a:lnTo>
                  <a:lnTo>
                    <a:pt x="8" y="140"/>
                  </a:lnTo>
                  <a:lnTo>
                    <a:pt x="5" y="134"/>
                  </a:lnTo>
                  <a:lnTo>
                    <a:pt x="3" y="132"/>
                  </a:lnTo>
                  <a:lnTo>
                    <a:pt x="3" y="126"/>
                  </a:lnTo>
                  <a:lnTo>
                    <a:pt x="3" y="121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267600" y="3622680"/>
              <a:ext cx="495000" cy="358920"/>
            </a:xfrm>
            <a:custGeom>
              <a:avLst/>
              <a:gdLst/>
              <a:ahLst/>
              <a:rect l="l" t="t" r="r" b="b"/>
              <a:pathLst>
                <a:path w="312" h="226">
                  <a:moveTo>
                    <a:pt x="0" y="25"/>
                  </a:moveTo>
                  <a:lnTo>
                    <a:pt x="5" y="30"/>
                  </a:lnTo>
                  <a:lnTo>
                    <a:pt x="10" y="33"/>
                  </a:lnTo>
                  <a:lnTo>
                    <a:pt x="15" y="38"/>
                  </a:lnTo>
                  <a:lnTo>
                    <a:pt x="18" y="43"/>
                  </a:lnTo>
                  <a:lnTo>
                    <a:pt x="28" y="52"/>
                  </a:lnTo>
                  <a:lnTo>
                    <a:pt x="39" y="57"/>
                  </a:lnTo>
                  <a:lnTo>
                    <a:pt x="44" y="62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7" y="62"/>
                  </a:lnTo>
                  <a:lnTo>
                    <a:pt x="62" y="60"/>
                  </a:lnTo>
                  <a:lnTo>
                    <a:pt x="81" y="62"/>
                  </a:lnTo>
                  <a:lnTo>
                    <a:pt x="97" y="68"/>
                  </a:lnTo>
                  <a:lnTo>
                    <a:pt x="110" y="76"/>
                  </a:lnTo>
                  <a:lnTo>
                    <a:pt x="125" y="81"/>
                  </a:lnTo>
                  <a:lnTo>
                    <a:pt x="133" y="81"/>
                  </a:lnTo>
                  <a:lnTo>
                    <a:pt x="141" y="78"/>
                  </a:lnTo>
                  <a:lnTo>
                    <a:pt x="146" y="73"/>
                  </a:lnTo>
                  <a:lnTo>
                    <a:pt x="152" y="70"/>
                  </a:lnTo>
                  <a:lnTo>
                    <a:pt x="154" y="76"/>
                  </a:lnTo>
                  <a:lnTo>
                    <a:pt x="157" y="81"/>
                  </a:lnTo>
                  <a:lnTo>
                    <a:pt x="159" y="89"/>
                  </a:lnTo>
                  <a:lnTo>
                    <a:pt x="162" y="92"/>
                  </a:lnTo>
                  <a:lnTo>
                    <a:pt x="162" y="113"/>
                  </a:lnTo>
                  <a:lnTo>
                    <a:pt x="165" y="132"/>
                  </a:lnTo>
                  <a:lnTo>
                    <a:pt x="167" y="140"/>
                  </a:lnTo>
                  <a:lnTo>
                    <a:pt x="167" y="151"/>
                  </a:lnTo>
                  <a:lnTo>
                    <a:pt x="170" y="167"/>
                  </a:lnTo>
                  <a:lnTo>
                    <a:pt x="173" y="178"/>
                  </a:lnTo>
                  <a:lnTo>
                    <a:pt x="175" y="189"/>
                  </a:lnTo>
                  <a:lnTo>
                    <a:pt x="186" y="197"/>
                  </a:lnTo>
                  <a:lnTo>
                    <a:pt x="199" y="210"/>
                  </a:lnTo>
                  <a:lnTo>
                    <a:pt x="204" y="218"/>
                  </a:lnTo>
                  <a:lnTo>
                    <a:pt x="209" y="226"/>
                  </a:lnTo>
                  <a:lnTo>
                    <a:pt x="220" y="221"/>
                  </a:lnTo>
                  <a:lnTo>
                    <a:pt x="230" y="216"/>
                  </a:lnTo>
                  <a:lnTo>
                    <a:pt x="233" y="210"/>
                  </a:lnTo>
                  <a:lnTo>
                    <a:pt x="236" y="205"/>
                  </a:lnTo>
                  <a:lnTo>
                    <a:pt x="241" y="199"/>
                  </a:lnTo>
                  <a:lnTo>
                    <a:pt x="246" y="197"/>
                  </a:lnTo>
                  <a:lnTo>
                    <a:pt x="257" y="194"/>
                  </a:lnTo>
                  <a:lnTo>
                    <a:pt x="259" y="178"/>
                  </a:lnTo>
                  <a:lnTo>
                    <a:pt x="254" y="165"/>
                  </a:lnTo>
                  <a:lnTo>
                    <a:pt x="249" y="154"/>
                  </a:lnTo>
                  <a:lnTo>
                    <a:pt x="241" y="140"/>
                  </a:lnTo>
                  <a:lnTo>
                    <a:pt x="236" y="130"/>
                  </a:lnTo>
                  <a:lnTo>
                    <a:pt x="236" y="121"/>
                  </a:lnTo>
                  <a:lnTo>
                    <a:pt x="233" y="119"/>
                  </a:lnTo>
                  <a:lnTo>
                    <a:pt x="236" y="119"/>
                  </a:lnTo>
                  <a:lnTo>
                    <a:pt x="236" y="119"/>
                  </a:lnTo>
                  <a:lnTo>
                    <a:pt x="233" y="116"/>
                  </a:lnTo>
                  <a:lnTo>
                    <a:pt x="228" y="108"/>
                  </a:lnTo>
                  <a:lnTo>
                    <a:pt x="230" y="103"/>
                  </a:lnTo>
                  <a:lnTo>
                    <a:pt x="230" y="97"/>
                  </a:lnTo>
                  <a:lnTo>
                    <a:pt x="238" y="87"/>
                  </a:lnTo>
                  <a:lnTo>
                    <a:pt x="246" y="76"/>
                  </a:lnTo>
                  <a:lnTo>
                    <a:pt x="251" y="62"/>
                  </a:lnTo>
                  <a:lnTo>
                    <a:pt x="259" y="52"/>
                  </a:lnTo>
                  <a:lnTo>
                    <a:pt x="277" y="35"/>
                  </a:lnTo>
                  <a:lnTo>
                    <a:pt x="293" y="17"/>
                  </a:lnTo>
                  <a:lnTo>
                    <a:pt x="31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342040" y="6002280"/>
              <a:ext cx="882720" cy="319320"/>
            </a:xfrm>
            <a:custGeom>
              <a:avLst/>
              <a:gdLst/>
              <a:ahLst/>
              <a:rect l="l" t="t" r="r" b="b"/>
              <a:pathLst>
                <a:path w="556" h="201">
                  <a:moveTo>
                    <a:pt x="0" y="0"/>
                  </a:moveTo>
                  <a:lnTo>
                    <a:pt x="11" y="2"/>
                  </a:lnTo>
                  <a:lnTo>
                    <a:pt x="16" y="5"/>
                  </a:lnTo>
                  <a:lnTo>
                    <a:pt x="21" y="10"/>
                  </a:lnTo>
                  <a:lnTo>
                    <a:pt x="27" y="19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24"/>
                  </a:lnTo>
                  <a:lnTo>
                    <a:pt x="37" y="29"/>
                  </a:lnTo>
                  <a:lnTo>
                    <a:pt x="48" y="40"/>
                  </a:lnTo>
                  <a:lnTo>
                    <a:pt x="55" y="51"/>
                  </a:lnTo>
                  <a:lnTo>
                    <a:pt x="58" y="56"/>
                  </a:lnTo>
                  <a:lnTo>
                    <a:pt x="58" y="62"/>
                  </a:lnTo>
                  <a:lnTo>
                    <a:pt x="63" y="64"/>
                  </a:lnTo>
                  <a:lnTo>
                    <a:pt x="69" y="64"/>
                  </a:lnTo>
                  <a:lnTo>
                    <a:pt x="79" y="72"/>
                  </a:lnTo>
                  <a:lnTo>
                    <a:pt x="89" y="78"/>
                  </a:lnTo>
                  <a:lnTo>
                    <a:pt x="95" y="80"/>
                  </a:lnTo>
                  <a:lnTo>
                    <a:pt x="100" y="83"/>
                  </a:lnTo>
                  <a:lnTo>
                    <a:pt x="118" y="91"/>
                  </a:lnTo>
                  <a:lnTo>
                    <a:pt x="137" y="99"/>
                  </a:lnTo>
                  <a:lnTo>
                    <a:pt x="147" y="102"/>
                  </a:lnTo>
                  <a:lnTo>
                    <a:pt x="160" y="107"/>
                  </a:lnTo>
                  <a:lnTo>
                    <a:pt x="171" y="110"/>
                  </a:lnTo>
                  <a:lnTo>
                    <a:pt x="181" y="115"/>
                  </a:lnTo>
                  <a:lnTo>
                    <a:pt x="200" y="126"/>
                  </a:lnTo>
                  <a:lnTo>
                    <a:pt x="221" y="134"/>
                  </a:lnTo>
                  <a:lnTo>
                    <a:pt x="265" y="142"/>
                  </a:lnTo>
                  <a:lnTo>
                    <a:pt x="284" y="140"/>
                  </a:lnTo>
                  <a:lnTo>
                    <a:pt x="291" y="137"/>
                  </a:lnTo>
                  <a:lnTo>
                    <a:pt x="299" y="137"/>
                  </a:lnTo>
                  <a:lnTo>
                    <a:pt x="305" y="140"/>
                  </a:lnTo>
                  <a:lnTo>
                    <a:pt x="310" y="140"/>
                  </a:lnTo>
                  <a:lnTo>
                    <a:pt x="318" y="142"/>
                  </a:lnTo>
                  <a:lnTo>
                    <a:pt x="326" y="142"/>
                  </a:lnTo>
                  <a:lnTo>
                    <a:pt x="333" y="145"/>
                  </a:lnTo>
                  <a:lnTo>
                    <a:pt x="341" y="148"/>
                  </a:lnTo>
                  <a:lnTo>
                    <a:pt x="352" y="153"/>
                  </a:lnTo>
                  <a:lnTo>
                    <a:pt x="362" y="161"/>
                  </a:lnTo>
                  <a:lnTo>
                    <a:pt x="367" y="164"/>
                  </a:lnTo>
                  <a:lnTo>
                    <a:pt x="373" y="164"/>
                  </a:lnTo>
                  <a:lnTo>
                    <a:pt x="388" y="175"/>
                  </a:lnTo>
                  <a:lnTo>
                    <a:pt x="404" y="185"/>
                  </a:lnTo>
                  <a:lnTo>
                    <a:pt x="409" y="191"/>
                  </a:lnTo>
                  <a:lnTo>
                    <a:pt x="415" y="193"/>
                  </a:lnTo>
                  <a:lnTo>
                    <a:pt x="423" y="199"/>
                  </a:lnTo>
                  <a:lnTo>
                    <a:pt x="425" y="201"/>
                  </a:lnTo>
                  <a:lnTo>
                    <a:pt x="430" y="196"/>
                  </a:lnTo>
                  <a:lnTo>
                    <a:pt x="433" y="191"/>
                  </a:lnTo>
                  <a:lnTo>
                    <a:pt x="433" y="183"/>
                  </a:lnTo>
                  <a:lnTo>
                    <a:pt x="430" y="169"/>
                  </a:lnTo>
                  <a:lnTo>
                    <a:pt x="430" y="158"/>
                  </a:lnTo>
                  <a:lnTo>
                    <a:pt x="433" y="148"/>
                  </a:lnTo>
                  <a:lnTo>
                    <a:pt x="438" y="145"/>
                  </a:lnTo>
                  <a:lnTo>
                    <a:pt x="444" y="142"/>
                  </a:lnTo>
                  <a:lnTo>
                    <a:pt x="454" y="145"/>
                  </a:lnTo>
                  <a:lnTo>
                    <a:pt x="459" y="145"/>
                  </a:lnTo>
                  <a:lnTo>
                    <a:pt x="465" y="140"/>
                  </a:lnTo>
                  <a:lnTo>
                    <a:pt x="472" y="132"/>
                  </a:lnTo>
                  <a:lnTo>
                    <a:pt x="470" y="126"/>
                  </a:lnTo>
                  <a:lnTo>
                    <a:pt x="465" y="121"/>
                  </a:lnTo>
                  <a:lnTo>
                    <a:pt x="462" y="115"/>
                  </a:lnTo>
                  <a:lnTo>
                    <a:pt x="462" y="110"/>
                  </a:lnTo>
                  <a:lnTo>
                    <a:pt x="457" y="105"/>
                  </a:lnTo>
                  <a:lnTo>
                    <a:pt x="451" y="99"/>
                  </a:lnTo>
                  <a:lnTo>
                    <a:pt x="449" y="94"/>
                  </a:lnTo>
                  <a:lnTo>
                    <a:pt x="446" y="88"/>
                  </a:lnTo>
                  <a:lnTo>
                    <a:pt x="451" y="88"/>
                  </a:lnTo>
                  <a:lnTo>
                    <a:pt x="457" y="86"/>
                  </a:lnTo>
                  <a:lnTo>
                    <a:pt x="462" y="80"/>
                  </a:lnTo>
                  <a:lnTo>
                    <a:pt x="465" y="75"/>
                  </a:lnTo>
                  <a:lnTo>
                    <a:pt x="467" y="70"/>
                  </a:lnTo>
                  <a:lnTo>
                    <a:pt x="467" y="64"/>
                  </a:lnTo>
                  <a:lnTo>
                    <a:pt x="478" y="59"/>
                  </a:lnTo>
                  <a:lnTo>
                    <a:pt x="488" y="56"/>
                  </a:lnTo>
                  <a:lnTo>
                    <a:pt x="493" y="56"/>
                  </a:lnTo>
                  <a:lnTo>
                    <a:pt x="499" y="54"/>
                  </a:lnTo>
                  <a:lnTo>
                    <a:pt x="506" y="54"/>
                  </a:lnTo>
                  <a:lnTo>
                    <a:pt x="509" y="51"/>
                  </a:lnTo>
                  <a:lnTo>
                    <a:pt x="514" y="54"/>
                  </a:lnTo>
                  <a:lnTo>
                    <a:pt x="520" y="56"/>
                  </a:lnTo>
                  <a:lnTo>
                    <a:pt x="522" y="62"/>
                  </a:lnTo>
                  <a:lnTo>
                    <a:pt x="525" y="67"/>
                  </a:lnTo>
                  <a:lnTo>
                    <a:pt x="527" y="72"/>
                  </a:lnTo>
                  <a:lnTo>
                    <a:pt x="530" y="78"/>
                  </a:lnTo>
                  <a:lnTo>
                    <a:pt x="535" y="88"/>
                  </a:lnTo>
                  <a:lnTo>
                    <a:pt x="538" y="99"/>
                  </a:lnTo>
                  <a:lnTo>
                    <a:pt x="541" y="110"/>
                  </a:lnTo>
                  <a:lnTo>
                    <a:pt x="546" y="121"/>
                  </a:lnTo>
                  <a:lnTo>
                    <a:pt x="551" y="129"/>
                  </a:lnTo>
                  <a:lnTo>
                    <a:pt x="551" y="132"/>
                  </a:lnTo>
                  <a:lnTo>
                    <a:pt x="554" y="134"/>
                  </a:lnTo>
                  <a:lnTo>
                    <a:pt x="556" y="1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58040" y="5749920"/>
              <a:ext cx="657000" cy="204840"/>
            </a:xfrm>
            <a:custGeom>
              <a:avLst/>
              <a:gdLst/>
              <a:ahLst/>
              <a:rect l="l" t="t" r="r" b="b"/>
              <a:pathLst>
                <a:path w="414" h="129">
                  <a:moveTo>
                    <a:pt x="16" y="51"/>
                  </a:moveTo>
                  <a:lnTo>
                    <a:pt x="29" y="38"/>
                  </a:lnTo>
                  <a:lnTo>
                    <a:pt x="42" y="27"/>
                  </a:lnTo>
                  <a:lnTo>
                    <a:pt x="76" y="11"/>
                  </a:lnTo>
                  <a:lnTo>
                    <a:pt x="81" y="8"/>
                  </a:lnTo>
                  <a:lnTo>
                    <a:pt x="87" y="5"/>
                  </a:lnTo>
                  <a:lnTo>
                    <a:pt x="95" y="3"/>
                  </a:lnTo>
                  <a:lnTo>
                    <a:pt x="100" y="0"/>
                  </a:lnTo>
                  <a:lnTo>
                    <a:pt x="126" y="8"/>
                  </a:lnTo>
                  <a:lnTo>
                    <a:pt x="152" y="16"/>
                  </a:lnTo>
                  <a:lnTo>
                    <a:pt x="178" y="19"/>
                  </a:lnTo>
                  <a:lnTo>
                    <a:pt x="205" y="19"/>
                  </a:lnTo>
                  <a:lnTo>
                    <a:pt x="210" y="22"/>
                  </a:lnTo>
                  <a:lnTo>
                    <a:pt x="215" y="22"/>
                  </a:lnTo>
                  <a:lnTo>
                    <a:pt x="220" y="27"/>
                  </a:lnTo>
                  <a:lnTo>
                    <a:pt x="226" y="30"/>
                  </a:lnTo>
                  <a:lnTo>
                    <a:pt x="239" y="35"/>
                  </a:lnTo>
                  <a:lnTo>
                    <a:pt x="244" y="38"/>
                  </a:lnTo>
                  <a:lnTo>
                    <a:pt x="247" y="38"/>
                  </a:lnTo>
                  <a:lnTo>
                    <a:pt x="252" y="30"/>
                  </a:lnTo>
                  <a:lnTo>
                    <a:pt x="255" y="27"/>
                  </a:lnTo>
                  <a:lnTo>
                    <a:pt x="260" y="27"/>
                  </a:lnTo>
                  <a:lnTo>
                    <a:pt x="265" y="30"/>
                  </a:lnTo>
                  <a:lnTo>
                    <a:pt x="275" y="38"/>
                  </a:lnTo>
                  <a:lnTo>
                    <a:pt x="286" y="43"/>
                  </a:lnTo>
                  <a:lnTo>
                    <a:pt x="291" y="46"/>
                  </a:lnTo>
                  <a:lnTo>
                    <a:pt x="296" y="48"/>
                  </a:lnTo>
                  <a:lnTo>
                    <a:pt x="302" y="51"/>
                  </a:lnTo>
                  <a:lnTo>
                    <a:pt x="307" y="54"/>
                  </a:lnTo>
                  <a:lnTo>
                    <a:pt x="320" y="59"/>
                  </a:lnTo>
                  <a:lnTo>
                    <a:pt x="325" y="62"/>
                  </a:lnTo>
                  <a:lnTo>
                    <a:pt x="328" y="62"/>
                  </a:lnTo>
                  <a:lnTo>
                    <a:pt x="333" y="56"/>
                  </a:lnTo>
                  <a:lnTo>
                    <a:pt x="338" y="54"/>
                  </a:lnTo>
                  <a:lnTo>
                    <a:pt x="344" y="54"/>
                  </a:lnTo>
                  <a:lnTo>
                    <a:pt x="349" y="59"/>
                  </a:lnTo>
                  <a:lnTo>
                    <a:pt x="352" y="65"/>
                  </a:lnTo>
                  <a:lnTo>
                    <a:pt x="352" y="70"/>
                  </a:lnTo>
                  <a:lnTo>
                    <a:pt x="352" y="75"/>
                  </a:lnTo>
                  <a:lnTo>
                    <a:pt x="349" y="81"/>
                  </a:lnTo>
                  <a:lnTo>
                    <a:pt x="352" y="86"/>
                  </a:lnTo>
                  <a:lnTo>
                    <a:pt x="357" y="91"/>
                  </a:lnTo>
                  <a:lnTo>
                    <a:pt x="362" y="91"/>
                  </a:lnTo>
                  <a:lnTo>
                    <a:pt x="367" y="94"/>
                  </a:lnTo>
                  <a:lnTo>
                    <a:pt x="386" y="97"/>
                  </a:lnTo>
                  <a:lnTo>
                    <a:pt x="401" y="100"/>
                  </a:lnTo>
                  <a:lnTo>
                    <a:pt x="409" y="102"/>
                  </a:lnTo>
                  <a:lnTo>
                    <a:pt x="414" y="102"/>
                  </a:lnTo>
                  <a:lnTo>
                    <a:pt x="404" y="105"/>
                  </a:lnTo>
                  <a:lnTo>
                    <a:pt x="399" y="108"/>
                  </a:lnTo>
                  <a:lnTo>
                    <a:pt x="394" y="113"/>
                  </a:lnTo>
                  <a:lnTo>
                    <a:pt x="391" y="118"/>
                  </a:lnTo>
                  <a:lnTo>
                    <a:pt x="388" y="124"/>
                  </a:lnTo>
                  <a:lnTo>
                    <a:pt x="375" y="126"/>
                  </a:lnTo>
                  <a:lnTo>
                    <a:pt x="370" y="129"/>
                  </a:lnTo>
                  <a:lnTo>
                    <a:pt x="367" y="129"/>
                  </a:lnTo>
                  <a:lnTo>
                    <a:pt x="354" y="129"/>
                  </a:lnTo>
                  <a:lnTo>
                    <a:pt x="338" y="126"/>
                  </a:lnTo>
                  <a:lnTo>
                    <a:pt x="325" y="126"/>
                  </a:lnTo>
                  <a:lnTo>
                    <a:pt x="317" y="126"/>
                  </a:lnTo>
                  <a:lnTo>
                    <a:pt x="302" y="126"/>
                  </a:lnTo>
                  <a:lnTo>
                    <a:pt x="296" y="129"/>
                  </a:lnTo>
                  <a:lnTo>
                    <a:pt x="294" y="129"/>
                  </a:lnTo>
                  <a:lnTo>
                    <a:pt x="291" y="129"/>
                  </a:lnTo>
                  <a:lnTo>
                    <a:pt x="289" y="129"/>
                  </a:lnTo>
                  <a:lnTo>
                    <a:pt x="283" y="129"/>
                  </a:lnTo>
                  <a:lnTo>
                    <a:pt x="273" y="126"/>
                  </a:lnTo>
                  <a:lnTo>
                    <a:pt x="278" y="121"/>
                  </a:lnTo>
                  <a:lnTo>
                    <a:pt x="283" y="116"/>
                  </a:lnTo>
                  <a:lnTo>
                    <a:pt x="289" y="110"/>
                  </a:lnTo>
                  <a:lnTo>
                    <a:pt x="286" y="105"/>
                  </a:lnTo>
                  <a:lnTo>
                    <a:pt x="265" y="94"/>
                  </a:lnTo>
                  <a:lnTo>
                    <a:pt x="241" y="83"/>
                  </a:lnTo>
                  <a:lnTo>
                    <a:pt x="239" y="78"/>
                  </a:lnTo>
                  <a:lnTo>
                    <a:pt x="234" y="73"/>
                  </a:lnTo>
                  <a:lnTo>
                    <a:pt x="228" y="70"/>
                  </a:lnTo>
                  <a:lnTo>
                    <a:pt x="223" y="70"/>
                  </a:lnTo>
                  <a:lnTo>
                    <a:pt x="213" y="67"/>
                  </a:lnTo>
                  <a:lnTo>
                    <a:pt x="210" y="67"/>
                  </a:lnTo>
                  <a:lnTo>
                    <a:pt x="210" y="67"/>
                  </a:lnTo>
                  <a:lnTo>
                    <a:pt x="210" y="67"/>
                  </a:lnTo>
                  <a:lnTo>
                    <a:pt x="213" y="67"/>
                  </a:lnTo>
                  <a:lnTo>
                    <a:pt x="210" y="67"/>
                  </a:lnTo>
                  <a:lnTo>
                    <a:pt x="202" y="65"/>
                  </a:lnTo>
                  <a:lnTo>
                    <a:pt x="189" y="59"/>
                  </a:lnTo>
                  <a:lnTo>
                    <a:pt x="184" y="56"/>
                  </a:lnTo>
                  <a:lnTo>
                    <a:pt x="178" y="54"/>
                  </a:lnTo>
                  <a:lnTo>
                    <a:pt x="171" y="54"/>
                  </a:lnTo>
                  <a:lnTo>
                    <a:pt x="168" y="51"/>
                  </a:lnTo>
                  <a:lnTo>
                    <a:pt x="157" y="54"/>
                  </a:lnTo>
                  <a:lnTo>
                    <a:pt x="152" y="54"/>
                  </a:lnTo>
                  <a:lnTo>
                    <a:pt x="142" y="56"/>
                  </a:lnTo>
                  <a:lnTo>
                    <a:pt x="131" y="56"/>
                  </a:lnTo>
                  <a:lnTo>
                    <a:pt x="123" y="56"/>
                  </a:lnTo>
                  <a:lnTo>
                    <a:pt x="116" y="54"/>
                  </a:lnTo>
                  <a:lnTo>
                    <a:pt x="110" y="51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97" y="38"/>
                  </a:lnTo>
                  <a:lnTo>
                    <a:pt x="100" y="35"/>
                  </a:lnTo>
                  <a:lnTo>
                    <a:pt x="102" y="38"/>
                  </a:lnTo>
                  <a:lnTo>
                    <a:pt x="105" y="40"/>
                  </a:lnTo>
                  <a:lnTo>
                    <a:pt x="108" y="40"/>
                  </a:lnTo>
                  <a:lnTo>
                    <a:pt x="110" y="30"/>
                  </a:lnTo>
                  <a:lnTo>
                    <a:pt x="110" y="27"/>
                  </a:lnTo>
                  <a:lnTo>
                    <a:pt x="105" y="27"/>
                  </a:lnTo>
                  <a:lnTo>
                    <a:pt x="100" y="30"/>
                  </a:lnTo>
                  <a:lnTo>
                    <a:pt x="92" y="30"/>
                  </a:lnTo>
                  <a:lnTo>
                    <a:pt x="79" y="32"/>
                  </a:lnTo>
                  <a:lnTo>
                    <a:pt x="71" y="35"/>
                  </a:lnTo>
                  <a:lnTo>
                    <a:pt x="66" y="38"/>
                  </a:lnTo>
                  <a:lnTo>
                    <a:pt x="60" y="40"/>
                  </a:lnTo>
                  <a:lnTo>
                    <a:pt x="58" y="43"/>
                  </a:lnTo>
                  <a:lnTo>
                    <a:pt x="53" y="46"/>
                  </a:lnTo>
                  <a:lnTo>
                    <a:pt x="47" y="48"/>
                  </a:lnTo>
                  <a:lnTo>
                    <a:pt x="42" y="48"/>
                  </a:lnTo>
                  <a:lnTo>
                    <a:pt x="37" y="51"/>
                  </a:lnTo>
                  <a:lnTo>
                    <a:pt x="26" y="56"/>
                  </a:lnTo>
                  <a:lnTo>
                    <a:pt x="18" y="62"/>
                  </a:lnTo>
                  <a:lnTo>
                    <a:pt x="11" y="65"/>
                  </a:lnTo>
                  <a:lnTo>
                    <a:pt x="0" y="6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73840" y="6023160"/>
              <a:ext cx="117360" cy="6516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0" y="16"/>
                  </a:moveTo>
                  <a:lnTo>
                    <a:pt x="6" y="14"/>
                  </a:lnTo>
                  <a:lnTo>
                    <a:pt x="11" y="8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45" y="6"/>
                  </a:lnTo>
                  <a:lnTo>
                    <a:pt x="55" y="11"/>
                  </a:lnTo>
                  <a:lnTo>
                    <a:pt x="66" y="19"/>
                  </a:lnTo>
                  <a:lnTo>
                    <a:pt x="74" y="32"/>
                  </a:lnTo>
                  <a:lnTo>
                    <a:pt x="58" y="38"/>
                  </a:lnTo>
                  <a:lnTo>
                    <a:pt x="45" y="41"/>
                  </a:lnTo>
                  <a:lnTo>
                    <a:pt x="16" y="38"/>
                  </a:lnTo>
                  <a:lnTo>
                    <a:pt x="11" y="35"/>
                  </a:lnTo>
                  <a:lnTo>
                    <a:pt x="6" y="35"/>
                  </a:lnTo>
                  <a:lnTo>
                    <a:pt x="3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099200" y="5911920"/>
              <a:ext cx="408240" cy="136440"/>
            </a:xfrm>
            <a:custGeom>
              <a:avLst/>
              <a:gdLst/>
              <a:ahLst/>
              <a:rect l="l" t="t" r="r" b="b"/>
              <a:pathLst>
                <a:path w="257" h="86">
                  <a:moveTo>
                    <a:pt x="8" y="59"/>
                  </a:moveTo>
                  <a:lnTo>
                    <a:pt x="18" y="62"/>
                  </a:lnTo>
                  <a:lnTo>
                    <a:pt x="29" y="67"/>
                  </a:lnTo>
                  <a:lnTo>
                    <a:pt x="34" y="73"/>
                  </a:lnTo>
                  <a:lnTo>
                    <a:pt x="39" y="76"/>
                  </a:lnTo>
                  <a:lnTo>
                    <a:pt x="47" y="78"/>
                  </a:lnTo>
                  <a:lnTo>
                    <a:pt x="50" y="81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2" y="81"/>
                  </a:lnTo>
                  <a:lnTo>
                    <a:pt x="60" y="86"/>
                  </a:lnTo>
                  <a:lnTo>
                    <a:pt x="71" y="78"/>
                  </a:lnTo>
                  <a:lnTo>
                    <a:pt x="81" y="76"/>
                  </a:lnTo>
                  <a:lnTo>
                    <a:pt x="87" y="78"/>
                  </a:lnTo>
                  <a:lnTo>
                    <a:pt x="92" y="78"/>
                  </a:lnTo>
                  <a:lnTo>
                    <a:pt x="108" y="81"/>
                  </a:lnTo>
                  <a:lnTo>
                    <a:pt x="123" y="81"/>
                  </a:lnTo>
                  <a:lnTo>
                    <a:pt x="128" y="86"/>
                  </a:lnTo>
                  <a:lnTo>
                    <a:pt x="131" y="86"/>
                  </a:lnTo>
                  <a:lnTo>
                    <a:pt x="134" y="86"/>
                  </a:lnTo>
                  <a:lnTo>
                    <a:pt x="139" y="78"/>
                  </a:lnTo>
                  <a:lnTo>
                    <a:pt x="139" y="70"/>
                  </a:lnTo>
                  <a:lnTo>
                    <a:pt x="142" y="59"/>
                  </a:lnTo>
                  <a:lnTo>
                    <a:pt x="147" y="54"/>
                  </a:lnTo>
                  <a:lnTo>
                    <a:pt x="157" y="51"/>
                  </a:lnTo>
                  <a:lnTo>
                    <a:pt x="168" y="46"/>
                  </a:lnTo>
                  <a:lnTo>
                    <a:pt x="178" y="43"/>
                  </a:lnTo>
                  <a:lnTo>
                    <a:pt x="186" y="43"/>
                  </a:lnTo>
                  <a:lnTo>
                    <a:pt x="199" y="46"/>
                  </a:lnTo>
                  <a:lnTo>
                    <a:pt x="210" y="49"/>
                  </a:lnTo>
                  <a:lnTo>
                    <a:pt x="226" y="49"/>
                  </a:lnTo>
                  <a:lnTo>
                    <a:pt x="239" y="49"/>
                  </a:lnTo>
                  <a:lnTo>
                    <a:pt x="257" y="38"/>
                  </a:lnTo>
                  <a:lnTo>
                    <a:pt x="254" y="32"/>
                  </a:lnTo>
                  <a:lnTo>
                    <a:pt x="252" y="27"/>
                  </a:lnTo>
                  <a:lnTo>
                    <a:pt x="246" y="27"/>
                  </a:lnTo>
                  <a:lnTo>
                    <a:pt x="239" y="22"/>
                  </a:lnTo>
                  <a:lnTo>
                    <a:pt x="228" y="19"/>
                  </a:lnTo>
                  <a:lnTo>
                    <a:pt x="220" y="16"/>
                  </a:lnTo>
                  <a:lnTo>
                    <a:pt x="215" y="16"/>
                  </a:lnTo>
                  <a:lnTo>
                    <a:pt x="210" y="14"/>
                  </a:lnTo>
                  <a:lnTo>
                    <a:pt x="205" y="14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205" y="6"/>
                  </a:lnTo>
                  <a:lnTo>
                    <a:pt x="210" y="3"/>
                  </a:lnTo>
                  <a:lnTo>
                    <a:pt x="210" y="3"/>
                  </a:lnTo>
                  <a:lnTo>
                    <a:pt x="205" y="6"/>
                  </a:lnTo>
                  <a:lnTo>
                    <a:pt x="197" y="6"/>
                  </a:lnTo>
                  <a:lnTo>
                    <a:pt x="186" y="3"/>
                  </a:lnTo>
                  <a:lnTo>
                    <a:pt x="173" y="0"/>
                  </a:lnTo>
                  <a:lnTo>
                    <a:pt x="142" y="6"/>
                  </a:lnTo>
                  <a:lnTo>
                    <a:pt x="113" y="11"/>
                  </a:lnTo>
                  <a:lnTo>
                    <a:pt x="50" y="14"/>
                  </a:lnTo>
                  <a:lnTo>
                    <a:pt x="58" y="16"/>
                  </a:lnTo>
                  <a:lnTo>
                    <a:pt x="60" y="19"/>
                  </a:lnTo>
                  <a:lnTo>
                    <a:pt x="66" y="24"/>
                  </a:lnTo>
                  <a:lnTo>
                    <a:pt x="68" y="32"/>
                  </a:lnTo>
                  <a:lnTo>
                    <a:pt x="71" y="38"/>
                  </a:lnTo>
                  <a:lnTo>
                    <a:pt x="71" y="46"/>
                  </a:lnTo>
                  <a:lnTo>
                    <a:pt x="73" y="51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60" y="59"/>
                  </a:lnTo>
                  <a:lnTo>
                    <a:pt x="52" y="65"/>
                  </a:lnTo>
                  <a:lnTo>
                    <a:pt x="39" y="67"/>
                  </a:lnTo>
                  <a:lnTo>
                    <a:pt x="31" y="70"/>
                  </a:lnTo>
                  <a:lnTo>
                    <a:pt x="26" y="70"/>
                  </a:lnTo>
                  <a:lnTo>
                    <a:pt x="21" y="73"/>
                  </a:lnTo>
                  <a:lnTo>
                    <a:pt x="10" y="73"/>
                  </a:lnTo>
                  <a:lnTo>
                    <a:pt x="3" y="76"/>
                  </a:lnTo>
                  <a:lnTo>
                    <a:pt x="0" y="8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40560" y="5904000"/>
              <a:ext cx="104760" cy="7308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5" y="32"/>
                  </a:moveTo>
                  <a:lnTo>
                    <a:pt x="26" y="32"/>
                  </a:lnTo>
                  <a:lnTo>
                    <a:pt x="45" y="29"/>
                  </a:lnTo>
                  <a:lnTo>
                    <a:pt x="52" y="29"/>
                  </a:lnTo>
                  <a:lnTo>
                    <a:pt x="58" y="27"/>
                  </a:lnTo>
                  <a:lnTo>
                    <a:pt x="63" y="24"/>
                  </a:lnTo>
                  <a:lnTo>
                    <a:pt x="66" y="21"/>
                  </a:lnTo>
                  <a:lnTo>
                    <a:pt x="66" y="11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2" y="5"/>
                  </a:lnTo>
                  <a:lnTo>
                    <a:pt x="47" y="8"/>
                  </a:lnTo>
                  <a:lnTo>
                    <a:pt x="42" y="11"/>
                  </a:lnTo>
                  <a:lnTo>
                    <a:pt x="31" y="16"/>
                  </a:lnTo>
                  <a:lnTo>
                    <a:pt x="21" y="19"/>
                  </a:lnTo>
                  <a:lnTo>
                    <a:pt x="16" y="21"/>
                  </a:lnTo>
                  <a:lnTo>
                    <a:pt x="8" y="27"/>
                  </a:lnTo>
                  <a:lnTo>
                    <a:pt x="3" y="29"/>
                  </a:lnTo>
                  <a:lnTo>
                    <a:pt x="0" y="32"/>
                  </a:lnTo>
                  <a:lnTo>
                    <a:pt x="3" y="43"/>
                  </a:lnTo>
                  <a:lnTo>
                    <a:pt x="3" y="46"/>
                  </a:lnTo>
                  <a:lnTo>
                    <a:pt x="3" y="43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38800" y="3602160"/>
              <a:ext cx="2901960" cy="2822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9368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4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/Des flux de population</a:t>
            </a:r>
            <a:br>
              <a:rPr sz="18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Interne</a:t>
            </a:r>
            <a:br>
              <a:rPr sz="1400"/>
            </a:b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xterne          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           Migrations clandestines</a:t>
            </a:r>
            <a:br>
              <a:rPr sz="1400"/>
            </a:b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           Flux provenant essentiellement d’ Europe</a:t>
            </a:r>
            <a:br>
              <a:rPr sz="1400"/>
            </a:b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           Flux provenant essentiellement d ’Amérique latin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 centre, la mégalopolis, concentre les pouvoirs économiques et financiers. Une reconversion réussi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523880" y="685800"/>
            <a:ext cx="609840" cy="228600"/>
          </a:xfrm>
          <a:custGeom>
            <a:avLst/>
            <a:gdLst>
              <a:gd name="textAreaLeft" fmla="*/ 81720 w 609840"/>
              <a:gd name="textAreaRight" fmla="*/ 528120 w 60984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09680" y="609480"/>
            <a:ext cx="4953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Vers le croissant périph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393480" cy="380880"/>
          </a:xfrm>
          <a:prstGeom prst="rect">
            <a:avLst/>
          </a:prstGeom>
          <a:ln w="0">
            <a:noFill/>
          </a:ln>
        </p:spPr>
      </p:pic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457200" cy="36360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/>
          <p:nvPr/>
        </p:nvSpPr>
        <p:spPr>
          <a:xfrm>
            <a:off x="1447920" y="1828800"/>
            <a:ext cx="304560" cy="76320"/>
          </a:xfrm>
          <a:prstGeom prst="leftArrow">
            <a:avLst>
              <a:gd name="adj1" fmla="val 50000"/>
              <a:gd name="adj2" fmla="val 9976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rot="5505600">
            <a:off x="520200" y="3060360"/>
            <a:ext cx="177840" cy="76212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80880" y="3886200"/>
            <a:ext cx="4572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111320" y="3886200"/>
            <a:ext cx="77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ériphérie associée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espaces littoraux spécialisés (agro-business, tourisme, hydrocarbu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04920" y="4572000"/>
            <a:ext cx="60948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219320" y="46483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es espaces en voie d’intégratio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, dynamisés par la mondialisation, les activités transfrontaliè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80880" y="5181480"/>
            <a:ext cx="4572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143000" y="518148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ériphérie intégrée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l’arrière –pays ou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hinterland.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Bénéficie de richesses et d’une activité agric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04920" y="5638680"/>
            <a:ext cx="53316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219320" y="5638680"/>
            <a:ext cx="7543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ériphéries délaissées ou isol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04920" y="6019920"/>
            <a:ext cx="5331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990720" y="617220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ériphéries délaissées pour des raisons politiq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67280" y="228600"/>
            <a:ext cx="30481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rot="2400000">
            <a:off x="7558200" y="2207880"/>
            <a:ext cx="179280" cy="1922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rot="19366800">
            <a:off x="6761160" y="637920"/>
            <a:ext cx="1065240" cy="347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rot="1935600">
            <a:off x="5788080" y="1976040"/>
            <a:ext cx="468360" cy="192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6473880" y="2168640"/>
            <a:ext cx="216000" cy="4633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618240" y="1436760"/>
            <a:ext cx="101520" cy="56988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654960" y="1125360"/>
            <a:ext cx="158760" cy="2970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726240" y="1049400"/>
            <a:ext cx="571320" cy="42552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943680" y="392040"/>
            <a:ext cx="914400" cy="80640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77120" y="1011240"/>
            <a:ext cx="217440" cy="19224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329520" y="2014560"/>
            <a:ext cx="71280" cy="777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256440" y="1744560"/>
            <a:ext cx="73080" cy="777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10240" y="1938240"/>
            <a:ext cx="71640" cy="76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8172360" y="392040"/>
            <a:ext cx="71640" cy="777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448400" y="2362320"/>
            <a:ext cx="73080" cy="115920"/>
          </a:xfrm>
          <a:custGeom>
            <a:avLst/>
            <a:gdLst>
              <a:gd name="textAreaLeft" fmla="*/ 0 w 73080"/>
              <a:gd name="textAreaRight" fmla="*/ 73440 w 73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rot="20140200">
            <a:off x="7883280" y="353520"/>
            <a:ext cx="179280" cy="1936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737480" y="1165320"/>
            <a:ext cx="181080" cy="1936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rot="2400000">
            <a:off x="6654600" y="2323800"/>
            <a:ext cx="180720" cy="191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12040" y="1087560"/>
            <a:ext cx="182520" cy="15372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088040" y="933480"/>
            <a:ext cx="181080" cy="15408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 flipV="1">
            <a:off x="7301160" y="1136520"/>
            <a:ext cx="113760" cy="16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29480" y="1165320"/>
            <a:ext cx="10800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7269120" y="895320"/>
            <a:ext cx="34920" cy="115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7052760" y="1117440"/>
            <a:ext cx="70920" cy="24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 flipV="1">
            <a:off x="7299360" y="1653120"/>
            <a:ext cx="93600" cy="127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 flipV="1">
            <a:off x="6654600" y="1860480"/>
            <a:ext cx="35640" cy="115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99320" y="2092320"/>
            <a:ext cx="10800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654960" y="1976400"/>
            <a:ext cx="144360" cy="115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666200" y="895320"/>
            <a:ext cx="71280" cy="1159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412040" y="1241280"/>
            <a:ext cx="73080" cy="117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340760" y="1319040"/>
            <a:ext cx="144360" cy="15588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978600" y="779400"/>
            <a:ext cx="73080" cy="763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015320" y="1125360"/>
            <a:ext cx="72720" cy="781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62600" y="1125360"/>
            <a:ext cx="108000" cy="1558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051680" y="1744560"/>
            <a:ext cx="73080" cy="77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329520" y="1782720"/>
            <a:ext cx="71280" cy="77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473880" y="2054160"/>
            <a:ext cx="10800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 flipV="1">
            <a:off x="6326280" y="1987560"/>
            <a:ext cx="113400" cy="1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400800" y="1976400"/>
            <a:ext cx="109440" cy="115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6361200" y="2672640"/>
            <a:ext cx="43200" cy="11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305400" y="2863080"/>
            <a:ext cx="11880" cy="120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292800" y="2749680"/>
            <a:ext cx="108000" cy="115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04080" y="2593800"/>
            <a:ext cx="144360" cy="11592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rot="1086000">
            <a:off x="7124400" y="1049400"/>
            <a:ext cx="144360" cy="1004760"/>
          </a:xfrm>
          <a:custGeom>
            <a:avLst/>
            <a:gdLst>
              <a:gd name="textAreaLeft" fmla="*/ 0 w 144360"/>
              <a:gd name="textAreaRight" fmla="*/ 144360 w 14436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59360" y="1938240"/>
            <a:ext cx="108000" cy="230400"/>
          </a:xfrm>
          <a:prstGeom prst="upArrow">
            <a:avLst>
              <a:gd name="adj1" fmla="val 50000"/>
              <a:gd name="adj2" fmla="val 53333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rot="18112800">
            <a:off x="7680240" y="1963440"/>
            <a:ext cx="115920" cy="217440"/>
          </a:xfrm>
          <a:prstGeom prst="upArrow">
            <a:avLst>
              <a:gd name="adj1" fmla="val 50000"/>
              <a:gd name="adj2" fmla="val 46894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rot="21340200">
            <a:off x="8388360" y="971640"/>
            <a:ext cx="433440" cy="115920"/>
          </a:xfrm>
          <a:prstGeom prst="leftArrow">
            <a:avLst>
              <a:gd name="adj1" fmla="val 50000"/>
              <a:gd name="adj2" fmla="val 93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rot="20350800">
            <a:off x="8388360" y="161640"/>
            <a:ext cx="506520" cy="115920"/>
          </a:xfrm>
          <a:prstGeom prst="leftArrow">
            <a:avLst>
              <a:gd name="adj1" fmla="val 50000"/>
              <a:gd name="adj2" fmla="val 1092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rot="1312200">
            <a:off x="7051320" y="2825640"/>
            <a:ext cx="252360" cy="193680"/>
          </a:xfrm>
          <a:prstGeom prst="leftArrow">
            <a:avLst>
              <a:gd name="adj1" fmla="val 50000"/>
              <a:gd name="adj2" fmla="val 3257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 rot="20794800">
            <a:off x="6220800" y="1782360"/>
            <a:ext cx="939600" cy="77760"/>
          </a:xfrm>
          <a:custGeom>
            <a:avLst/>
            <a:gdLst>
              <a:gd name="textAreaLeft" fmla="*/ 360 w 939600"/>
              <a:gd name="textAreaRight" fmla="*/ 940320 w 9396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1" name=""/>
          <p:cNvGraphicFramePr/>
          <p:nvPr/>
        </p:nvGraphicFramePr>
        <p:xfrm>
          <a:off x="5715000" y="33480"/>
          <a:ext cx="3265560" cy="31906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4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33480"/>
                    <a:ext cx="326556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725400"/>
          <a:ext cx="64008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25400"/>
                    <a:ext cx="64008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flipH="1">
            <a:off x="5181120" y="1981080"/>
            <a:ext cx="685800" cy="11430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905120" y="4495680"/>
            <a:ext cx="457200" cy="9144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7086600" y="1905120"/>
            <a:ext cx="457200" cy="9144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2209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 interface océa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/un littoral inégalement ouv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83808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es atouts natur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9366800">
            <a:off x="2259000" y="1837800"/>
            <a:ext cx="2363760" cy="6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35600">
            <a:off x="156960" y="4273200"/>
            <a:ext cx="1025280" cy="355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49360" y="2276640"/>
            <a:ext cx="709560" cy="10699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57440" y="4629240"/>
            <a:ext cx="473040" cy="8557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80200" y="1206360"/>
            <a:ext cx="866880" cy="500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01000" y="199080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interfaces transfrontaliers continenta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685800"/>
          <a:ext cx="7130880" cy="5891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85800"/>
                    <a:ext cx="713088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20" y="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/un littoral inégalement ouv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38088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es atouts natur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layé par un réseau de communication et des amén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19366800">
            <a:off x="2617560" y="1784160"/>
            <a:ext cx="2138400" cy="822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35600">
            <a:off x="606240" y="4362120"/>
            <a:ext cx="974520" cy="34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249880" y="2443320"/>
            <a:ext cx="674640" cy="10285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030400" y="4705200"/>
            <a:ext cx="449280" cy="8226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28840" y="3403440"/>
            <a:ext cx="209520" cy="101304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03360" y="2854440"/>
            <a:ext cx="330480" cy="5238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54200" y="2717640"/>
            <a:ext cx="1184400" cy="75420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03480" y="1552680"/>
            <a:ext cx="1893960" cy="14284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02040" y="2717640"/>
            <a:ext cx="449280" cy="3430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21400" y="1827360"/>
            <a:ext cx="449280" cy="34272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72360" y="24433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oies navigables aménag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914400"/>
          <a:ext cx="6767640" cy="5662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14400"/>
                    <a:ext cx="676764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947040" y="380880"/>
            <a:ext cx="52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layé par un réseau de communication et des aménag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/un littoral inégalement ouv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rot="19366800">
            <a:off x="2619360" y="1788840"/>
            <a:ext cx="2160720" cy="76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35600">
            <a:off x="606240" y="4331880"/>
            <a:ext cx="973080" cy="3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46640" y="2387520"/>
            <a:ext cx="673200" cy="104148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28960" y="4680000"/>
            <a:ext cx="449280" cy="8334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8840" y="3360600"/>
            <a:ext cx="208080" cy="102708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03360" y="2805120"/>
            <a:ext cx="328680" cy="53028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2760" y="2665440"/>
            <a:ext cx="1182600" cy="76356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2040" y="1484280"/>
            <a:ext cx="1892160" cy="144936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00600" y="2595600"/>
            <a:ext cx="447480" cy="34776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648320" y="2179440"/>
            <a:ext cx="1122120" cy="41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648320" y="2387520"/>
            <a:ext cx="12715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2665440"/>
            <a:ext cx="12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824280" y="4541760"/>
            <a:ext cx="82404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49760" y="4819680"/>
            <a:ext cx="112212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67680" y="169380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8280" y="197172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aisceaux de fibres opt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838080"/>
          <a:ext cx="6764400" cy="573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838080"/>
                    <a:ext cx="676440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057400" y="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/un littoral inégalement ouv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99520" y="380880"/>
            <a:ext cx="52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layé par un réseau de communication et des aménag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B/avec des richesses natur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 Roy Martine</cp:lastModifiedBy>
  <dcterms:modified xsi:type="dcterms:W3CDTF">2004-12-27T00:28:26Z</dcterms:modified>
  <cp:revision>14</cp:revision>
  <dc:subject/>
  <dc:title>PowerPoint Presentation</dc:title>
</cp:coreProperties>
</file>